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15.wmf" ContentType="image/x-wmf"/>
  <Override PartName="/ppt/media/image49.png" ContentType="image/png"/>
  <Override PartName="/ppt/media/image29.wmf" ContentType="image/x-wmf"/>
  <Override PartName="/ppt/media/image31.png" ContentType="image/png"/>
  <Override PartName="/ppt/media/image42.jpeg" ContentType="image/jpeg"/>
  <Override PartName="/ppt/media/image25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2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7.wmf" ContentType="image/x-wmf"/>
  <Override PartName="/ppt/media/image38.jpeg" ContentType="image/jpeg"/>
  <Override PartName="/ppt/media/image28.png" ContentType="image/png"/>
  <Override PartName="/ppt/media/image53.png" ContentType="image/png"/>
  <Override PartName="/ppt/media/image10.wmf" ContentType="image/x-wmf"/>
  <Override PartName="/ppt/media/image62.png" ContentType="image/png"/>
  <Override PartName="/ppt/media/image23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0.wmf" ContentType="image/x-wmf"/>
  <Override PartName="/ppt/media/image36.jpeg" ContentType="image/jpeg"/>
  <Override PartName="/ppt/media/image61.wmf" ContentType="image/x-wmf"/>
  <Override PartName="/ppt/media/image18.wmf" ContentType="image/x-wmf"/>
  <Override PartName="/ppt/media/image6.wmf" ContentType="image/x-wmf"/>
  <Override PartName="/ppt/media/image54.png" ContentType="image/png"/>
  <Override PartName="/ppt/media/image11.wmf" ContentType="image/x-wmf"/>
  <Override PartName="/ppt/media/image50.png" ContentType="image/png"/>
  <Override PartName="/ppt/media/image7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32.png" ContentType="image/png"/>
  <Override PartName="/ppt/media/image35.jpeg" ContentType="image/jpeg"/>
  <Override PartName="/ppt/media/image47.png" ContentType="image/png"/>
  <Override PartName="/ppt/media/image37.jpeg" ContentType="image/jpeg"/>
  <Override PartName="/ppt/media/image56.png" ContentType="image/png"/>
  <Override PartName="/ppt/media/image1.wmf" ContentType="image/x-wmf"/>
  <Override PartName="/ppt/media/image13.wmf" ContentType="image/x-wmf"/>
  <Override PartName="/ppt/media/image40.jpeg" ContentType="image/jpeg"/>
  <Override PartName="/ppt/media/image19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8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66D-3507-4E81-B56A-48AAC22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60B-1435-4AE0-A49E-CDDC4D37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630-30F2-4129-AEE4-9DDD8A1F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747-EEF8-48E0-82DD-A475B495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9F97-5511-4284-A938-3D52B3A0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BE19-FB1F-4D16-8FD2-8A70C2B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C8DB-BA8A-42A4-A018-2F8E37D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B3B2-6523-4819-9187-0CE2B3DC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C58-C59F-47F1-B737-6944FEA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8E4-E3D9-4572-A391-0D10F54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5E3-692B-4BD6-87A7-351B5FB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67E-C221-4790-8549-4E4A052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39D-F20F-45C2-8FB7-6F04CA1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136-A310-4E6B-B26B-5266E96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2A4A-FC46-45AD-BBC8-E695C73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6A2-D366-457C-B0E3-A5DF0027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137-5E8F-4489-A9C5-1D94FE0F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FA2-B4D6-477C-BD74-B32F9A4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A68-7706-4D98-B6DE-13ED4CF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B55-F8BB-4D18-A998-C35E957B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485-5BAA-4044-9706-1CA42695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615-CB26-43B1-89AD-53D6CD6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BFF-BD78-4D4F-9F7E-927E859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50-6A96-4326-90B5-654395D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SzPct val="8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BF86-958B-4838-A075-4BC8B1B5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95F-8A1B-4898-AAB9-2A04B085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00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1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3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2.png"/><Relationship Id="rId10" Type="http://schemas.openxmlformats.org/officeDocument/2006/relationships/image" Target="../media/image62.png"/><Relationship Id="rId11" Type="http://schemas.openxmlformats.org/officeDocument/2006/relationships/image" Target="../media/image62.png"/><Relationship Id="rId12" Type="http://schemas.openxmlformats.org/officeDocument/2006/relationships/image" Target="../media/image62.png"/><Relationship Id="rId13" Type="http://schemas.openxmlformats.org/officeDocument/2006/relationships/image" Target="../media/image62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biu.ac.il/~sarit" TargetMode="External"/><Relationship Id="rId2" Type="http://schemas.openxmlformats.org/officeDocument/2006/relationships/hyperlink" Target="http://www.cs.biu.ac.il/~sarit" TargetMode="External"/><Relationship Id="rId3" Type="http://schemas.openxmlformats.org/officeDocument/2006/relationships/hyperlink" Target="http://www.umiacs.umd.edu/users/sarit" TargetMode="External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457200"/>
            <a:ext cx="8534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utomated Negotiation and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Decision Mak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09680" y="3124080"/>
            <a:ext cx="4191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arit Krau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Bar-Ilan, Isra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UMD,US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14C-C75F-4263-A0D4-47D9F2312A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8680" y="495000"/>
            <a:ext cx="67629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Standar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762680" cy="326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to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centive to dev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computational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entral decision-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257184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play equivalent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120" y="5397480"/>
            <a:ext cx="8616960" cy="829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signing protocols for specific classes of domains that satisfy some or all of these attribu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EB9-3E00-4F59-BAF4-428596838CB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ic model of negotiation, taking the passage of time into ac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wide range of situa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/incomplete informatio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&gt;2 agent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lose over time/some lose and some gain over tim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61F-121A-412D-B892-06008F882B9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mmary--cont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was applied to different do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ound simple and stable strate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 ends without de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961-274D-44F8-B35A-66CFFED3F91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126800" y="117360"/>
            <a:ext cx="6918120" cy="1968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Rules of Encounter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047400" y="3956040"/>
            <a:ext cx="39027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ct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Jeffrey S. Rosensche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ilad Zlotk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065320" y="3429000"/>
            <a:ext cx="513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12B-D6CF-406F-9DF3-2084B5BDC283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319480" y="495000"/>
            <a:ext cx="45813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omain Theo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855720" y="180288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have task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 re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specify acceptable 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plan and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th Orient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rating states’ accep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63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plan, schedules, and goal relax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65F-5C4C-44F9-AADE-C79B5DB51BF3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898280" y="336240"/>
            <a:ext cx="5046840" cy="1028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men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3479760" y="4159080"/>
            <a:ext cx="2184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8812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286160" y="29415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499920" y="3340080"/>
            <a:ext cx="870120" cy="75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727520" y="3330720"/>
            <a:ext cx="765360" cy="75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08280" y="597384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538520" y="597384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69000" y="4425840"/>
            <a:ext cx="495360" cy="100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5011560" y="5867280"/>
            <a:ext cx="1314720" cy="32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377960" y="29718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424480" y="401652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523840" y="40561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778840" y="602604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38600" y="60055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627120" y="1808280"/>
            <a:ext cx="2025360" cy="837720"/>
            <a:chOff x="627120" y="1808280"/>
            <a:chExt cx="2025360" cy="837720"/>
          </a:xfrm>
        </p:grpSpPr>
        <p:sp>
          <p:nvSpPr>
            <p:cNvPr id="1949" name=""/>
            <p:cNvSpPr/>
            <p:nvPr/>
          </p:nvSpPr>
          <p:spPr>
            <a:xfrm>
              <a:off x="627120" y="1808280"/>
              <a:ext cx="2025360" cy="83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81480" y="1834560"/>
              <a:ext cx="1306080" cy="663840"/>
              <a:chOff x="681480" y="1834560"/>
              <a:chExt cx="1306080" cy="66384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681480" y="1834560"/>
                <a:ext cx="387360" cy="198360"/>
                <a:chOff x="681480" y="1834560"/>
                <a:chExt cx="387360" cy="1983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681480" y="1834560"/>
                  <a:ext cx="387360" cy="23040"/>
                </a:xfrm>
                <a:custGeom>
                  <a:avLst/>
                  <a:gdLst/>
                  <a:ahLst/>
                  <a:rect l="l" t="t" r="r" b="b"/>
                  <a:pathLst>
                    <a:path w="236" h="1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81480" y="1891800"/>
                  <a:ext cx="374400" cy="24480"/>
                </a:xfrm>
                <a:custGeom>
                  <a:avLst/>
                  <a:gdLst/>
                  <a:ahLst/>
                  <a:rect l="l" t="t" r="r" b="b"/>
                  <a:pathLst>
                    <a:path w="228" h="15">
                      <a:moveTo>
                        <a:pt x="0" y="0"/>
                      </a:moveTo>
                      <a:lnTo>
                        <a:pt x="227" y="0"/>
                      </a:lnTo>
                      <a:lnTo>
                        <a:pt x="227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81480" y="1951200"/>
                  <a:ext cx="315360" cy="23040"/>
                </a:xfrm>
                <a:custGeom>
                  <a:avLst/>
                  <a:gdLst/>
                  <a:ahLst/>
                  <a:rect l="l" t="t" r="r" b="b"/>
                  <a:pathLst>
                    <a:path w="192" h="14">
                      <a:moveTo>
                        <a:pt x="0" y="0"/>
                      </a:moveTo>
                      <a:lnTo>
                        <a:pt x="191" y="0"/>
                      </a:lnTo>
                      <a:lnTo>
                        <a:pt x="191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81480" y="2008440"/>
                  <a:ext cx="359640" cy="24480"/>
                </a:xfrm>
                <a:custGeom>
                  <a:avLst/>
                  <a:gdLst/>
                  <a:ahLst/>
                  <a:rect l="l" t="t" r="r" b="b"/>
                  <a:pathLst>
                    <a:path w="219" h="15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1396440" y="2168280"/>
                <a:ext cx="591120" cy="330120"/>
                <a:chOff x="1396440" y="2168280"/>
                <a:chExt cx="591120" cy="33012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1396440" y="2168280"/>
                  <a:ext cx="561960" cy="39240"/>
                </a:xfrm>
                <a:custGeom>
                  <a:avLst/>
                  <a:gdLst/>
                  <a:ahLst/>
                  <a:rect l="l" t="t" r="r" b="b"/>
                  <a:pathLst>
                    <a:path w="342" h="24">
                      <a:moveTo>
                        <a:pt x="0" y="0"/>
                      </a:moveTo>
                      <a:lnTo>
                        <a:pt x="341" y="0"/>
                      </a:lnTo>
                      <a:lnTo>
                        <a:pt x="341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396440" y="2242080"/>
                  <a:ext cx="546840" cy="39240"/>
                </a:xfrm>
                <a:custGeom>
                  <a:avLst/>
                  <a:gdLst/>
                  <a:ahLst/>
                  <a:rect l="l" t="t" r="r" b="b"/>
                  <a:pathLst>
                    <a:path w="333" h="24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32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396440" y="2314440"/>
                  <a:ext cx="591120" cy="39240"/>
                </a:xfrm>
                <a:custGeom>
                  <a:avLst/>
                  <a:gdLst/>
                  <a:ahLst/>
                  <a:rect l="l" t="t" r="r" b="b"/>
                  <a:pathLst>
                    <a:path w="360" h="24">
                      <a:moveTo>
                        <a:pt x="0" y="0"/>
                      </a:moveTo>
                      <a:lnTo>
                        <a:pt x="359" y="0"/>
                      </a:lnTo>
                      <a:lnTo>
                        <a:pt x="359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396440" y="2388600"/>
                  <a:ext cx="502560" cy="37440"/>
                </a:xfrm>
                <a:custGeom>
                  <a:avLst/>
                  <a:gdLst/>
                  <a:ahLst/>
                  <a:rect l="l" t="t" r="r" b="b"/>
                  <a:pathLst>
                    <a:path w="306" h="23">
                      <a:moveTo>
                        <a:pt x="0" y="0"/>
                      </a:moveTo>
                      <a:lnTo>
                        <a:pt x="305" y="0"/>
                      </a:lnTo>
                      <a:lnTo>
                        <a:pt x="305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657440" y="2460960"/>
                  <a:ext cx="328680" cy="37440"/>
                </a:xfrm>
                <a:custGeom>
                  <a:avLst/>
                  <a:gdLst/>
                  <a:ahLst/>
                  <a:rect l="l" t="t" r="r" b="b"/>
                  <a:pathLst>
                    <a:path w="200" h="23">
                      <a:moveTo>
                        <a:pt x="0" y="0"/>
                      </a:moveTo>
                      <a:lnTo>
                        <a:pt x="199" y="0"/>
                      </a:lnTo>
                      <a:lnTo>
                        <a:pt x="199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2" name=""/>
            <p:cNvGrpSpPr/>
            <p:nvPr/>
          </p:nvGrpSpPr>
          <p:grpSpPr>
            <a:xfrm>
              <a:off x="2391120" y="1834560"/>
              <a:ext cx="209520" cy="219600"/>
              <a:chOff x="2391120" y="1834560"/>
              <a:chExt cx="209520" cy="21960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2391120" y="1834560"/>
                <a:ext cx="209520" cy="219600"/>
                <a:chOff x="2391120" y="1834560"/>
                <a:chExt cx="209520" cy="21960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2397240" y="1834560"/>
                  <a:ext cx="190440" cy="21636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259740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5"/>
                      </a:lnTo>
                      <a:lnTo>
                        <a:pt x="0" y="55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1" y="83"/>
                      </a:lnTo>
                      <a:lnTo>
                        <a:pt x="1" y="88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1" y="94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5"/>
                      </a:lnTo>
                      <a:lnTo>
                        <a:pt x="1" y="105"/>
                      </a:lnTo>
                      <a:lnTo>
                        <a:pt x="1" y="111"/>
                      </a:lnTo>
                      <a:lnTo>
                        <a:pt x="0" y="111"/>
                      </a:lnTo>
                      <a:lnTo>
                        <a:pt x="0" y="116"/>
                      </a:lnTo>
                      <a:lnTo>
                        <a:pt x="1" y="116"/>
                      </a:lnTo>
                      <a:lnTo>
                        <a:pt x="1" y="122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1" y="128"/>
                      </a:lnTo>
                      <a:lnTo>
                        <a:pt x="1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239112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1" y="45"/>
                      </a:lnTo>
                      <a:lnTo>
                        <a:pt x="1" y="50"/>
                      </a:lnTo>
                      <a:lnTo>
                        <a:pt x="0" y="50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0" y="72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1" y="83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1" y="88"/>
                      </a:lnTo>
                      <a:lnTo>
                        <a:pt x="1" y="94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1" y="100"/>
                      </a:lnTo>
                      <a:lnTo>
                        <a:pt x="1" y="105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1" y="116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1" y="122"/>
                      </a:lnTo>
                      <a:lnTo>
                        <a:pt x="1" y="128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1" y="133"/>
                      </a:lnTo>
                      <a:lnTo>
                        <a:pt x="1" y="13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2418840" y="1842480"/>
                <a:ext cx="155520" cy="197640"/>
                <a:chOff x="2418840" y="1842480"/>
                <a:chExt cx="155520" cy="19764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2546640" y="1898280"/>
                  <a:ext cx="27720" cy="103320"/>
                </a:xfrm>
                <a:custGeom>
                  <a:avLst/>
                  <a:gdLst/>
                  <a:ahLst/>
                  <a:rect l="l" t="t" r="r" b="b"/>
                  <a:pathLst>
                    <a:path w="17" h="63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7"/>
                      </a:lnTo>
                      <a:lnTo>
                        <a:pt x="10" y="24"/>
                      </a:lnTo>
                      <a:lnTo>
                        <a:pt x="11" y="29"/>
                      </a:lnTo>
                      <a:lnTo>
                        <a:pt x="12" y="34"/>
                      </a:lnTo>
                      <a:lnTo>
                        <a:pt x="13" y="39"/>
                      </a:lnTo>
                      <a:lnTo>
                        <a:pt x="14" y="44"/>
                      </a:lnTo>
                      <a:lnTo>
                        <a:pt x="15" y="48"/>
                      </a:lnTo>
                      <a:lnTo>
                        <a:pt x="16" y="53"/>
                      </a:lnTo>
                      <a:lnTo>
                        <a:pt x="16" y="56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2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8" y="60"/>
                      </a:lnTo>
                      <a:lnTo>
                        <a:pt x="6" y="61"/>
                      </a:lnTo>
                      <a:lnTo>
                        <a:pt x="5" y="62"/>
                      </a:lnTo>
                      <a:lnTo>
                        <a:pt x="4" y="62"/>
                      </a:lnTo>
                      <a:lnTo>
                        <a:pt x="3" y="62"/>
                      </a:lnTo>
                      <a:lnTo>
                        <a:pt x="2" y="62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2" y="59"/>
                      </a:lnTo>
                      <a:lnTo>
                        <a:pt x="2" y="58"/>
                      </a:lnTo>
                      <a:lnTo>
                        <a:pt x="3" y="54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2" y="45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3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2546640" y="1904400"/>
                  <a:ext cx="25560" cy="83160"/>
                  <a:chOff x="2546640" y="1904400"/>
                  <a:chExt cx="25560" cy="8316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2551320" y="1978200"/>
                    <a:ext cx="208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2548080" y="1959840"/>
                    <a:ext cx="20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3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2548080" y="1942200"/>
                    <a:ext cx="16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546640" y="1929240"/>
                    <a:ext cx="14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2546640" y="191556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2546640" y="190440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"/>
                <p:cNvGrpSpPr/>
                <p:nvPr/>
              </p:nvGrpSpPr>
              <p:grpSpPr>
                <a:xfrm>
                  <a:off x="2533320" y="1902960"/>
                  <a:ext cx="11160" cy="56880"/>
                  <a:chOff x="2533320" y="1902960"/>
                  <a:chExt cx="11160" cy="5688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2533320" y="1902960"/>
                    <a:ext cx="97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8"/>
                        </a:lnTo>
                        <a:lnTo>
                          <a:pt x="4" y="11"/>
                        </a:lnTo>
                        <a:lnTo>
                          <a:pt x="4" y="15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5" y="25"/>
                        </a:lnTo>
                        <a:lnTo>
                          <a:pt x="5" y="28"/>
                        </a:lnTo>
                        <a:lnTo>
                          <a:pt x="5" y="30"/>
                        </a:lnTo>
                        <a:lnTo>
                          <a:pt x="5" y="33"/>
                        </a:lnTo>
                        <a:lnTo>
                          <a:pt x="5" y="34"/>
                        </a:lnTo>
                        <a:lnTo>
                          <a:pt x="4" y="30"/>
                        </a:lnTo>
                        <a:lnTo>
                          <a:pt x="4" y="27"/>
                        </a:lnTo>
                        <a:lnTo>
                          <a:pt x="3" y="23"/>
                        </a:lnTo>
                        <a:lnTo>
                          <a:pt x="2" y="19"/>
                        </a:lnTo>
                        <a:lnTo>
                          <a:pt x="1" y="15"/>
                        </a:lnTo>
                        <a:lnTo>
                          <a:pt x="1" y="11"/>
                        </a:lnTo>
                        <a:lnTo>
                          <a:pt x="1" y="7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2533320" y="19094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2536560" y="1917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2538360" y="192744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2539800" y="1935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541240" y="1945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3" name=""/>
                <p:cNvGrpSpPr/>
                <p:nvPr/>
              </p:nvGrpSpPr>
              <p:grpSpPr>
                <a:xfrm>
                  <a:off x="2484000" y="1870200"/>
                  <a:ext cx="11160" cy="40320"/>
                  <a:chOff x="2484000" y="1870200"/>
                  <a:chExt cx="11160" cy="40320"/>
                </a:xfrm>
              </p:grpSpPr>
              <p:sp>
                <p:nvSpPr>
                  <p:cNvPr id="1984" name=""/>
                  <p:cNvSpPr/>
                  <p:nvPr/>
                </p:nvSpPr>
                <p:spPr>
                  <a:xfrm>
                    <a:off x="2485800" y="1870200"/>
                    <a:ext cx="93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8"/>
                        </a:lnTo>
                        <a:lnTo>
                          <a:pt x="4" y="14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4" y="21"/>
                        </a:lnTo>
                        <a:lnTo>
                          <a:pt x="4" y="23"/>
                        </a:lnTo>
                        <a:lnTo>
                          <a:pt x="4" y="24"/>
                        </a:lnTo>
                        <a:lnTo>
                          <a:pt x="3" y="19"/>
                        </a:lnTo>
                        <a:lnTo>
                          <a:pt x="2" y="15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5" name=""/>
                  <p:cNvGrpSpPr/>
                  <p:nvPr/>
                </p:nvGrpSpPr>
                <p:grpSpPr>
                  <a:xfrm>
                    <a:off x="2484000" y="1874880"/>
                    <a:ext cx="11160" cy="25560"/>
                    <a:chOff x="2484000" y="1874880"/>
                    <a:chExt cx="11160" cy="25560"/>
                  </a:xfrm>
                </p:grpSpPr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2484000" y="187488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2491920" y="1878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2484000" y="18846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2490480" y="188748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2488680" y="1898640"/>
                      <a:ext cx="5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1" name=""/>
                <p:cNvSpPr/>
                <p:nvPr/>
              </p:nvSpPr>
              <p:spPr>
                <a:xfrm>
                  <a:off x="2544840" y="19915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487600" y="1876680"/>
                  <a:ext cx="59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72">
                      <a:moveTo>
                        <a:pt x="8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7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5"/>
                      </a:lnTo>
                      <a:lnTo>
                        <a:pt x="28" y="31"/>
                      </a:lnTo>
                      <a:lnTo>
                        <a:pt x="30" y="38"/>
                      </a:lnTo>
                      <a:lnTo>
                        <a:pt x="31" y="42"/>
                      </a:lnTo>
                      <a:lnTo>
                        <a:pt x="33" y="48"/>
                      </a:lnTo>
                      <a:lnTo>
                        <a:pt x="35" y="55"/>
                      </a:lnTo>
                      <a:lnTo>
                        <a:pt x="35" y="59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8"/>
                      </a:lnTo>
                      <a:lnTo>
                        <a:pt x="35" y="70"/>
                      </a:lnTo>
                      <a:lnTo>
                        <a:pt x="35" y="71"/>
                      </a:lnTo>
                      <a:lnTo>
                        <a:pt x="35" y="70"/>
                      </a:lnTo>
                      <a:lnTo>
                        <a:pt x="34" y="69"/>
                      </a:lnTo>
                      <a:lnTo>
                        <a:pt x="33" y="68"/>
                      </a:lnTo>
                      <a:lnTo>
                        <a:pt x="32" y="66"/>
                      </a:lnTo>
                      <a:lnTo>
                        <a:pt x="31" y="66"/>
                      </a:lnTo>
                      <a:lnTo>
                        <a:pt x="28" y="66"/>
                      </a:lnTo>
                      <a:lnTo>
                        <a:pt x="25" y="65"/>
                      </a:lnTo>
                      <a:lnTo>
                        <a:pt x="22" y="66"/>
                      </a:lnTo>
                      <a:lnTo>
                        <a:pt x="18" y="67"/>
                      </a:lnTo>
                      <a:lnTo>
                        <a:pt x="15" y="68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7" y="70"/>
                      </a:lnTo>
                      <a:lnTo>
                        <a:pt x="6" y="70"/>
                      </a:lnTo>
                      <a:lnTo>
                        <a:pt x="4" y="70"/>
                      </a:lnTo>
                      <a:lnTo>
                        <a:pt x="4" y="69"/>
                      </a:lnTo>
                      <a:lnTo>
                        <a:pt x="2" y="68"/>
                      </a:lnTo>
                      <a:lnTo>
                        <a:pt x="1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4" y="63"/>
                      </a:lnTo>
                      <a:lnTo>
                        <a:pt x="8" y="63"/>
                      </a:lnTo>
                      <a:lnTo>
                        <a:pt x="11" y="63"/>
                      </a:lnTo>
                      <a:lnTo>
                        <a:pt x="14" y="63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4" y="51"/>
                      </a:lnTo>
                      <a:lnTo>
                        <a:pt x="12" y="46"/>
                      </a:lnTo>
                      <a:lnTo>
                        <a:pt x="11" y="38"/>
                      </a:lnTo>
                      <a:lnTo>
                        <a:pt x="8" y="32"/>
                      </a:lnTo>
                      <a:lnTo>
                        <a:pt x="7" y="27"/>
                      </a:lnTo>
                      <a:lnTo>
                        <a:pt x="5" y="23"/>
                      </a:lnTo>
                      <a:lnTo>
                        <a:pt x="6" y="21"/>
                      </a:lnTo>
                      <a:lnTo>
                        <a:pt x="6" y="18"/>
                      </a:lnTo>
                      <a:lnTo>
                        <a:pt x="6" y="15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2495520" y="1883160"/>
                  <a:ext cx="50400" cy="97920"/>
                  <a:chOff x="2495520" y="1883160"/>
                  <a:chExt cx="50400" cy="9792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2496960" y="1897920"/>
                    <a:ext cx="342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5"/>
                        </a:lnTo>
                        <a:lnTo>
                          <a:pt x="20" y="9"/>
                        </a:lnTo>
                        <a:lnTo>
                          <a:pt x="19" y="9"/>
                        </a:lnTo>
                        <a:lnTo>
                          <a:pt x="17" y="8"/>
                        </a:lnTo>
                        <a:lnTo>
                          <a:pt x="15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2495520" y="1910880"/>
                    <a:ext cx="37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2"/>
                        </a:move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5" y="3"/>
                        </a:lnTo>
                        <a:lnTo>
                          <a:pt x="18" y="4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9"/>
                        </a:lnTo>
                        <a:lnTo>
                          <a:pt x="21" y="8"/>
                        </a:lnTo>
                        <a:lnTo>
                          <a:pt x="17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1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2502000" y="1928880"/>
                    <a:ext cx="35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20" y="4"/>
                        </a:lnTo>
                        <a:lnTo>
                          <a:pt x="21" y="8"/>
                        </a:lnTo>
                        <a:lnTo>
                          <a:pt x="20" y="7"/>
                        </a:ln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3" y="5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2506680" y="1946880"/>
                    <a:ext cx="35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5" y="2"/>
                        </a:lnTo>
                        <a:lnTo>
                          <a:pt x="17" y="3"/>
                        </a:lnTo>
                        <a:lnTo>
                          <a:pt x="18" y="4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1" y="9"/>
                        </a:lnTo>
                        <a:lnTo>
                          <a:pt x="20" y="8"/>
                        </a:lnTo>
                        <a:lnTo>
                          <a:pt x="18" y="7"/>
                        </a:lnTo>
                        <a:lnTo>
                          <a:pt x="16" y="6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2513160" y="1967760"/>
                    <a:ext cx="32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6"/>
                        </a:lnTo>
                        <a:lnTo>
                          <a:pt x="19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2498760" y="1883160"/>
                    <a:ext cx="30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3" y="2"/>
                        </a:lnTo>
                        <a:lnTo>
                          <a:pt x="16" y="3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6" y="7"/>
                        </a:lnTo>
                        <a:lnTo>
                          <a:pt x="14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0" name=""/>
                <p:cNvSpPr/>
                <p:nvPr/>
              </p:nvSpPr>
              <p:spPr>
                <a:xfrm>
                  <a:off x="2486160" y="196704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2486160" y="196704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2418840" y="1873440"/>
                  <a:ext cx="14400" cy="139320"/>
                </a:xfrm>
                <a:custGeom>
                  <a:avLst/>
                  <a:gdLst/>
                  <a:ahLst/>
                  <a:rect l="l" t="t" r="r" b="b"/>
                  <a:pathLst>
                    <a:path w="9" h="85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4"/>
                      </a:lnTo>
                      <a:lnTo>
                        <a:pt x="0" y="31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2" y="53"/>
                      </a:lnTo>
                      <a:lnTo>
                        <a:pt x="3" y="60"/>
                      </a:lnTo>
                      <a:lnTo>
                        <a:pt x="5" y="69"/>
                      </a:lnTo>
                      <a:lnTo>
                        <a:pt x="6" y="74"/>
                      </a:lnTo>
                      <a:lnTo>
                        <a:pt x="6" y="79"/>
                      </a:lnTo>
                      <a:lnTo>
                        <a:pt x="6" y="84"/>
                      </a:lnTo>
                      <a:lnTo>
                        <a:pt x="8" y="80"/>
                      </a:lnTo>
                      <a:lnTo>
                        <a:pt x="8" y="76"/>
                      </a:lnTo>
                      <a:lnTo>
                        <a:pt x="7" y="71"/>
                      </a:lnTo>
                      <a:lnTo>
                        <a:pt x="6" y="66"/>
                      </a:lnTo>
                      <a:lnTo>
                        <a:pt x="5" y="62"/>
                      </a:lnTo>
                      <a:lnTo>
                        <a:pt x="4" y="55"/>
                      </a:lnTo>
                      <a:lnTo>
                        <a:pt x="3" y="52"/>
                      </a:lnTo>
                      <a:lnTo>
                        <a:pt x="2" y="47"/>
                      </a:lnTo>
                      <a:lnTo>
                        <a:pt x="2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3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2420280" y="1842480"/>
                  <a:ext cx="15840" cy="15840"/>
                  <a:chOff x="2420280" y="1842480"/>
                  <a:chExt cx="15840" cy="15840"/>
                </a:xfrm>
              </p:grpSpPr>
              <p:grpSp>
                <p:nvGrpSpPr>
                  <p:cNvPr id="2004" name=""/>
                  <p:cNvGrpSpPr/>
                  <p:nvPr/>
                </p:nvGrpSpPr>
                <p:grpSpPr>
                  <a:xfrm>
                    <a:off x="2420280" y="1842480"/>
                    <a:ext cx="15840" cy="15840"/>
                    <a:chOff x="2420280" y="1842480"/>
                    <a:chExt cx="15840" cy="15840"/>
                  </a:xfrm>
                </p:grpSpPr>
                <p:sp>
                  <p:nvSpPr>
                    <p:cNvPr id="2005" name=""/>
                    <p:cNvSpPr/>
                    <p:nvPr/>
                  </p:nvSpPr>
                  <p:spPr>
                    <a:xfrm>
                      <a:off x="2420280" y="1845720"/>
                      <a:ext cx="158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2423520" y="18550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2426760" y="1842480"/>
                      <a:ext cx="6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8" name=""/>
                  <p:cNvSpPr/>
                  <p:nvPr/>
                </p:nvSpPr>
                <p:spPr>
                  <a:xfrm>
                    <a:off x="2420280" y="184572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9" name=""/>
                <p:cNvSpPr/>
                <p:nvPr/>
              </p:nvSpPr>
              <p:spPr>
                <a:xfrm>
                  <a:off x="2431800" y="1911240"/>
                  <a:ext cx="80280" cy="67320"/>
                </a:xfrm>
                <a:custGeom>
                  <a:avLst/>
                  <a:gdLst/>
                  <a:ahLst/>
                  <a:rect l="l" t="t" r="r" b="b"/>
                  <a:pathLst>
                    <a:path w="49" h="41">
                      <a:moveTo>
                        <a:pt x="3" y="2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7" y="3"/>
                      </a:lnTo>
                      <a:lnTo>
                        <a:pt x="30" y="4"/>
                      </a:lnTo>
                      <a:lnTo>
                        <a:pt x="34" y="6"/>
                      </a:lnTo>
                      <a:lnTo>
                        <a:pt x="37" y="8"/>
                      </a:lnTo>
                      <a:lnTo>
                        <a:pt x="39" y="10"/>
                      </a:lnTo>
                      <a:lnTo>
                        <a:pt x="40" y="10"/>
                      </a:lnTo>
                      <a:lnTo>
                        <a:pt x="42" y="17"/>
                      </a:lnTo>
                      <a:lnTo>
                        <a:pt x="44" y="23"/>
                      </a:lnTo>
                      <a:lnTo>
                        <a:pt x="45" y="28"/>
                      </a:lnTo>
                      <a:lnTo>
                        <a:pt x="47" y="35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5" y="37"/>
                      </a:lnTo>
                      <a:lnTo>
                        <a:pt x="44" y="36"/>
                      </a:lnTo>
                      <a:lnTo>
                        <a:pt x="37" y="33"/>
                      </a:lnTo>
                      <a:lnTo>
                        <a:pt x="34" y="32"/>
                      </a:lnTo>
                      <a:lnTo>
                        <a:pt x="30" y="31"/>
                      </a:lnTo>
                      <a:lnTo>
                        <a:pt x="27" y="30"/>
                      </a:lnTo>
                      <a:lnTo>
                        <a:pt x="24" y="30"/>
                      </a:lnTo>
                      <a:lnTo>
                        <a:pt x="19" y="30"/>
                      </a:lnTo>
                      <a:lnTo>
                        <a:pt x="15" y="30"/>
                      </a:lnTo>
                      <a:lnTo>
                        <a:pt x="12" y="31"/>
                      </a:lnTo>
                      <a:lnTo>
                        <a:pt x="7" y="32"/>
                      </a:lnTo>
                      <a:lnTo>
                        <a:pt x="5" y="33"/>
                      </a:lnTo>
                      <a:lnTo>
                        <a:pt x="3" y="34"/>
                      </a:lnTo>
                      <a:lnTo>
                        <a:pt x="0" y="35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4" y="7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0" name=""/>
                <p:cNvGrpSpPr/>
                <p:nvPr/>
              </p:nvGrpSpPr>
              <p:grpSpPr>
                <a:xfrm>
                  <a:off x="2435040" y="1901520"/>
                  <a:ext cx="74880" cy="66600"/>
                  <a:chOff x="2435040" y="1901520"/>
                  <a:chExt cx="74880" cy="6660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>
                    <a:off x="2438280" y="1901520"/>
                    <a:ext cx="583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2"/>
                        </a:lnTo>
                        <a:lnTo>
                          <a:pt x="26" y="4"/>
                        </a:lnTo>
                        <a:lnTo>
                          <a:pt x="28" y="6"/>
                        </a:lnTo>
                        <a:lnTo>
                          <a:pt x="30" y="7"/>
                        </a:lnTo>
                        <a:lnTo>
                          <a:pt x="31" y="8"/>
                        </a:lnTo>
                        <a:lnTo>
                          <a:pt x="32" y="10"/>
                        </a:lnTo>
                        <a:lnTo>
                          <a:pt x="35" y="14"/>
                        </a:lnTo>
                        <a:lnTo>
                          <a:pt x="33" y="12"/>
                        </a:lnTo>
                        <a:lnTo>
                          <a:pt x="29" y="10"/>
                        </a:lnTo>
                        <a:lnTo>
                          <a:pt x="26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18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2436480" y="1920960"/>
                    <a:ext cx="66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6">
                        <a:moveTo>
                          <a:pt x="1" y="2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8" y="1"/>
                        </a:lnTo>
                        <a:lnTo>
                          <a:pt x="23" y="3"/>
                        </a:lnTo>
                        <a:lnTo>
                          <a:pt x="26" y="4"/>
                        </a:lnTo>
                        <a:lnTo>
                          <a:pt x="29" y="5"/>
                        </a:lnTo>
                        <a:lnTo>
                          <a:pt x="31" y="6"/>
                        </a:lnTo>
                        <a:lnTo>
                          <a:pt x="34" y="7"/>
                        </a:lnTo>
                        <a:lnTo>
                          <a:pt x="35" y="8"/>
                        </a:lnTo>
                        <a:lnTo>
                          <a:pt x="37" y="9"/>
                        </a:lnTo>
                        <a:lnTo>
                          <a:pt x="39" y="10"/>
                        </a:lnTo>
                        <a:lnTo>
                          <a:pt x="40" y="15"/>
                        </a:lnTo>
                        <a:lnTo>
                          <a:pt x="36" y="13"/>
                        </a:lnTo>
                        <a:lnTo>
                          <a:pt x="34" y="12"/>
                        </a:lnTo>
                        <a:lnTo>
                          <a:pt x="31" y="10"/>
                        </a:lnTo>
                        <a:lnTo>
                          <a:pt x="29" y="9"/>
                        </a:lnTo>
                        <a:lnTo>
                          <a:pt x="26" y="8"/>
                        </a:lnTo>
                        <a:lnTo>
                          <a:pt x="20" y="6"/>
                        </a:lnTo>
                        <a:lnTo>
                          <a:pt x="15" y="5"/>
                        </a:lnTo>
                        <a:lnTo>
                          <a:pt x="10" y="4"/>
                        </a:lnTo>
                        <a:lnTo>
                          <a:pt x="7" y="4"/>
                        </a:lnTo>
                        <a:lnTo>
                          <a:pt x="3" y="5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2435040" y="1940400"/>
                    <a:ext cx="74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7">
                        <a:moveTo>
                          <a:pt x="0" y="2"/>
                        </a:moveTo>
                        <a:lnTo>
                          <a:pt x="6" y="1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2"/>
                        </a:lnTo>
                        <a:lnTo>
                          <a:pt x="30" y="4"/>
                        </a:lnTo>
                        <a:lnTo>
                          <a:pt x="35" y="6"/>
                        </a:lnTo>
                        <a:lnTo>
                          <a:pt x="40" y="8"/>
                        </a:lnTo>
                        <a:lnTo>
                          <a:pt x="43" y="10"/>
                        </a:lnTo>
                        <a:lnTo>
                          <a:pt x="45" y="16"/>
                        </a:lnTo>
                        <a:lnTo>
                          <a:pt x="42" y="14"/>
                        </a:lnTo>
                        <a:lnTo>
                          <a:pt x="39" y="12"/>
                        </a:lnTo>
                        <a:lnTo>
                          <a:pt x="36" y="11"/>
                        </a:lnTo>
                        <a:lnTo>
                          <a:pt x="33" y="10"/>
                        </a:lnTo>
                        <a:lnTo>
                          <a:pt x="29" y="8"/>
                        </a:lnTo>
                        <a:lnTo>
                          <a:pt x="25" y="7"/>
                        </a:lnTo>
                        <a:lnTo>
                          <a:pt x="19" y="6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4" y="6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>
                  <a:off x="2430360" y="1855440"/>
                  <a:ext cx="61920" cy="622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4" y="26"/>
                      </a:lnTo>
                      <a:lnTo>
                        <a:pt x="36" y="32"/>
                      </a:lnTo>
                      <a:lnTo>
                        <a:pt x="37" y="35"/>
                      </a:lnTo>
                      <a:lnTo>
                        <a:pt x="37" y="37"/>
                      </a:lnTo>
                      <a:lnTo>
                        <a:pt x="36" y="35"/>
                      </a:lnTo>
                      <a:lnTo>
                        <a:pt x="33" y="33"/>
                      </a:lnTo>
                      <a:lnTo>
                        <a:pt x="31" y="31"/>
                      </a:lnTo>
                      <a:lnTo>
                        <a:pt x="28" y="29"/>
                      </a:lnTo>
                      <a:lnTo>
                        <a:pt x="24" y="27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7" y="26"/>
                      </a:lnTo>
                      <a:lnTo>
                        <a:pt x="4" y="28"/>
                      </a:lnTo>
                      <a:lnTo>
                        <a:pt x="4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2431800" y="1855440"/>
                  <a:ext cx="58680" cy="50400"/>
                  <a:chOff x="2431800" y="1855440"/>
                  <a:chExt cx="58680" cy="5040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2431800" y="1863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2441160" y="185868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2433240" y="18702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2449440" y="185544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2435040" y="18763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2442960" y="1874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2459520" y="185544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2451240" y="18651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2452680" y="1873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2460960" y="186516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2469240" y="18586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246924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2462760" y="18748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2471040" y="18763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436480" y="18864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438280" y="18946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446560" y="18928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444760" y="188316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2454480" y="18831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2454480" y="1892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2464200" y="1884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2464200" y="189288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2471040" y="1884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2474280" y="18961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2487240" y="19040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2477160" y="1861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477160" y="18702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2479320" y="1878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2479320" y="18878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2480760" y="1899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244116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"/>
                <p:cNvGrpSpPr/>
                <p:nvPr/>
              </p:nvGrpSpPr>
              <p:grpSpPr>
                <a:xfrm>
                  <a:off x="2424960" y="1865520"/>
                  <a:ext cx="7920" cy="105840"/>
                  <a:chOff x="2424960" y="1865520"/>
                  <a:chExt cx="7920" cy="10584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2424960" y="1866960"/>
                    <a:ext cx="79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">
                        <a:moveTo>
                          <a:pt x="2" y="0"/>
                        </a:moveTo>
                        <a:lnTo>
                          <a:pt x="3" y="4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4" y="17"/>
                        </a:lnTo>
                        <a:lnTo>
                          <a:pt x="4" y="23"/>
                        </a:lnTo>
                        <a:lnTo>
                          <a:pt x="4" y="31"/>
                        </a:lnTo>
                        <a:lnTo>
                          <a:pt x="4" y="37"/>
                        </a:lnTo>
                        <a:lnTo>
                          <a:pt x="4" y="42"/>
                        </a:lnTo>
                        <a:lnTo>
                          <a:pt x="3" y="50"/>
                        </a:lnTo>
                        <a:lnTo>
                          <a:pt x="3" y="58"/>
                        </a:lnTo>
                        <a:lnTo>
                          <a:pt x="2" y="61"/>
                        </a:lnTo>
                        <a:lnTo>
                          <a:pt x="0" y="63"/>
                        </a:lnTo>
                        <a:lnTo>
                          <a:pt x="1" y="56"/>
                        </a:lnTo>
                        <a:lnTo>
                          <a:pt x="2" y="47"/>
                        </a:lnTo>
                        <a:lnTo>
                          <a:pt x="3" y="41"/>
                        </a:lnTo>
                        <a:lnTo>
                          <a:pt x="3" y="35"/>
                        </a:lnTo>
                        <a:lnTo>
                          <a:pt x="3" y="28"/>
                        </a:lnTo>
                        <a:lnTo>
                          <a:pt x="3" y="21"/>
                        </a:lnTo>
                        <a:lnTo>
                          <a:pt x="3" y="14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2426760" y="1865520"/>
                    <a:ext cx="144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2424960" y="1962000"/>
                    <a:ext cx="18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1" name=""/>
                <p:cNvGrpSpPr/>
                <p:nvPr/>
              </p:nvGrpSpPr>
              <p:grpSpPr>
                <a:xfrm>
                  <a:off x="2422080" y="1861920"/>
                  <a:ext cx="6120" cy="178200"/>
                  <a:chOff x="2422080" y="1861920"/>
                  <a:chExt cx="6120" cy="178200"/>
                </a:xfrm>
              </p:grpSpPr>
              <p:sp>
                <p:nvSpPr>
                  <p:cNvPr id="2052" name=""/>
                  <p:cNvSpPr/>
                  <p:nvPr/>
                </p:nvSpPr>
                <p:spPr>
                  <a:xfrm>
                    <a:off x="2423520" y="1861920"/>
                    <a:ext cx="1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0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2422080" y="1861920"/>
                    <a:ext cx="6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9">
                        <a:moveTo>
                          <a:pt x="0" y="0"/>
                        </a:moveTo>
                        <a:lnTo>
                          <a:pt x="0" y="108"/>
                        </a:lnTo>
                        <a:lnTo>
                          <a:pt x="3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4" name=""/>
              <p:cNvGrpSpPr/>
              <p:nvPr/>
            </p:nvGrpSpPr>
            <p:grpSpPr>
              <a:xfrm>
                <a:off x="2515680" y="2011680"/>
                <a:ext cx="66960" cy="34200"/>
                <a:chOff x="2515680" y="2011680"/>
                <a:chExt cx="66960" cy="3420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254160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6" y="0"/>
                      </a:moveTo>
                      <a:lnTo>
                        <a:pt x="8" y="3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8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51568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7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3" y="16"/>
                      </a:lnTo>
                      <a:lnTo>
                        <a:pt x="8" y="8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567880" y="201168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8" name=""/>
          <p:cNvSpPr/>
          <p:nvPr/>
        </p:nvSpPr>
        <p:spPr>
          <a:xfrm>
            <a:off x="6414120" y="38098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3703680" y="20383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7318440" y="1879560"/>
            <a:ext cx="729360" cy="1291680"/>
            <a:chOff x="7318440" y="1879560"/>
            <a:chExt cx="729360" cy="1291680"/>
          </a:xfrm>
        </p:grpSpPr>
        <p:grpSp>
          <p:nvGrpSpPr>
            <p:cNvPr id="2061" name=""/>
            <p:cNvGrpSpPr/>
            <p:nvPr/>
          </p:nvGrpSpPr>
          <p:grpSpPr>
            <a:xfrm>
              <a:off x="7318440" y="1879560"/>
              <a:ext cx="729360" cy="1291680"/>
              <a:chOff x="7318440" y="1879560"/>
              <a:chExt cx="729360" cy="1291680"/>
            </a:xfrm>
          </p:grpSpPr>
          <p:sp>
            <p:nvSpPr>
              <p:cNvPr id="2062" name=""/>
              <p:cNvSpPr/>
              <p:nvPr/>
            </p:nvSpPr>
            <p:spPr>
              <a:xfrm>
                <a:off x="7596360" y="1879560"/>
                <a:ext cx="18684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34292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318440" y="244476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"/>
            <p:cNvSpPr/>
            <p:nvPr/>
          </p:nvSpPr>
          <p:spPr>
            <a:xfrm>
              <a:off x="7609320" y="21340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5800680" y="1879560"/>
            <a:ext cx="729720" cy="1291680"/>
            <a:chOff x="5800680" y="1879560"/>
            <a:chExt cx="729720" cy="1291680"/>
          </a:xfrm>
        </p:grpSpPr>
        <p:grpSp>
          <p:nvGrpSpPr>
            <p:cNvPr id="2067" name=""/>
            <p:cNvGrpSpPr/>
            <p:nvPr/>
          </p:nvGrpSpPr>
          <p:grpSpPr>
            <a:xfrm>
              <a:off x="5800680" y="1879560"/>
              <a:ext cx="729720" cy="1291680"/>
              <a:chOff x="5800680" y="1879560"/>
              <a:chExt cx="729720" cy="1291680"/>
            </a:xfrm>
          </p:grpSpPr>
          <p:sp>
            <p:nvSpPr>
              <p:cNvPr id="2068" name=""/>
              <p:cNvSpPr/>
              <p:nvPr/>
            </p:nvSpPr>
            <p:spPr>
              <a:xfrm>
                <a:off x="6063840" y="1879560"/>
                <a:ext cx="18684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88276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00680" y="2444760"/>
                <a:ext cx="72972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5991120" y="21276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6986160" y="52912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406960" y="38498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875240" y="57848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933440" y="513396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01920" y="27385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213000" y="401652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303000" y="4075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592440" y="4429080"/>
            <a:ext cx="976320" cy="157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2990520" y="4478400"/>
            <a:ext cx="493560" cy="1463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118200" y="5407200"/>
            <a:ext cx="428760" cy="42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47800" y="54561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795-D27E-447B-ACE0-B8C7AB3A35F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953240" cy="11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atabase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972160" y="2448000"/>
            <a:ext cx="333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mmon Data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334800" y="3475080"/>
            <a:ext cx="2981880" cy="1886400"/>
            <a:chOff x="334800" y="3475080"/>
            <a:chExt cx="2981880" cy="1886400"/>
          </a:xfrm>
        </p:grpSpPr>
        <p:grpSp>
          <p:nvGrpSpPr>
            <p:cNvPr id="2086" name=""/>
            <p:cNvGrpSpPr/>
            <p:nvPr/>
          </p:nvGrpSpPr>
          <p:grpSpPr>
            <a:xfrm>
              <a:off x="334800" y="3475080"/>
              <a:ext cx="2981880" cy="1886400"/>
              <a:chOff x="334800" y="3475080"/>
              <a:chExt cx="2981880" cy="1886400"/>
            </a:xfrm>
          </p:grpSpPr>
          <p:sp>
            <p:nvSpPr>
              <p:cNvPr id="2087" name=""/>
              <p:cNvSpPr/>
              <p:nvPr/>
            </p:nvSpPr>
            <p:spPr>
              <a:xfrm>
                <a:off x="334800" y="3475080"/>
                <a:ext cx="239868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1225" y="254"/>
                    </a:moveTo>
                    <a:lnTo>
                      <a:pt x="1214" y="225"/>
                    </a:lnTo>
                    <a:lnTo>
                      <a:pt x="1195" y="193"/>
                    </a:lnTo>
                    <a:lnTo>
                      <a:pt x="1166" y="170"/>
                    </a:lnTo>
                    <a:lnTo>
                      <a:pt x="1130" y="150"/>
                    </a:lnTo>
                    <a:lnTo>
                      <a:pt x="1100" y="140"/>
                    </a:lnTo>
                    <a:lnTo>
                      <a:pt x="1063" y="128"/>
                    </a:lnTo>
                    <a:lnTo>
                      <a:pt x="1006" y="124"/>
                    </a:lnTo>
                    <a:lnTo>
                      <a:pt x="952" y="128"/>
                    </a:lnTo>
                    <a:lnTo>
                      <a:pt x="901" y="141"/>
                    </a:lnTo>
                    <a:lnTo>
                      <a:pt x="864" y="156"/>
                    </a:lnTo>
                    <a:lnTo>
                      <a:pt x="842" y="107"/>
                    </a:lnTo>
                    <a:lnTo>
                      <a:pt x="813" y="69"/>
                    </a:lnTo>
                    <a:lnTo>
                      <a:pt x="775" y="39"/>
                    </a:lnTo>
                    <a:lnTo>
                      <a:pt x="724" y="17"/>
                    </a:lnTo>
                    <a:lnTo>
                      <a:pt x="662" y="1"/>
                    </a:lnTo>
                    <a:lnTo>
                      <a:pt x="602" y="0"/>
                    </a:lnTo>
                    <a:lnTo>
                      <a:pt x="547" y="9"/>
                    </a:lnTo>
                    <a:lnTo>
                      <a:pt x="485" y="27"/>
                    </a:lnTo>
                    <a:lnTo>
                      <a:pt x="439" y="61"/>
                    </a:lnTo>
                    <a:lnTo>
                      <a:pt x="406" y="94"/>
                    </a:lnTo>
                    <a:lnTo>
                      <a:pt x="384" y="125"/>
                    </a:lnTo>
                    <a:lnTo>
                      <a:pt x="380" y="166"/>
                    </a:lnTo>
                    <a:lnTo>
                      <a:pt x="337" y="153"/>
                    </a:lnTo>
                    <a:lnTo>
                      <a:pt x="287" y="157"/>
                    </a:lnTo>
                    <a:lnTo>
                      <a:pt x="245" y="170"/>
                    </a:lnTo>
                    <a:lnTo>
                      <a:pt x="209" y="199"/>
                    </a:lnTo>
                    <a:lnTo>
                      <a:pt x="183" y="236"/>
                    </a:lnTo>
                    <a:lnTo>
                      <a:pt x="173" y="278"/>
                    </a:lnTo>
                    <a:lnTo>
                      <a:pt x="174" y="308"/>
                    </a:lnTo>
                    <a:lnTo>
                      <a:pt x="150" y="306"/>
                    </a:lnTo>
                    <a:lnTo>
                      <a:pt x="119" y="313"/>
                    </a:lnTo>
                    <a:lnTo>
                      <a:pt x="89" y="327"/>
                    </a:lnTo>
                    <a:lnTo>
                      <a:pt x="65" y="343"/>
                    </a:lnTo>
                    <a:lnTo>
                      <a:pt x="49" y="357"/>
                    </a:lnTo>
                    <a:lnTo>
                      <a:pt x="35" y="376"/>
                    </a:lnTo>
                    <a:lnTo>
                      <a:pt x="19" y="399"/>
                    </a:lnTo>
                    <a:lnTo>
                      <a:pt x="10" y="428"/>
                    </a:lnTo>
                    <a:lnTo>
                      <a:pt x="9" y="450"/>
                    </a:lnTo>
                    <a:lnTo>
                      <a:pt x="13" y="473"/>
                    </a:lnTo>
                    <a:lnTo>
                      <a:pt x="23" y="502"/>
                    </a:lnTo>
                    <a:lnTo>
                      <a:pt x="10" y="532"/>
                    </a:lnTo>
                    <a:lnTo>
                      <a:pt x="4" y="558"/>
                    </a:lnTo>
                    <a:lnTo>
                      <a:pt x="1" y="588"/>
                    </a:lnTo>
                    <a:lnTo>
                      <a:pt x="9" y="624"/>
                    </a:lnTo>
                    <a:lnTo>
                      <a:pt x="14" y="646"/>
                    </a:lnTo>
                    <a:lnTo>
                      <a:pt x="30" y="672"/>
                    </a:lnTo>
                    <a:lnTo>
                      <a:pt x="9" y="708"/>
                    </a:lnTo>
                    <a:lnTo>
                      <a:pt x="1" y="731"/>
                    </a:lnTo>
                    <a:lnTo>
                      <a:pt x="0" y="765"/>
                    </a:lnTo>
                    <a:lnTo>
                      <a:pt x="4" y="799"/>
                    </a:lnTo>
                    <a:lnTo>
                      <a:pt x="17" y="836"/>
                    </a:lnTo>
                    <a:lnTo>
                      <a:pt x="35" y="862"/>
                    </a:lnTo>
                    <a:lnTo>
                      <a:pt x="60" y="886"/>
                    </a:lnTo>
                    <a:lnTo>
                      <a:pt x="104" y="911"/>
                    </a:lnTo>
                    <a:lnTo>
                      <a:pt x="150" y="920"/>
                    </a:lnTo>
                    <a:lnTo>
                      <a:pt x="191" y="912"/>
                    </a:lnTo>
                    <a:lnTo>
                      <a:pt x="219" y="899"/>
                    </a:lnTo>
                    <a:lnTo>
                      <a:pt x="238" y="925"/>
                    </a:lnTo>
                    <a:lnTo>
                      <a:pt x="258" y="946"/>
                    </a:lnTo>
                    <a:lnTo>
                      <a:pt x="275" y="959"/>
                    </a:lnTo>
                    <a:lnTo>
                      <a:pt x="308" y="976"/>
                    </a:lnTo>
                    <a:lnTo>
                      <a:pt x="337" y="987"/>
                    </a:lnTo>
                    <a:lnTo>
                      <a:pt x="380" y="996"/>
                    </a:lnTo>
                    <a:lnTo>
                      <a:pt x="422" y="995"/>
                    </a:lnTo>
                    <a:lnTo>
                      <a:pt x="464" y="983"/>
                    </a:lnTo>
                    <a:lnTo>
                      <a:pt x="501" y="963"/>
                    </a:lnTo>
                    <a:lnTo>
                      <a:pt x="523" y="997"/>
                    </a:lnTo>
                    <a:lnTo>
                      <a:pt x="543" y="1018"/>
                    </a:lnTo>
                    <a:lnTo>
                      <a:pt x="569" y="1035"/>
                    </a:lnTo>
                    <a:lnTo>
                      <a:pt x="599" y="1049"/>
                    </a:lnTo>
                    <a:lnTo>
                      <a:pt x="633" y="1055"/>
                    </a:lnTo>
                    <a:lnTo>
                      <a:pt x="665" y="1055"/>
                    </a:lnTo>
                    <a:lnTo>
                      <a:pt x="695" y="1049"/>
                    </a:lnTo>
                    <a:lnTo>
                      <a:pt x="733" y="1031"/>
                    </a:lnTo>
                    <a:lnTo>
                      <a:pt x="754" y="1013"/>
                    </a:lnTo>
                    <a:lnTo>
                      <a:pt x="775" y="1035"/>
                    </a:lnTo>
                    <a:lnTo>
                      <a:pt x="796" y="1049"/>
                    </a:lnTo>
                    <a:lnTo>
                      <a:pt x="822" y="1061"/>
                    </a:lnTo>
                    <a:lnTo>
                      <a:pt x="860" y="1071"/>
                    </a:lnTo>
                    <a:lnTo>
                      <a:pt x="898" y="1068"/>
                    </a:lnTo>
                    <a:lnTo>
                      <a:pt x="939" y="1058"/>
                    </a:lnTo>
                    <a:lnTo>
                      <a:pt x="969" y="1041"/>
                    </a:lnTo>
                    <a:lnTo>
                      <a:pt x="998" y="1012"/>
                    </a:lnTo>
                    <a:lnTo>
                      <a:pt x="1015" y="983"/>
                    </a:lnTo>
                    <a:lnTo>
                      <a:pt x="1045" y="993"/>
                    </a:lnTo>
                    <a:lnTo>
                      <a:pt x="1080" y="1000"/>
                    </a:lnTo>
                    <a:lnTo>
                      <a:pt x="1122" y="997"/>
                    </a:lnTo>
                    <a:lnTo>
                      <a:pt x="1158" y="985"/>
                    </a:lnTo>
                    <a:lnTo>
                      <a:pt x="1185" y="966"/>
                    </a:lnTo>
                    <a:lnTo>
                      <a:pt x="1208" y="946"/>
                    </a:lnTo>
                    <a:lnTo>
                      <a:pt x="1227" y="917"/>
                    </a:lnTo>
                    <a:lnTo>
                      <a:pt x="1231" y="886"/>
                    </a:lnTo>
                    <a:lnTo>
                      <a:pt x="1251" y="894"/>
                    </a:lnTo>
                    <a:lnTo>
                      <a:pt x="1284" y="895"/>
                    </a:lnTo>
                    <a:lnTo>
                      <a:pt x="1322" y="886"/>
                    </a:lnTo>
                    <a:lnTo>
                      <a:pt x="1359" y="866"/>
                    </a:lnTo>
                    <a:lnTo>
                      <a:pt x="1385" y="839"/>
                    </a:lnTo>
                    <a:lnTo>
                      <a:pt x="1407" y="803"/>
                    </a:lnTo>
                    <a:lnTo>
                      <a:pt x="1420" y="765"/>
                    </a:lnTo>
                    <a:lnTo>
                      <a:pt x="1424" y="714"/>
                    </a:lnTo>
                    <a:lnTo>
                      <a:pt x="1422" y="679"/>
                    </a:lnTo>
                    <a:lnTo>
                      <a:pt x="1411" y="628"/>
                    </a:lnTo>
                    <a:lnTo>
                      <a:pt x="1437" y="600"/>
                    </a:lnTo>
                    <a:lnTo>
                      <a:pt x="1450" y="562"/>
                    </a:lnTo>
                    <a:lnTo>
                      <a:pt x="1457" y="522"/>
                    </a:lnTo>
                    <a:lnTo>
                      <a:pt x="1457" y="480"/>
                    </a:lnTo>
                    <a:lnTo>
                      <a:pt x="1448" y="435"/>
                    </a:lnTo>
                    <a:lnTo>
                      <a:pt x="1431" y="402"/>
                    </a:lnTo>
                    <a:lnTo>
                      <a:pt x="1402" y="366"/>
                    </a:lnTo>
                    <a:lnTo>
                      <a:pt x="1372" y="339"/>
                    </a:lnTo>
                    <a:lnTo>
                      <a:pt x="1336" y="313"/>
                    </a:lnTo>
                    <a:lnTo>
                      <a:pt x="1290" y="295"/>
                    </a:lnTo>
                    <a:lnTo>
                      <a:pt x="1247" y="285"/>
                    </a:lnTo>
                    <a:lnTo>
                      <a:pt x="1227" y="281"/>
                    </a:lnTo>
                    <a:lnTo>
                      <a:pt x="1225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"/>
              <p:cNvGrpSpPr/>
              <p:nvPr/>
            </p:nvGrpSpPr>
            <p:grpSpPr>
              <a:xfrm>
                <a:off x="2680560" y="4815720"/>
                <a:ext cx="636120" cy="545760"/>
                <a:chOff x="2680560" y="4815720"/>
                <a:chExt cx="636120" cy="54576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2680560" y="4815720"/>
                  <a:ext cx="244800" cy="347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991240" y="5052240"/>
                  <a:ext cx="159480" cy="266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91760" y="5210640"/>
                  <a:ext cx="124920" cy="15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2" name=""/>
            <p:cNvSpPr/>
            <p:nvPr/>
          </p:nvSpPr>
          <p:spPr>
            <a:xfrm>
              <a:off x="883800" y="37267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with more than thre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children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3" name="" descr=""/>
          <p:cNvPicPr/>
          <p:nvPr/>
        </p:nvPicPr>
        <p:blipFill>
          <a:blip r:embed="rId1"/>
          <a:stretch/>
        </p:blipFill>
        <p:spPr>
          <a:xfrm>
            <a:off x="649440" y="1792440"/>
            <a:ext cx="1504800" cy="958680"/>
          </a:xfrm>
          <a:prstGeom prst="rect">
            <a:avLst/>
          </a:prstGeom>
          <a:ln w="0">
            <a:noFill/>
          </a:ln>
        </p:spPr>
      </p:pic>
      <p:grpSp>
        <p:nvGrpSpPr>
          <p:cNvPr id="2094" name=""/>
          <p:cNvGrpSpPr/>
          <p:nvPr/>
        </p:nvGrpSpPr>
        <p:grpSpPr>
          <a:xfrm>
            <a:off x="6627960" y="4287960"/>
            <a:ext cx="729360" cy="1293120"/>
            <a:chOff x="6627960" y="4287960"/>
            <a:chExt cx="729360" cy="1293120"/>
          </a:xfrm>
        </p:grpSpPr>
        <p:grpSp>
          <p:nvGrpSpPr>
            <p:cNvPr id="2095" name=""/>
            <p:cNvGrpSpPr/>
            <p:nvPr/>
          </p:nvGrpSpPr>
          <p:grpSpPr>
            <a:xfrm>
              <a:off x="6627960" y="4287960"/>
              <a:ext cx="729360" cy="1293120"/>
              <a:chOff x="6627960" y="4287960"/>
              <a:chExt cx="729360" cy="1293120"/>
            </a:xfrm>
          </p:grpSpPr>
          <p:sp>
            <p:nvSpPr>
              <p:cNvPr id="2096" name=""/>
              <p:cNvSpPr/>
              <p:nvPr/>
            </p:nvSpPr>
            <p:spPr>
              <a:xfrm>
                <a:off x="6905520" y="42879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652440" y="451476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627960" y="48538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>
              <a:off x="6918840" y="454284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3137040" y="5354640"/>
            <a:ext cx="729360" cy="1291680"/>
            <a:chOff x="3137040" y="5354640"/>
            <a:chExt cx="729360" cy="1291680"/>
          </a:xfrm>
        </p:grpSpPr>
        <p:grpSp>
          <p:nvGrpSpPr>
            <p:cNvPr id="2101" name=""/>
            <p:cNvGrpSpPr/>
            <p:nvPr/>
          </p:nvGrpSpPr>
          <p:grpSpPr>
            <a:xfrm>
              <a:off x="3137040" y="5354640"/>
              <a:ext cx="729360" cy="1291680"/>
              <a:chOff x="3137040" y="5354640"/>
              <a:chExt cx="729360" cy="1291680"/>
            </a:xfrm>
          </p:grpSpPr>
          <p:sp>
            <p:nvSpPr>
              <p:cNvPr id="2102" name=""/>
              <p:cNvSpPr/>
              <p:nvPr/>
            </p:nvSpPr>
            <p:spPr>
              <a:xfrm>
                <a:off x="3399840" y="535464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219120" y="5581440"/>
                <a:ext cx="62244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137040" y="591984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>
              <a:off x="3327480" y="56026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58140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6573960" y="1914480"/>
            <a:ext cx="2399400" cy="2291760"/>
            <a:chOff x="6573960" y="1914480"/>
            <a:chExt cx="2399400" cy="2291760"/>
          </a:xfrm>
        </p:grpSpPr>
        <p:grpSp>
          <p:nvGrpSpPr>
            <p:cNvPr id="2108" name=""/>
            <p:cNvGrpSpPr/>
            <p:nvPr/>
          </p:nvGrpSpPr>
          <p:grpSpPr>
            <a:xfrm>
              <a:off x="6573960" y="1914480"/>
              <a:ext cx="2399400" cy="2291760"/>
              <a:chOff x="6573960" y="1914480"/>
              <a:chExt cx="2399400" cy="2291760"/>
            </a:xfrm>
          </p:grpSpPr>
          <p:sp>
            <p:nvSpPr>
              <p:cNvPr id="2109" name=""/>
              <p:cNvSpPr/>
              <p:nvPr/>
            </p:nvSpPr>
            <p:spPr>
              <a:xfrm>
                <a:off x="6576840" y="1914480"/>
                <a:ext cx="239652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232" y="254"/>
                    </a:moveTo>
                    <a:lnTo>
                      <a:pt x="243" y="225"/>
                    </a:lnTo>
                    <a:lnTo>
                      <a:pt x="262" y="193"/>
                    </a:lnTo>
                    <a:lnTo>
                      <a:pt x="291" y="170"/>
                    </a:lnTo>
                    <a:lnTo>
                      <a:pt x="327" y="150"/>
                    </a:lnTo>
                    <a:lnTo>
                      <a:pt x="357" y="140"/>
                    </a:lnTo>
                    <a:lnTo>
                      <a:pt x="394" y="128"/>
                    </a:lnTo>
                    <a:lnTo>
                      <a:pt x="451" y="124"/>
                    </a:lnTo>
                    <a:lnTo>
                      <a:pt x="505" y="128"/>
                    </a:lnTo>
                    <a:lnTo>
                      <a:pt x="556" y="141"/>
                    </a:lnTo>
                    <a:lnTo>
                      <a:pt x="593" y="156"/>
                    </a:lnTo>
                    <a:lnTo>
                      <a:pt x="615" y="107"/>
                    </a:lnTo>
                    <a:lnTo>
                      <a:pt x="644" y="69"/>
                    </a:lnTo>
                    <a:lnTo>
                      <a:pt x="682" y="39"/>
                    </a:lnTo>
                    <a:lnTo>
                      <a:pt x="733" y="17"/>
                    </a:lnTo>
                    <a:lnTo>
                      <a:pt x="795" y="1"/>
                    </a:lnTo>
                    <a:lnTo>
                      <a:pt x="855" y="0"/>
                    </a:lnTo>
                    <a:lnTo>
                      <a:pt x="910" y="9"/>
                    </a:lnTo>
                    <a:lnTo>
                      <a:pt x="972" y="27"/>
                    </a:lnTo>
                    <a:lnTo>
                      <a:pt x="1018" y="61"/>
                    </a:lnTo>
                    <a:lnTo>
                      <a:pt x="1051" y="94"/>
                    </a:lnTo>
                    <a:lnTo>
                      <a:pt x="1073" y="125"/>
                    </a:lnTo>
                    <a:lnTo>
                      <a:pt x="1077" y="166"/>
                    </a:lnTo>
                    <a:lnTo>
                      <a:pt x="1120" y="153"/>
                    </a:lnTo>
                    <a:lnTo>
                      <a:pt x="1170" y="157"/>
                    </a:lnTo>
                    <a:lnTo>
                      <a:pt x="1212" y="170"/>
                    </a:lnTo>
                    <a:lnTo>
                      <a:pt x="1248" y="199"/>
                    </a:lnTo>
                    <a:lnTo>
                      <a:pt x="1274" y="236"/>
                    </a:lnTo>
                    <a:lnTo>
                      <a:pt x="1284" y="278"/>
                    </a:lnTo>
                    <a:lnTo>
                      <a:pt x="1283" y="308"/>
                    </a:lnTo>
                    <a:lnTo>
                      <a:pt x="1307" y="306"/>
                    </a:lnTo>
                    <a:lnTo>
                      <a:pt x="1338" y="313"/>
                    </a:lnTo>
                    <a:lnTo>
                      <a:pt x="1368" y="327"/>
                    </a:lnTo>
                    <a:lnTo>
                      <a:pt x="1392" y="343"/>
                    </a:lnTo>
                    <a:lnTo>
                      <a:pt x="1408" y="357"/>
                    </a:lnTo>
                    <a:lnTo>
                      <a:pt x="1422" y="376"/>
                    </a:lnTo>
                    <a:lnTo>
                      <a:pt x="1438" y="399"/>
                    </a:lnTo>
                    <a:lnTo>
                      <a:pt x="1447" y="428"/>
                    </a:lnTo>
                    <a:lnTo>
                      <a:pt x="1448" y="450"/>
                    </a:lnTo>
                    <a:lnTo>
                      <a:pt x="1444" y="473"/>
                    </a:lnTo>
                    <a:lnTo>
                      <a:pt x="1434" y="502"/>
                    </a:lnTo>
                    <a:lnTo>
                      <a:pt x="1447" y="532"/>
                    </a:lnTo>
                    <a:lnTo>
                      <a:pt x="1453" y="558"/>
                    </a:lnTo>
                    <a:lnTo>
                      <a:pt x="1456" y="588"/>
                    </a:lnTo>
                    <a:lnTo>
                      <a:pt x="1448" y="624"/>
                    </a:lnTo>
                    <a:lnTo>
                      <a:pt x="1443" y="646"/>
                    </a:lnTo>
                    <a:lnTo>
                      <a:pt x="1427" y="672"/>
                    </a:lnTo>
                    <a:lnTo>
                      <a:pt x="1448" y="708"/>
                    </a:lnTo>
                    <a:lnTo>
                      <a:pt x="1456" y="731"/>
                    </a:lnTo>
                    <a:lnTo>
                      <a:pt x="1457" y="765"/>
                    </a:lnTo>
                    <a:lnTo>
                      <a:pt x="1453" y="799"/>
                    </a:lnTo>
                    <a:lnTo>
                      <a:pt x="1440" y="836"/>
                    </a:lnTo>
                    <a:lnTo>
                      <a:pt x="1422" y="862"/>
                    </a:lnTo>
                    <a:lnTo>
                      <a:pt x="1397" y="886"/>
                    </a:lnTo>
                    <a:lnTo>
                      <a:pt x="1353" y="911"/>
                    </a:lnTo>
                    <a:lnTo>
                      <a:pt x="1307" y="920"/>
                    </a:lnTo>
                    <a:lnTo>
                      <a:pt x="1266" y="912"/>
                    </a:lnTo>
                    <a:lnTo>
                      <a:pt x="1238" y="899"/>
                    </a:lnTo>
                    <a:lnTo>
                      <a:pt x="1219" y="925"/>
                    </a:lnTo>
                    <a:lnTo>
                      <a:pt x="1199" y="946"/>
                    </a:lnTo>
                    <a:lnTo>
                      <a:pt x="1182" y="959"/>
                    </a:lnTo>
                    <a:lnTo>
                      <a:pt x="1149" y="976"/>
                    </a:lnTo>
                    <a:lnTo>
                      <a:pt x="1120" y="987"/>
                    </a:lnTo>
                    <a:lnTo>
                      <a:pt x="1077" y="996"/>
                    </a:lnTo>
                    <a:lnTo>
                      <a:pt x="1035" y="995"/>
                    </a:lnTo>
                    <a:lnTo>
                      <a:pt x="993" y="983"/>
                    </a:lnTo>
                    <a:lnTo>
                      <a:pt x="956" y="963"/>
                    </a:lnTo>
                    <a:lnTo>
                      <a:pt x="934" y="997"/>
                    </a:lnTo>
                    <a:lnTo>
                      <a:pt x="914" y="1018"/>
                    </a:lnTo>
                    <a:lnTo>
                      <a:pt x="888" y="1035"/>
                    </a:lnTo>
                    <a:lnTo>
                      <a:pt x="858" y="1049"/>
                    </a:lnTo>
                    <a:lnTo>
                      <a:pt x="824" y="1055"/>
                    </a:lnTo>
                    <a:lnTo>
                      <a:pt x="792" y="1055"/>
                    </a:lnTo>
                    <a:lnTo>
                      <a:pt x="762" y="1049"/>
                    </a:lnTo>
                    <a:lnTo>
                      <a:pt x="724" y="1031"/>
                    </a:lnTo>
                    <a:lnTo>
                      <a:pt x="703" y="1013"/>
                    </a:lnTo>
                    <a:lnTo>
                      <a:pt x="682" y="1035"/>
                    </a:lnTo>
                    <a:lnTo>
                      <a:pt x="661" y="1049"/>
                    </a:lnTo>
                    <a:lnTo>
                      <a:pt x="635" y="1061"/>
                    </a:lnTo>
                    <a:lnTo>
                      <a:pt x="597" y="1071"/>
                    </a:lnTo>
                    <a:lnTo>
                      <a:pt x="559" y="1068"/>
                    </a:lnTo>
                    <a:lnTo>
                      <a:pt x="518" y="1058"/>
                    </a:lnTo>
                    <a:lnTo>
                      <a:pt x="488" y="1041"/>
                    </a:lnTo>
                    <a:lnTo>
                      <a:pt x="459" y="1012"/>
                    </a:lnTo>
                    <a:lnTo>
                      <a:pt x="442" y="983"/>
                    </a:lnTo>
                    <a:lnTo>
                      <a:pt x="412" y="993"/>
                    </a:lnTo>
                    <a:lnTo>
                      <a:pt x="377" y="1000"/>
                    </a:lnTo>
                    <a:lnTo>
                      <a:pt x="335" y="997"/>
                    </a:lnTo>
                    <a:lnTo>
                      <a:pt x="299" y="985"/>
                    </a:lnTo>
                    <a:lnTo>
                      <a:pt x="272" y="966"/>
                    </a:lnTo>
                    <a:lnTo>
                      <a:pt x="249" y="946"/>
                    </a:lnTo>
                    <a:lnTo>
                      <a:pt x="230" y="917"/>
                    </a:lnTo>
                    <a:lnTo>
                      <a:pt x="226" y="886"/>
                    </a:lnTo>
                    <a:lnTo>
                      <a:pt x="206" y="894"/>
                    </a:lnTo>
                    <a:lnTo>
                      <a:pt x="173" y="895"/>
                    </a:lnTo>
                    <a:lnTo>
                      <a:pt x="135" y="886"/>
                    </a:lnTo>
                    <a:lnTo>
                      <a:pt x="98" y="866"/>
                    </a:lnTo>
                    <a:lnTo>
                      <a:pt x="72" y="839"/>
                    </a:lnTo>
                    <a:lnTo>
                      <a:pt x="50" y="803"/>
                    </a:lnTo>
                    <a:lnTo>
                      <a:pt x="37" y="765"/>
                    </a:lnTo>
                    <a:lnTo>
                      <a:pt x="33" y="714"/>
                    </a:lnTo>
                    <a:lnTo>
                      <a:pt x="35" y="679"/>
                    </a:lnTo>
                    <a:lnTo>
                      <a:pt x="46" y="628"/>
                    </a:lnTo>
                    <a:lnTo>
                      <a:pt x="20" y="600"/>
                    </a:lnTo>
                    <a:lnTo>
                      <a:pt x="7" y="562"/>
                    </a:lnTo>
                    <a:lnTo>
                      <a:pt x="0" y="522"/>
                    </a:lnTo>
                    <a:lnTo>
                      <a:pt x="0" y="480"/>
                    </a:lnTo>
                    <a:lnTo>
                      <a:pt x="9" y="435"/>
                    </a:lnTo>
                    <a:lnTo>
                      <a:pt x="26" y="402"/>
                    </a:lnTo>
                    <a:lnTo>
                      <a:pt x="55" y="366"/>
                    </a:lnTo>
                    <a:lnTo>
                      <a:pt x="85" y="339"/>
                    </a:lnTo>
                    <a:lnTo>
                      <a:pt x="121" y="313"/>
                    </a:lnTo>
                    <a:lnTo>
                      <a:pt x="167" y="295"/>
                    </a:lnTo>
                    <a:lnTo>
                      <a:pt x="210" y="285"/>
                    </a:lnTo>
                    <a:lnTo>
                      <a:pt x="230" y="281"/>
                    </a:lnTo>
                    <a:lnTo>
                      <a:pt x="232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774480" y="3569400"/>
                <a:ext cx="346320" cy="244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16440" y="3880800"/>
                <a:ext cx="266400" cy="159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573960" y="4081320"/>
                <a:ext cx="150840" cy="12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3" name=""/>
            <p:cNvSpPr/>
            <p:nvPr/>
          </p:nvSpPr>
          <p:spPr>
            <a:xfrm>
              <a:off x="7098120" y="21841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king over $50,000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4" name="" descr=""/>
          <p:cNvPicPr/>
          <p:nvPr/>
        </p:nvPicPr>
        <p:blipFill>
          <a:blip r:embed="rId2"/>
          <a:stretch/>
        </p:blipFill>
        <p:spPr>
          <a:xfrm>
            <a:off x="3440160" y="2908440"/>
            <a:ext cx="2476440" cy="19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495-1E52-4775-8FA4-23558B69B56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469960" y="584280"/>
            <a:ext cx="4238280" cy="107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ax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760720" y="2738520"/>
            <a:ext cx="1161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axes 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008160" y="292248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145040" y="399744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933560" y="39974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2280960" y="3321000"/>
            <a:ext cx="809640" cy="704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470400" y="3321000"/>
            <a:ext cx="703080" cy="704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28840" y="595476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259080" y="595476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838760" y="5386320"/>
            <a:ext cx="428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1711440" y="4459320"/>
            <a:ext cx="495360" cy="1461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2406600" y="4241880"/>
            <a:ext cx="1757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333520" y="4459320"/>
            <a:ext cx="957240" cy="1527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H="1" flipV="1">
            <a:off x="4489560" y="4406400"/>
            <a:ext cx="495360" cy="1000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3733560" y="5848200"/>
            <a:ext cx="1312920" cy="327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098520" y="29624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253760" y="403560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23200" y="40561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18480" y="6014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1040" y="59864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948200" y="54165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669680" y="2984400"/>
            <a:ext cx="1273320" cy="12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682640" y="4248000"/>
            <a:ext cx="1438560" cy="20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404040" y="4336920"/>
            <a:ext cx="19461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st 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only 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establis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619200" y="1743120"/>
            <a:ext cx="1528560" cy="1017720"/>
          </a:xfrm>
          <a:prstGeom prst="rect">
            <a:avLst/>
          </a:prstGeom>
          <a:ln w="0">
            <a:noFill/>
          </a:ln>
        </p:spPr>
      </p:pic>
      <p:grpSp>
        <p:nvGrpSpPr>
          <p:cNvPr id="2140" name=""/>
          <p:cNvGrpSpPr/>
          <p:nvPr/>
        </p:nvGrpSpPr>
        <p:grpSpPr>
          <a:xfrm>
            <a:off x="7278840" y="2076480"/>
            <a:ext cx="729360" cy="1293120"/>
            <a:chOff x="7278840" y="2076480"/>
            <a:chExt cx="729360" cy="1293120"/>
          </a:xfrm>
        </p:grpSpPr>
        <p:grpSp>
          <p:nvGrpSpPr>
            <p:cNvPr id="2141" name=""/>
            <p:cNvGrpSpPr/>
            <p:nvPr/>
          </p:nvGrpSpPr>
          <p:grpSpPr>
            <a:xfrm>
              <a:off x="7278840" y="2076480"/>
              <a:ext cx="729360" cy="1293120"/>
              <a:chOff x="7278840" y="2076480"/>
              <a:chExt cx="729360" cy="1293120"/>
            </a:xfrm>
          </p:grpSpPr>
          <p:sp>
            <p:nvSpPr>
              <p:cNvPr id="2142" name=""/>
              <p:cNvSpPr/>
              <p:nvPr/>
            </p:nvSpPr>
            <p:spPr>
              <a:xfrm>
                <a:off x="7556760" y="2076480"/>
                <a:ext cx="18684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303680" y="230364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278840" y="264240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7569720" y="23317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4616280" y="2095560"/>
            <a:ext cx="729720" cy="1293120"/>
            <a:chOff x="4616280" y="2095560"/>
            <a:chExt cx="729720" cy="1293120"/>
          </a:xfrm>
        </p:grpSpPr>
        <p:grpSp>
          <p:nvGrpSpPr>
            <p:cNvPr id="2147" name=""/>
            <p:cNvGrpSpPr/>
            <p:nvPr/>
          </p:nvGrpSpPr>
          <p:grpSpPr>
            <a:xfrm>
              <a:off x="4616280" y="2095560"/>
              <a:ext cx="729720" cy="1293120"/>
              <a:chOff x="4616280" y="2095560"/>
              <a:chExt cx="729720" cy="1293120"/>
            </a:xfrm>
          </p:grpSpPr>
          <p:sp>
            <p:nvSpPr>
              <p:cNvPr id="2148" name=""/>
              <p:cNvSpPr/>
              <p:nvPr/>
            </p:nvSpPr>
            <p:spPr>
              <a:xfrm>
                <a:off x="4879440" y="2095560"/>
                <a:ext cx="18684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98360" y="2322720"/>
                <a:ext cx="62280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16280" y="2661480"/>
                <a:ext cx="72972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4806720" y="234396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"/>
          <p:cNvSpPr/>
          <p:nvPr/>
        </p:nvSpPr>
        <p:spPr>
          <a:xfrm>
            <a:off x="58140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6576840" y="2158920"/>
            <a:ext cx="728640" cy="487080"/>
            <a:chOff x="6576840" y="2158920"/>
            <a:chExt cx="728640" cy="487080"/>
          </a:xfrm>
        </p:grpSpPr>
        <p:sp>
          <p:nvSpPr>
            <p:cNvPr id="2154" name=""/>
            <p:cNvSpPr/>
            <p:nvPr/>
          </p:nvSpPr>
          <p:spPr>
            <a:xfrm>
              <a:off x="6576840" y="2292120"/>
              <a:ext cx="380160" cy="353880"/>
            </a:xfrm>
            <a:custGeom>
              <a:avLst/>
              <a:gdLst/>
              <a:ahLst/>
              <a:rect l="l" t="t" r="r" b="b"/>
              <a:pathLst>
                <a:path w="231" h="215">
                  <a:moveTo>
                    <a:pt x="230" y="143"/>
                  </a:moveTo>
                  <a:lnTo>
                    <a:pt x="230" y="21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30" y="143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5" name=""/>
            <p:cNvGrpSpPr/>
            <p:nvPr/>
          </p:nvGrpSpPr>
          <p:grpSpPr>
            <a:xfrm>
              <a:off x="6614640" y="2314800"/>
              <a:ext cx="303840" cy="304200"/>
              <a:chOff x="6614640" y="2314800"/>
              <a:chExt cx="303840" cy="304200"/>
            </a:xfrm>
          </p:grpSpPr>
          <p:sp>
            <p:nvSpPr>
              <p:cNvPr id="2156" name=""/>
              <p:cNvSpPr/>
              <p:nvPr/>
            </p:nvSpPr>
            <p:spPr>
              <a:xfrm>
                <a:off x="6872400" y="2476080"/>
                <a:ext cx="46080" cy="1429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27" y="16"/>
                    </a:moveTo>
                    <a:lnTo>
                      <a:pt x="0" y="0"/>
                    </a:lnTo>
                    <a:lnTo>
                      <a:pt x="0" y="67"/>
                    </a:lnTo>
                    <a:lnTo>
                      <a:pt x="27" y="86"/>
                    </a:lnTo>
                    <a:lnTo>
                      <a:pt x="27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785640" y="2421720"/>
                <a:ext cx="45720" cy="13500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16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26" y="81"/>
                    </a:lnTo>
                    <a:lnTo>
                      <a:pt x="27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699960" y="2367720"/>
                <a:ext cx="46080" cy="12960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27" y="17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27" y="78"/>
                    </a:lnTo>
                    <a:lnTo>
                      <a:pt x="27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614640" y="2314800"/>
                <a:ext cx="45720" cy="123480"/>
              </a:xfrm>
              <a:custGeom>
                <a:avLst/>
                <a:gdLst/>
                <a:ahLst/>
                <a:rect l="l" t="t" r="r" b="b"/>
                <a:pathLst>
                  <a:path w="28" h="75">
                    <a:moveTo>
                      <a:pt x="27" y="17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27" y="74"/>
                    </a:lnTo>
                    <a:lnTo>
                      <a:pt x="27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0" name=""/>
            <p:cNvSpPr/>
            <p:nvPr/>
          </p:nvSpPr>
          <p:spPr>
            <a:xfrm>
              <a:off x="6955200" y="2377440"/>
              <a:ext cx="350280" cy="26820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212" y="0"/>
                  </a:moveTo>
                  <a:lnTo>
                    <a:pt x="0" y="91"/>
                  </a:lnTo>
                  <a:lnTo>
                    <a:pt x="0" y="162"/>
                  </a:lnTo>
                  <a:lnTo>
                    <a:pt x="212" y="65"/>
                  </a:lnTo>
                  <a:lnTo>
                    <a:pt x="212" y="0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6576840" y="2158920"/>
              <a:ext cx="728280" cy="370080"/>
              <a:chOff x="6576840" y="2158920"/>
              <a:chExt cx="728280" cy="370080"/>
            </a:xfrm>
          </p:grpSpPr>
          <p:sp>
            <p:nvSpPr>
              <p:cNvPr id="2162" name=""/>
              <p:cNvSpPr/>
              <p:nvPr/>
            </p:nvSpPr>
            <p:spPr>
              <a:xfrm>
                <a:off x="6576840" y="2158920"/>
                <a:ext cx="728280" cy="370080"/>
              </a:xfrm>
              <a:custGeom>
                <a:avLst/>
                <a:gdLst/>
                <a:ahLst/>
                <a:rect l="l" t="t" r="r" b="b"/>
                <a:pathLst>
                  <a:path w="443" h="225">
                    <a:moveTo>
                      <a:pt x="442" y="133"/>
                    </a:moveTo>
                    <a:lnTo>
                      <a:pt x="197" y="0"/>
                    </a:lnTo>
                    <a:lnTo>
                      <a:pt x="0" y="81"/>
                    </a:lnTo>
                    <a:lnTo>
                      <a:pt x="230" y="224"/>
                    </a:lnTo>
                    <a:lnTo>
                      <a:pt x="442" y="1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3" name=""/>
              <p:cNvGrpSpPr/>
              <p:nvPr/>
            </p:nvGrpSpPr>
            <p:grpSpPr>
              <a:xfrm>
                <a:off x="6614640" y="2181600"/>
                <a:ext cx="644040" cy="322560"/>
                <a:chOff x="6614640" y="2181600"/>
                <a:chExt cx="644040" cy="32256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872400" y="2329560"/>
                  <a:ext cx="386280" cy="174600"/>
                </a:xfrm>
                <a:custGeom>
                  <a:avLst/>
                  <a:gdLst/>
                  <a:ahLst/>
                  <a:rect l="l" t="t" r="r" b="b"/>
                  <a:pathLst>
                    <a:path w="235" h="106">
                      <a:moveTo>
                        <a:pt x="234" y="14"/>
                      </a:moveTo>
                      <a:lnTo>
                        <a:pt x="208" y="0"/>
                      </a:lnTo>
                      <a:lnTo>
                        <a:pt x="0" y="89"/>
                      </a:lnTo>
                      <a:lnTo>
                        <a:pt x="27" y="105"/>
                      </a:lnTo>
                      <a:lnTo>
                        <a:pt x="234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785640" y="2280240"/>
                  <a:ext cx="382680" cy="169200"/>
                </a:xfrm>
                <a:custGeom>
                  <a:avLst/>
                  <a:gdLst/>
                  <a:ahLst/>
                  <a:rect l="l" t="t" r="r" b="b"/>
                  <a:pathLst>
                    <a:path w="233" h="103">
                      <a:moveTo>
                        <a:pt x="232" y="14"/>
                      </a:moveTo>
                      <a:lnTo>
                        <a:pt x="205" y="0"/>
                      </a:lnTo>
                      <a:lnTo>
                        <a:pt x="0" y="86"/>
                      </a:lnTo>
                      <a:lnTo>
                        <a:pt x="26" y="102"/>
                      </a:lnTo>
                      <a:lnTo>
                        <a:pt x="232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6699960" y="2229120"/>
                  <a:ext cx="376200" cy="167760"/>
                </a:xfrm>
                <a:custGeom>
                  <a:avLst/>
                  <a:gdLst/>
                  <a:ahLst/>
                  <a:rect l="l" t="t" r="r" b="b"/>
                  <a:pathLst>
                    <a:path w="229" h="102">
                      <a:moveTo>
                        <a:pt x="228" y="15"/>
                      </a:moveTo>
                      <a:lnTo>
                        <a:pt x="202" y="0"/>
                      </a:lnTo>
                      <a:lnTo>
                        <a:pt x="0" y="84"/>
                      </a:lnTo>
                      <a:lnTo>
                        <a:pt x="27" y="101"/>
                      </a:lnTo>
                      <a:lnTo>
                        <a:pt x="228" y="15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6614640" y="2181600"/>
                  <a:ext cx="371520" cy="163080"/>
                </a:xfrm>
                <a:custGeom>
                  <a:avLst/>
                  <a:gdLst/>
                  <a:ahLst/>
                  <a:rect l="l" t="t" r="r" b="b"/>
                  <a:pathLst>
                    <a:path w="226" h="99">
                      <a:moveTo>
                        <a:pt x="225" y="14"/>
                      </a:moveTo>
                      <a:lnTo>
                        <a:pt x="199" y="0"/>
                      </a:lnTo>
                      <a:lnTo>
                        <a:pt x="0" y="81"/>
                      </a:lnTo>
                      <a:lnTo>
                        <a:pt x="27" y="98"/>
                      </a:lnTo>
                      <a:lnTo>
                        <a:pt x="225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8" name=""/>
            <p:cNvGrpSpPr/>
            <p:nvPr/>
          </p:nvGrpSpPr>
          <p:grpSpPr>
            <a:xfrm>
              <a:off x="6955200" y="2394000"/>
              <a:ext cx="349920" cy="240120"/>
              <a:chOff x="6955200" y="2394000"/>
              <a:chExt cx="349920" cy="240120"/>
            </a:xfrm>
          </p:grpSpPr>
          <p:sp>
            <p:nvSpPr>
              <p:cNvPr id="2169" name=""/>
              <p:cNvSpPr/>
              <p:nvPr/>
            </p:nvSpPr>
            <p:spPr>
              <a:xfrm>
                <a:off x="6955200" y="2394000"/>
                <a:ext cx="349920" cy="149400"/>
              </a:xfrm>
              <a:custGeom>
                <a:avLst/>
                <a:gdLst/>
                <a:ahLst/>
                <a:rect l="l" t="t" r="r" b="b"/>
                <a:pathLst>
                  <a:path w="213" h="91">
                    <a:moveTo>
                      <a:pt x="212" y="0"/>
                    </a:moveTo>
                    <a:lnTo>
                      <a:pt x="0" y="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956640" y="2471040"/>
                <a:ext cx="348480" cy="163080"/>
              </a:xfrm>
              <a:custGeom>
                <a:avLst/>
                <a:gdLst/>
                <a:ahLst/>
                <a:rect l="l" t="t" r="r" b="b"/>
                <a:pathLst>
                  <a:path w="212" h="99">
                    <a:moveTo>
                      <a:pt x="211" y="0"/>
                    </a:moveTo>
                    <a:lnTo>
                      <a:pt x="0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956640" y="2451240"/>
                <a:ext cx="348480" cy="15948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211" y="0"/>
                    </a:move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956640" y="2417040"/>
                <a:ext cx="348480" cy="15444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211" y="0"/>
                    </a:moveTo>
                    <a:lnTo>
                      <a:pt x="0" y="9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956640" y="2433240"/>
                <a:ext cx="348480" cy="153000"/>
              </a:xfrm>
              <a:custGeom>
                <a:avLst/>
                <a:gdLst/>
                <a:ahLst/>
                <a:rect l="l" t="t" r="r" b="b"/>
                <a:pathLst>
                  <a:path w="212" h="93">
                    <a:moveTo>
                      <a:pt x="211" y="0"/>
                    </a:moveTo>
                    <a:lnTo>
                      <a:pt x="0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4" name=""/>
            <p:cNvGrpSpPr/>
            <p:nvPr/>
          </p:nvGrpSpPr>
          <p:grpSpPr>
            <a:xfrm>
              <a:off x="6576840" y="2303640"/>
              <a:ext cx="381600" cy="330480"/>
              <a:chOff x="6576840" y="2303640"/>
              <a:chExt cx="381600" cy="330480"/>
            </a:xfrm>
          </p:grpSpPr>
          <p:sp>
            <p:nvSpPr>
              <p:cNvPr id="2175" name=""/>
              <p:cNvSpPr/>
              <p:nvPr/>
            </p:nvSpPr>
            <p:spPr>
              <a:xfrm>
                <a:off x="6576840" y="2346120"/>
                <a:ext cx="381600" cy="264960"/>
              </a:xfrm>
              <a:custGeom>
                <a:avLst/>
                <a:gdLst/>
                <a:ahLst/>
                <a:rect l="l" t="t" r="r" b="b"/>
                <a:pathLst>
                  <a:path w="232" h="161">
                    <a:moveTo>
                      <a:pt x="231" y="160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576840" y="2319840"/>
                <a:ext cx="381600" cy="25164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231" y="15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76840" y="2303640"/>
                <a:ext cx="381600" cy="239760"/>
              </a:xfrm>
              <a:custGeom>
                <a:avLst/>
                <a:gdLst/>
                <a:ahLst/>
                <a:rect l="l" t="t" r="r" b="b"/>
                <a:pathLst>
                  <a:path w="232" h="146">
                    <a:moveTo>
                      <a:pt x="231" y="145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576840" y="2365920"/>
                <a:ext cx="381600" cy="26820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231" y="16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576840" y="2334600"/>
                <a:ext cx="381600" cy="25200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231" y="152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"/>
            <p:cNvGrpSpPr/>
            <p:nvPr/>
          </p:nvGrpSpPr>
          <p:grpSpPr>
            <a:xfrm>
              <a:off x="6907680" y="2171880"/>
              <a:ext cx="356400" cy="196920"/>
              <a:chOff x="6907680" y="2171880"/>
              <a:chExt cx="356400" cy="196920"/>
            </a:xfrm>
          </p:grpSpPr>
          <p:sp>
            <p:nvSpPr>
              <p:cNvPr id="2181" name=""/>
              <p:cNvSpPr/>
              <p:nvPr/>
            </p:nvSpPr>
            <p:spPr>
              <a:xfrm>
                <a:off x="7260840" y="2365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219800" y="2342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175520" y="2318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129440" y="229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081560" y="2267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039080" y="224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991200" y="2217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950160" y="2193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907680" y="217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6626160" y="2290320"/>
              <a:ext cx="338040" cy="210600"/>
              <a:chOff x="6626160" y="2290320"/>
              <a:chExt cx="338040" cy="210600"/>
            </a:xfrm>
          </p:grpSpPr>
          <p:sp>
            <p:nvSpPr>
              <p:cNvPr id="2191" name=""/>
              <p:cNvSpPr/>
              <p:nvPr/>
            </p:nvSpPr>
            <p:spPr>
              <a:xfrm>
                <a:off x="6960960" y="249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921720" y="2473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880680" y="244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836040" y="2418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791760" y="2392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750720" y="2367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706440" y="2339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6840" y="231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626160" y="2290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5294160" y="2178000"/>
            <a:ext cx="727920" cy="487080"/>
            <a:chOff x="5294160" y="2178000"/>
            <a:chExt cx="727920" cy="487080"/>
          </a:xfrm>
        </p:grpSpPr>
        <p:sp>
          <p:nvSpPr>
            <p:cNvPr id="2201" name=""/>
            <p:cNvSpPr/>
            <p:nvPr/>
          </p:nvSpPr>
          <p:spPr>
            <a:xfrm>
              <a:off x="5642640" y="2311560"/>
              <a:ext cx="379440" cy="353520"/>
            </a:xfrm>
            <a:custGeom>
              <a:avLst/>
              <a:gdLst/>
              <a:ahLst/>
              <a:rect l="l" t="t" r="r" b="b"/>
              <a:pathLst>
                <a:path w="231" h="215">
                  <a:moveTo>
                    <a:pt x="0" y="143"/>
                  </a:moveTo>
                  <a:lnTo>
                    <a:pt x="0" y="214"/>
                  </a:lnTo>
                  <a:lnTo>
                    <a:pt x="230" y="52"/>
                  </a:lnTo>
                  <a:lnTo>
                    <a:pt x="230" y="0"/>
                  </a:lnTo>
                  <a:lnTo>
                    <a:pt x="0" y="143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2" name=""/>
            <p:cNvGrpSpPr/>
            <p:nvPr/>
          </p:nvGrpSpPr>
          <p:grpSpPr>
            <a:xfrm>
              <a:off x="5680440" y="2334240"/>
              <a:ext cx="303840" cy="303840"/>
              <a:chOff x="5680440" y="2334240"/>
              <a:chExt cx="303840" cy="303840"/>
            </a:xfrm>
          </p:grpSpPr>
          <p:sp>
            <p:nvSpPr>
              <p:cNvPr id="2203" name=""/>
              <p:cNvSpPr/>
              <p:nvPr/>
            </p:nvSpPr>
            <p:spPr>
              <a:xfrm>
                <a:off x="5680440" y="2495520"/>
                <a:ext cx="46080" cy="14256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16"/>
                    </a:moveTo>
                    <a:lnTo>
                      <a:pt x="27" y="0"/>
                    </a:lnTo>
                    <a:lnTo>
                      <a:pt x="27" y="67"/>
                    </a:lnTo>
                    <a:lnTo>
                      <a:pt x="0" y="8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67560" y="2441160"/>
                <a:ext cx="45720" cy="13464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0" y="16"/>
                    </a:moveTo>
                    <a:lnTo>
                      <a:pt x="27" y="0"/>
                    </a:lnTo>
                    <a:lnTo>
                      <a:pt x="27" y="62"/>
                    </a:lnTo>
                    <a:lnTo>
                      <a:pt x="1" y="8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52880" y="2387160"/>
                <a:ext cx="46080" cy="12960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0" y="17"/>
                    </a:moveTo>
                    <a:lnTo>
                      <a:pt x="27" y="0"/>
                    </a:lnTo>
                    <a:lnTo>
                      <a:pt x="27" y="59"/>
                    </a:lnTo>
                    <a:lnTo>
                      <a:pt x="0" y="7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38560" y="2334240"/>
                <a:ext cx="45720" cy="123120"/>
              </a:xfrm>
              <a:custGeom>
                <a:avLst/>
                <a:gdLst/>
                <a:ahLst/>
                <a:rect l="l" t="t" r="r" b="b"/>
                <a:pathLst>
                  <a:path w="28" h="75">
                    <a:moveTo>
                      <a:pt x="0" y="17"/>
                    </a:moveTo>
                    <a:lnTo>
                      <a:pt x="27" y="0"/>
                    </a:lnTo>
                    <a:lnTo>
                      <a:pt x="27" y="55"/>
                    </a:lnTo>
                    <a:lnTo>
                      <a:pt x="0" y="7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9ff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5294160" y="2396880"/>
              <a:ext cx="350280" cy="26820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0" y="0"/>
                  </a:moveTo>
                  <a:lnTo>
                    <a:pt x="212" y="91"/>
                  </a:lnTo>
                  <a:lnTo>
                    <a:pt x="212" y="162"/>
                  </a:ln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5294160" y="2178000"/>
              <a:ext cx="727920" cy="370080"/>
              <a:chOff x="5294160" y="2178000"/>
              <a:chExt cx="727920" cy="370080"/>
            </a:xfrm>
          </p:grpSpPr>
          <p:sp>
            <p:nvSpPr>
              <p:cNvPr id="2209" name=""/>
              <p:cNvSpPr/>
              <p:nvPr/>
            </p:nvSpPr>
            <p:spPr>
              <a:xfrm>
                <a:off x="5294160" y="2178000"/>
                <a:ext cx="727920" cy="370080"/>
              </a:xfrm>
              <a:custGeom>
                <a:avLst/>
                <a:gdLst/>
                <a:ahLst/>
                <a:rect l="l" t="t" r="r" b="b"/>
                <a:pathLst>
                  <a:path w="443" h="225">
                    <a:moveTo>
                      <a:pt x="0" y="133"/>
                    </a:moveTo>
                    <a:lnTo>
                      <a:pt x="245" y="0"/>
                    </a:lnTo>
                    <a:lnTo>
                      <a:pt x="442" y="81"/>
                    </a:lnTo>
                    <a:lnTo>
                      <a:pt x="212" y="224"/>
                    </a:lnTo>
                    <a:lnTo>
                      <a:pt x="0" y="1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5339880" y="2201040"/>
                <a:ext cx="644040" cy="322200"/>
                <a:chOff x="5339880" y="2201040"/>
                <a:chExt cx="644040" cy="32220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5339880" y="2349000"/>
                  <a:ext cx="386280" cy="174240"/>
                </a:xfrm>
                <a:custGeom>
                  <a:avLst/>
                  <a:gdLst/>
                  <a:ahLst/>
                  <a:rect l="l" t="t" r="r" b="b"/>
                  <a:pathLst>
                    <a:path w="235" h="106">
                      <a:moveTo>
                        <a:pt x="0" y="14"/>
                      </a:moveTo>
                      <a:lnTo>
                        <a:pt x="26" y="0"/>
                      </a:lnTo>
                      <a:lnTo>
                        <a:pt x="234" y="89"/>
                      </a:lnTo>
                      <a:lnTo>
                        <a:pt x="207" y="10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30240" y="2299680"/>
                  <a:ext cx="382680" cy="169200"/>
                </a:xfrm>
                <a:custGeom>
                  <a:avLst/>
                  <a:gdLst/>
                  <a:ahLst/>
                  <a:rect l="l" t="t" r="r" b="b"/>
                  <a:pathLst>
                    <a:path w="233" h="103">
                      <a:moveTo>
                        <a:pt x="0" y="14"/>
                      </a:moveTo>
                      <a:lnTo>
                        <a:pt x="27" y="0"/>
                      </a:lnTo>
                      <a:lnTo>
                        <a:pt x="232" y="86"/>
                      </a:lnTo>
                      <a:lnTo>
                        <a:pt x="206" y="10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522400" y="2248560"/>
                  <a:ext cx="376200" cy="167760"/>
                </a:xfrm>
                <a:custGeom>
                  <a:avLst/>
                  <a:gdLst/>
                  <a:ahLst/>
                  <a:rect l="l" t="t" r="r" b="b"/>
                  <a:pathLst>
                    <a:path w="229" h="102">
                      <a:moveTo>
                        <a:pt x="0" y="15"/>
                      </a:moveTo>
                      <a:lnTo>
                        <a:pt x="26" y="0"/>
                      </a:lnTo>
                      <a:lnTo>
                        <a:pt x="228" y="84"/>
                      </a:lnTo>
                      <a:lnTo>
                        <a:pt x="201" y="10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612400" y="2201040"/>
                  <a:ext cx="371520" cy="162720"/>
                </a:xfrm>
                <a:custGeom>
                  <a:avLst/>
                  <a:gdLst/>
                  <a:ahLst/>
                  <a:rect l="l" t="t" r="r" b="b"/>
                  <a:pathLst>
                    <a:path w="226" h="99">
                      <a:moveTo>
                        <a:pt x="0" y="14"/>
                      </a:moveTo>
                      <a:lnTo>
                        <a:pt x="26" y="0"/>
                      </a:lnTo>
                      <a:lnTo>
                        <a:pt x="225" y="81"/>
                      </a:lnTo>
                      <a:lnTo>
                        <a:pt x="198" y="98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d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5" name=""/>
            <p:cNvGrpSpPr/>
            <p:nvPr/>
          </p:nvGrpSpPr>
          <p:grpSpPr>
            <a:xfrm>
              <a:off x="5294160" y="2413440"/>
              <a:ext cx="349920" cy="239760"/>
              <a:chOff x="5294160" y="2413440"/>
              <a:chExt cx="349920" cy="239760"/>
            </a:xfrm>
          </p:grpSpPr>
          <p:sp>
            <p:nvSpPr>
              <p:cNvPr id="2216" name=""/>
              <p:cNvSpPr/>
              <p:nvPr/>
            </p:nvSpPr>
            <p:spPr>
              <a:xfrm>
                <a:off x="5294160" y="2413440"/>
                <a:ext cx="349920" cy="149400"/>
              </a:xfrm>
              <a:custGeom>
                <a:avLst/>
                <a:gdLst/>
                <a:ahLst/>
                <a:rect l="l" t="t" r="r" b="b"/>
                <a:pathLst>
                  <a:path w="213" h="91">
                    <a:moveTo>
                      <a:pt x="0" y="0"/>
                    </a:moveTo>
                    <a:lnTo>
                      <a:pt x="212" y="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294160" y="2490480"/>
                <a:ext cx="348480" cy="162720"/>
              </a:xfrm>
              <a:custGeom>
                <a:avLst/>
                <a:gdLst/>
                <a:ahLst/>
                <a:rect l="l" t="t" r="r" b="b"/>
                <a:pathLst>
                  <a:path w="212" h="99">
                    <a:moveTo>
                      <a:pt x="0" y="0"/>
                    </a:moveTo>
                    <a:lnTo>
                      <a:pt x="211" y="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294160" y="2470680"/>
                <a:ext cx="348480" cy="15948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0"/>
                    </a:moveTo>
                    <a:lnTo>
                      <a:pt x="211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294160" y="2436480"/>
                <a:ext cx="348480" cy="15408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0" y="0"/>
                    </a:moveTo>
                    <a:lnTo>
                      <a:pt x="211" y="9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294160" y="2452680"/>
                <a:ext cx="348480" cy="152640"/>
              </a:xfrm>
              <a:custGeom>
                <a:avLst/>
                <a:gdLst/>
                <a:ahLst/>
                <a:rect l="l" t="t" r="r" b="b"/>
                <a:pathLst>
                  <a:path w="212" h="93">
                    <a:moveTo>
                      <a:pt x="0" y="0"/>
                    </a:moveTo>
                    <a:lnTo>
                      <a:pt x="211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5640840" y="2323080"/>
              <a:ext cx="381240" cy="330120"/>
              <a:chOff x="5640840" y="2323080"/>
              <a:chExt cx="381240" cy="330120"/>
            </a:xfrm>
          </p:grpSpPr>
          <p:sp>
            <p:nvSpPr>
              <p:cNvPr id="2222" name=""/>
              <p:cNvSpPr/>
              <p:nvPr/>
            </p:nvSpPr>
            <p:spPr>
              <a:xfrm>
                <a:off x="5640840" y="2365560"/>
                <a:ext cx="381240" cy="264600"/>
              </a:xfrm>
              <a:custGeom>
                <a:avLst/>
                <a:gdLst/>
                <a:ahLst/>
                <a:rect l="l" t="t" r="r" b="b"/>
                <a:pathLst>
                  <a:path w="232" h="161">
                    <a:moveTo>
                      <a:pt x="0" y="160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40840" y="2339280"/>
                <a:ext cx="381240" cy="25128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0" y="15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40840" y="2323080"/>
                <a:ext cx="381240" cy="239760"/>
              </a:xfrm>
              <a:custGeom>
                <a:avLst/>
                <a:gdLst/>
                <a:ahLst/>
                <a:rect l="l" t="t" r="r" b="b"/>
                <a:pathLst>
                  <a:path w="232" h="146">
                    <a:moveTo>
                      <a:pt x="0" y="145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40840" y="2385360"/>
                <a:ext cx="381240" cy="267840"/>
              </a:xfrm>
              <a:custGeom>
                <a:avLst/>
                <a:gdLst/>
                <a:ahLst/>
                <a:rect l="l" t="t" r="r" b="b"/>
                <a:pathLst>
                  <a:path w="232" h="163">
                    <a:moveTo>
                      <a:pt x="0" y="16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40840" y="2353680"/>
                <a:ext cx="381240" cy="251640"/>
              </a:xfrm>
              <a:custGeom>
                <a:avLst/>
                <a:gdLst/>
                <a:ahLst/>
                <a:rect l="l" t="t" r="r" b="b"/>
                <a:pathLst>
                  <a:path w="232" h="153">
                    <a:moveTo>
                      <a:pt x="0" y="152"/>
                    </a:moveTo>
                    <a:lnTo>
                      <a:pt x="2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5334840" y="2191320"/>
              <a:ext cx="356400" cy="196920"/>
              <a:chOff x="5334840" y="2191320"/>
              <a:chExt cx="356400" cy="196920"/>
            </a:xfrm>
          </p:grpSpPr>
          <p:sp>
            <p:nvSpPr>
              <p:cNvPr id="2228" name=""/>
              <p:cNvSpPr/>
              <p:nvPr/>
            </p:nvSpPr>
            <p:spPr>
              <a:xfrm>
                <a:off x="5334840" y="238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377680" y="2361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20160" y="233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66240" y="2311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514120" y="2286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558400" y="2263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604120" y="2237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646960" y="221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689800" y="219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5634720" y="2309400"/>
              <a:ext cx="338040" cy="210240"/>
              <a:chOff x="5634720" y="2309400"/>
              <a:chExt cx="338040" cy="210240"/>
            </a:xfrm>
          </p:grpSpPr>
          <p:sp>
            <p:nvSpPr>
              <p:cNvPr id="2238" name=""/>
              <p:cNvSpPr/>
              <p:nvPr/>
            </p:nvSpPr>
            <p:spPr>
              <a:xfrm>
                <a:off x="5634720" y="2516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673960" y="249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715000" y="246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759280" y="2437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03560" y="2411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46760" y="238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891040" y="2358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929920" y="233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71320" y="2309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47" name="" descr=""/>
          <p:cNvPicPr/>
          <p:nvPr/>
        </p:nvPicPr>
        <p:blipFill>
          <a:blip r:embed="rId2"/>
          <a:stretch/>
        </p:blipFill>
        <p:spPr>
          <a:xfrm>
            <a:off x="3701880" y="1914480"/>
            <a:ext cx="754200" cy="501840"/>
          </a:xfrm>
          <a:prstGeom prst="rect">
            <a:avLst/>
          </a:prstGeom>
          <a:ln w="0">
            <a:noFill/>
          </a:ln>
        </p:spPr>
      </p:pic>
      <p:pic>
        <p:nvPicPr>
          <p:cNvPr id="2248" name="" descr=""/>
          <p:cNvPicPr/>
          <p:nvPr/>
        </p:nvPicPr>
        <p:blipFill>
          <a:blip r:embed="rId3"/>
          <a:stretch/>
        </p:blipFill>
        <p:spPr>
          <a:xfrm>
            <a:off x="8102520" y="1914480"/>
            <a:ext cx="755640" cy="5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D37-3583-4710-8A30-30EB48EAEDE4}" type="slidenum">
              <a:t>10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954080" y="504360"/>
            <a:ext cx="5181840" cy="117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lotted Blocks Wor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893960" y="3278160"/>
            <a:ext cx="56451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651040" y="2567160"/>
            <a:ext cx="711360" cy="69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414680" y="2567160"/>
            <a:ext cx="709920" cy="696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874240" y="3290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37160" y="3290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229440" y="32781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927080" y="6008760"/>
            <a:ext cx="56451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690640" y="5297400"/>
            <a:ext cx="709920" cy="6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506840" y="4410000"/>
            <a:ext cx="709560" cy="696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913840" y="60213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676760" y="60213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68320" y="6008760"/>
            <a:ext cx="29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920960" y="3790800"/>
            <a:ext cx="55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045120" y="2560680"/>
            <a:ext cx="711360" cy="69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045120" y="1849320"/>
            <a:ext cx="711360" cy="696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078600" y="5297400"/>
            <a:ext cx="709560" cy="69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078600" y="4573440"/>
            <a:ext cx="709560" cy="69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31520" y="1790640"/>
            <a:ext cx="10976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S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5207040" y="4576680"/>
            <a:ext cx="729360" cy="1293120"/>
            <a:chOff x="5207040" y="4576680"/>
            <a:chExt cx="729360" cy="1293120"/>
          </a:xfrm>
        </p:grpSpPr>
        <p:grpSp>
          <p:nvGrpSpPr>
            <p:cNvPr id="2269" name=""/>
            <p:cNvGrpSpPr/>
            <p:nvPr/>
          </p:nvGrpSpPr>
          <p:grpSpPr>
            <a:xfrm>
              <a:off x="5207040" y="4576680"/>
              <a:ext cx="729360" cy="1293120"/>
              <a:chOff x="5207040" y="4576680"/>
              <a:chExt cx="729360" cy="1293120"/>
            </a:xfrm>
          </p:grpSpPr>
          <p:sp>
            <p:nvSpPr>
              <p:cNvPr id="2270" name=""/>
              <p:cNvSpPr/>
              <p:nvPr/>
            </p:nvSpPr>
            <p:spPr>
              <a:xfrm>
                <a:off x="5484600" y="457668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231520" y="480348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207040" y="514260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5497920" y="481176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2689200" y="3984480"/>
            <a:ext cx="729720" cy="1293120"/>
            <a:chOff x="2689200" y="3984480"/>
            <a:chExt cx="729720" cy="1293120"/>
          </a:xfrm>
        </p:grpSpPr>
        <p:grpSp>
          <p:nvGrpSpPr>
            <p:cNvPr id="2275" name=""/>
            <p:cNvGrpSpPr/>
            <p:nvPr/>
          </p:nvGrpSpPr>
          <p:grpSpPr>
            <a:xfrm>
              <a:off x="2689200" y="3984480"/>
              <a:ext cx="729720" cy="1293120"/>
              <a:chOff x="2689200" y="3984480"/>
              <a:chExt cx="729720" cy="1293120"/>
            </a:xfrm>
          </p:grpSpPr>
          <p:sp>
            <p:nvSpPr>
              <p:cNvPr id="2276" name=""/>
              <p:cNvSpPr/>
              <p:nvPr/>
            </p:nvSpPr>
            <p:spPr>
              <a:xfrm>
                <a:off x="2952000" y="398448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770920" y="4211640"/>
                <a:ext cx="62316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689200" y="4550400"/>
                <a:ext cx="72972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2879640" y="42328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1893960" y="3139920"/>
            <a:ext cx="652320" cy="130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427560" y="3139920"/>
            <a:ext cx="927000" cy="130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70320" y="3139920"/>
            <a:ext cx="822600" cy="138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808680" y="3139920"/>
            <a:ext cx="730440" cy="14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927080" y="5891040"/>
            <a:ext cx="650880" cy="130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467160" y="5883120"/>
            <a:ext cx="927000" cy="131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210280" y="5883120"/>
            <a:ext cx="822240" cy="138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842160" y="5883120"/>
            <a:ext cx="730080" cy="146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62D-E765-4B15-824D-AADEB5366C47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973080" y="762120"/>
            <a:ext cx="7236000" cy="552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Multi-Agent Tilewor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270240" y="3027240"/>
            <a:ext cx="2789280" cy="27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270240" y="441648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67028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933800" y="302724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210280" y="304020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513400" y="3040200"/>
            <a:ext cx="0" cy="27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78952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525840" y="302724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801960" y="3040200"/>
            <a:ext cx="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05440" y="3040200"/>
            <a:ext cx="0" cy="27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381560" y="3027240"/>
            <a:ext cx="0" cy="279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270240" y="554832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282840" y="527220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282840" y="498168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70240" y="470520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270240" y="415296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282840" y="387684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282840" y="3587760"/>
            <a:ext cx="27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270240" y="3309840"/>
            <a:ext cx="27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427640" y="446256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42764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70376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967280" y="4186080"/>
            <a:ext cx="196920" cy="196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268960" y="5318280"/>
            <a:ext cx="198360" cy="196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559480" y="4751280"/>
            <a:ext cx="196920" cy="198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559480" y="3355920"/>
            <a:ext cx="196920" cy="198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691160" y="4541760"/>
            <a:ext cx="1090440" cy="52560"/>
          </a:xfrm>
          <a:prstGeom prst="rect">
            <a:avLst/>
          </a:prstGeom>
          <a:solidFill>
            <a:srgbClr val="c00c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952800" y="3895560"/>
            <a:ext cx="39600" cy="1067040"/>
          </a:xfrm>
          <a:prstGeom prst="rect">
            <a:avLst/>
          </a:prstGeom>
          <a:solidFill>
            <a:srgbClr val="c00c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2824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09104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104360" y="358776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116960" y="5259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222880" y="329724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222880" y="3573360"/>
            <a:ext cx="2908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879800" y="5048280"/>
            <a:ext cx="25272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998240" y="4943520"/>
            <a:ext cx="25272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206520" y="3112920"/>
            <a:ext cx="2894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312720" y="2994120"/>
            <a:ext cx="277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325920" y="2876400"/>
            <a:ext cx="5547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115880" y="2508120"/>
            <a:ext cx="6962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o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795840" y="3224160"/>
            <a:ext cx="657000" cy="698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4230360" y="2816280"/>
            <a:ext cx="236520" cy="40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467320" y="3198960"/>
            <a:ext cx="433440" cy="500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5927760" y="3198960"/>
            <a:ext cx="644400" cy="210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787040" y="4297320"/>
            <a:ext cx="1223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obstac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440" y="3803760"/>
            <a:ext cx="342720" cy="1355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67120" y="4487760"/>
            <a:ext cx="801720" cy="79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151080" y="2922480"/>
            <a:ext cx="473040" cy="525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839960" y="2770200"/>
            <a:ext cx="9950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g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309760" y="3106800"/>
            <a:ext cx="801720" cy="7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08120" y="1790640"/>
            <a:ext cx="1268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W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AF7-67F4-48EA-98D9-F4749D356F89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17400" y="457200"/>
            <a:ext cx="7909200" cy="61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ask Oriented Domain (TOD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288800" y="1862280"/>
            <a:ext cx="7157880" cy="259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ple &lt;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Monotype Corsiva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the set of all possible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Monotype Corsiva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…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list of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[2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Monotype Corsiva"/>
              </a:rPr>
              <a:t>T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874800" y="4705200"/>
            <a:ext cx="748656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rtl="1">
              <a:lnSpc>
                <a:spcPct val="88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An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encounter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is a list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,…,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of finite sets of tasks from </a:t>
            </a:r>
            <a:r>
              <a:rPr b="0" i="1" lang="en-US" sz="33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 such that agent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needs to achieve all the tasks in T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(also called agent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’s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goal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847-B70E-492B-8601-C847ABF1DE07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508880" cy="1658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one Call Competi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0080" y="1784520"/>
            <a:ext cx="8302680" cy="1388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wishes to place long-distanc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s simultaneously bid, sending proposed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 automatically chooses the carrier (dynam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127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149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4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1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166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167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168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169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3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4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1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184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185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0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192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193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200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201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2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208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209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3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9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1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3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224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225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6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1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232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233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234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5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4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8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249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250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1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2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257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258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9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0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265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7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8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0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1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2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274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77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9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281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85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7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5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297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298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299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303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4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5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6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3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316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7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9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320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3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324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328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9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0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31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332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333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4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337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0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341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2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3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4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345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6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9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87" name=""/>
          <p:cNvSpPr/>
          <p:nvPr/>
        </p:nvSpPr>
        <p:spPr>
          <a:xfrm>
            <a:off x="3685680" y="339264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78280" y="341316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65320" y="33926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96400" y="41641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3960" y="45007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90720" y="442116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A6D-87E5-41F8-9A8E-A11DC0255D1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342800" y="468000"/>
            <a:ext cx="6141960" cy="72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Bloc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347480" y="1901520"/>
            <a:ext cx="6427800" cy="474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cise definition of what a goa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a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the conflict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-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79B-B5B8-4F5D-A130-1059C9EB6B80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703440" y="304920"/>
            <a:ext cx="7735680" cy="1154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eal and Utility in two-agent T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153280" cy="257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air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deal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25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Cost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st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996-DEA0-4FFC-92B6-FE44EBE6C909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487160" y="534600"/>
            <a:ext cx="61657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Negotiation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933480" y="2217600"/>
            <a:ext cx="7354800" cy="385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use a product-maximizing negotiation protocol (as in Nash bargaining theor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be a symmetric PMM (product maximizing mechanis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1-step protocol, monotonic concession protoco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F8A-7638-4A44-8043-878AE34444A4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342800" y="468000"/>
            <a:ext cx="6141960" cy="72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Bloc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347840" y="1882800"/>
            <a:ext cx="6408720" cy="476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cise definition of what a goa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a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0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inition of the conflict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196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tive-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CA3-F584-49E1-A8EB-EAE6B5CAC3CB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746280" y="228240"/>
            <a:ext cx="7651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with Incomplete Inform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66408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71636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506680" y="30020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957400" y="324792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67360" y="326700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549520" y="508644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80060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759200" y="4075200"/>
            <a:ext cx="42732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752560" y="346392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219560" y="532116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994280" y="347292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003640" y="4557600"/>
            <a:ext cx="0" cy="4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762000" y="30211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867200" y="41036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2544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61396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658960" y="512748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72744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10040" y="5137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527200" y="40323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623680" y="40622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752560" y="455760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030480" y="531180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837960" y="512460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5410080" y="4800600"/>
            <a:ext cx="3368880" cy="141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the agents don’t know each other’s let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27204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627120" y="1808280"/>
            <a:ext cx="2025360" cy="837720"/>
            <a:chOff x="627120" y="1808280"/>
            <a:chExt cx="2025360" cy="837720"/>
          </a:xfrm>
        </p:grpSpPr>
        <p:sp>
          <p:nvSpPr>
            <p:cNvPr id="2379" name=""/>
            <p:cNvSpPr/>
            <p:nvPr/>
          </p:nvSpPr>
          <p:spPr>
            <a:xfrm>
              <a:off x="627120" y="1808280"/>
              <a:ext cx="2025360" cy="83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681480" y="1834560"/>
              <a:ext cx="1306080" cy="663840"/>
              <a:chOff x="681480" y="1834560"/>
              <a:chExt cx="1306080" cy="663840"/>
            </a:xfrm>
          </p:grpSpPr>
          <p:grpSp>
            <p:nvGrpSpPr>
              <p:cNvPr id="2381" name=""/>
              <p:cNvGrpSpPr/>
              <p:nvPr/>
            </p:nvGrpSpPr>
            <p:grpSpPr>
              <a:xfrm>
                <a:off x="681480" y="1834560"/>
                <a:ext cx="387360" cy="198360"/>
                <a:chOff x="681480" y="1834560"/>
                <a:chExt cx="387360" cy="198360"/>
              </a:xfrm>
            </p:grpSpPr>
            <p:sp>
              <p:nvSpPr>
                <p:cNvPr id="2382" name=""/>
                <p:cNvSpPr/>
                <p:nvPr/>
              </p:nvSpPr>
              <p:spPr>
                <a:xfrm>
                  <a:off x="681480" y="1834560"/>
                  <a:ext cx="387360" cy="23040"/>
                </a:xfrm>
                <a:custGeom>
                  <a:avLst/>
                  <a:gdLst/>
                  <a:ahLst/>
                  <a:rect l="l" t="t" r="r" b="b"/>
                  <a:pathLst>
                    <a:path w="236" h="1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81480" y="1891800"/>
                  <a:ext cx="374400" cy="24480"/>
                </a:xfrm>
                <a:custGeom>
                  <a:avLst/>
                  <a:gdLst/>
                  <a:ahLst/>
                  <a:rect l="l" t="t" r="r" b="b"/>
                  <a:pathLst>
                    <a:path w="228" h="15">
                      <a:moveTo>
                        <a:pt x="0" y="0"/>
                      </a:moveTo>
                      <a:lnTo>
                        <a:pt x="227" y="0"/>
                      </a:lnTo>
                      <a:lnTo>
                        <a:pt x="227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81480" y="1951200"/>
                  <a:ext cx="315360" cy="23040"/>
                </a:xfrm>
                <a:custGeom>
                  <a:avLst/>
                  <a:gdLst/>
                  <a:ahLst/>
                  <a:rect l="l" t="t" r="r" b="b"/>
                  <a:pathLst>
                    <a:path w="192" h="14">
                      <a:moveTo>
                        <a:pt x="0" y="0"/>
                      </a:moveTo>
                      <a:lnTo>
                        <a:pt x="191" y="0"/>
                      </a:lnTo>
                      <a:lnTo>
                        <a:pt x="191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81480" y="2008440"/>
                  <a:ext cx="359640" cy="24480"/>
                </a:xfrm>
                <a:custGeom>
                  <a:avLst/>
                  <a:gdLst/>
                  <a:ahLst/>
                  <a:rect l="l" t="t" r="r" b="b"/>
                  <a:pathLst>
                    <a:path w="219" h="15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14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396440" y="2168280"/>
                <a:ext cx="591120" cy="330120"/>
                <a:chOff x="1396440" y="2168280"/>
                <a:chExt cx="591120" cy="3301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1396440" y="2168280"/>
                  <a:ext cx="561960" cy="39240"/>
                </a:xfrm>
                <a:custGeom>
                  <a:avLst/>
                  <a:gdLst/>
                  <a:ahLst/>
                  <a:rect l="l" t="t" r="r" b="b"/>
                  <a:pathLst>
                    <a:path w="342" h="24">
                      <a:moveTo>
                        <a:pt x="0" y="0"/>
                      </a:moveTo>
                      <a:lnTo>
                        <a:pt x="341" y="0"/>
                      </a:lnTo>
                      <a:lnTo>
                        <a:pt x="341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1396440" y="2242080"/>
                  <a:ext cx="546840" cy="39240"/>
                </a:xfrm>
                <a:custGeom>
                  <a:avLst/>
                  <a:gdLst/>
                  <a:ahLst/>
                  <a:rect l="l" t="t" r="r" b="b"/>
                  <a:pathLst>
                    <a:path w="333" h="24">
                      <a:moveTo>
                        <a:pt x="0" y="0"/>
                      </a:moveTo>
                      <a:lnTo>
                        <a:pt x="332" y="0"/>
                      </a:lnTo>
                      <a:lnTo>
                        <a:pt x="332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1396440" y="2314440"/>
                  <a:ext cx="591120" cy="39240"/>
                </a:xfrm>
                <a:custGeom>
                  <a:avLst/>
                  <a:gdLst/>
                  <a:ahLst/>
                  <a:rect l="l" t="t" r="r" b="b"/>
                  <a:pathLst>
                    <a:path w="360" h="24">
                      <a:moveTo>
                        <a:pt x="0" y="0"/>
                      </a:moveTo>
                      <a:lnTo>
                        <a:pt x="359" y="0"/>
                      </a:lnTo>
                      <a:lnTo>
                        <a:pt x="359" y="23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1396440" y="2388600"/>
                  <a:ext cx="502560" cy="37440"/>
                </a:xfrm>
                <a:custGeom>
                  <a:avLst/>
                  <a:gdLst/>
                  <a:ahLst/>
                  <a:rect l="l" t="t" r="r" b="b"/>
                  <a:pathLst>
                    <a:path w="306" h="23">
                      <a:moveTo>
                        <a:pt x="0" y="0"/>
                      </a:moveTo>
                      <a:lnTo>
                        <a:pt x="305" y="0"/>
                      </a:lnTo>
                      <a:lnTo>
                        <a:pt x="305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1657440" y="2460960"/>
                  <a:ext cx="328680" cy="37440"/>
                </a:xfrm>
                <a:custGeom>
                  <a:avLst/>
                  <a:gdLst/>
                  <a:ahLst/>
                  <a:rect l="l" t="t" r="r" b="b"/>
                  <a:pathLst>
                    <a:path w="200" h="23">
                      <a:moveTo>
                        <a:pt x="0" y="0"/>
                      </a:moveTo>
                      <a:lnTo>
                        <a:pt x="199" y="0"/>
                      </a:lnTo>
                      <a:lnTo>
                        <a:pt x="199" y="22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2" name=""/>
            <p:cNvGrpSpPr/>
            <p:nvPr/>
          </p:nvGrpSpPr>
          <p:grpSpPr>
            <a:xfrm>
              <a:off x="2391120" y="1834560"/>
              <a:ext cx="209520" cy="219600"/>
              <a:chOff x="2391120" y="1834560"/>
              <a:chExt cx="209520" cy="219600"/>
            </a:xfrm>
          </p:grpSpPr>
          <p:grpSp>
            <p:nvGrpSpPr>
              <p:cNvPr id="2393" name=""/>
              <p:cNvGrpSpPr/>
              <p:nvPr/>
            </p:nvGrpSpPr>
            <p:grpSpPr>
              <a:xfrm>
                <a:off x="2391120" y="1834560"/>
                <a:ext cx="209520" cy="219600"/>
                <a:chOff x="2391120" y="1834560"/>
                <a:chExt cx="209520" cy="21960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2397240" y="1834560"/>
                  <a:ext cx="190440" cy="21636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259740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1" y="50"/>
                      </a:lnTo>
                      <a:lnTo>
                        <a:pt x="1" y="55"/>
                      </a:lnTo>
                      <a:lnTo>
                        <a:pt x="0" y="55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" y="67"/>
                      </a:lnTo>
                      <a:lnTo>
                        <a:pt x="0" y="67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1" y="83"/>
                      </a:lnTo>
                      <a:lnTo>
                        <a:pt x="1" y="88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1" y="94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5"/>
                      </a:lnTo>
                      <a:lnTo>
                        <a:pt x="1" y="105"/>
                      </a:lnTo>
                      <a:lnTo>
                        <a:pt x="1" y="111"/>
                      </a:lnTo>
                      <a:lnTo>
                        <a:pt x="0" y="111"/>
                      </a:lnTo>
                      <a:lnTo>
                        <a:pt x="0" y="116"/>
                      </a:lnTo>
                      <a:lnTo>
                        <a:pt x="1" y="116"/>
                      </a:lnTo>
                      <a:lnTo>
                        <a:pt x="1" y="122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1" y="128"/>
                      </a:lnTo>
                      <a:lnTo>
                        <a:pt x="1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2391120" y="1834560"/>
                  <a:ext cx="3240" cy="219600"/>
                </a:xfrm>
                <a:custGeom>
                  <a:avLst/>
                  <a:gdLst/>
                  <a:ahLst/>
                  <a:rect l="l" t="t" r="r" b="b"/>
                  <a:pathLst>
                    <a:path w="2" h="13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1" y="45"/>
                      </a:lnTo>
                      <a:lnTo>
                        <a:pt x="1" y="50"/>
                      </a:lnTo>
                      <a:lnTo>
                        <a:pt x="0" y="50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1"/>
                      </a:lnTo>
                      <a:lnTo>
                        <a:pt x="0" y="61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0" y="72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1" y="83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1" y="88"/>
                      </a:lnTo>
                      <a:lnTo>
                        <a:pt x="1" y="94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1" y="100"/>
                      </a:lnTo>
                      <a:lnTo>
                        <a:pt x="1" y="105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1" y="111"/>
                      </a:lnTo>
                      <a:lnTo>
                        <a:pt x="1" y="116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1" y="122"/>
                      </a:lnTo>
                      <a:lnTo>
                        <a:pt x="1" y="128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1" y="133"/>
                      </a:lnTo>
                      <a:lnTo>
                        <a:pt x="1" y="13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2418840" y="1842480"/>
                <a:ext cx="155520" cy="197640"/>
                <a:chOff x="2418840" y="1842480"/>
                <a:chExt cx="155520" cy="19764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2546640" y="1898280"/>
                  <a:ext cx="27720" cy="103320"/>
                </a:xfrm>
                <a:custGeom>
                  <a:avLst/>
                  <a:gdLst/>
                  <a:ahLst/>
                  <a:rect l="l" t="t" r="r" b="b"/>
                  <a:pathLst>
                    <a:path w="17" h="63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10" y="17"/>
                      </a:lnTo>
                      <a:lnTo>
                        <a:pt x="10" y="24"/>
                      </a:lnTo>
                      <a:lnTo>
                        <a:pt x="11" y="29"/>
                      </a:lnTo>
                      <a:lnTo>
                        <a:pt x="12" y="34"/>
                      </a:lnTo>
                      <a:lnTo>
                        <a:pt x="13" y="39"/>
                      </a:lnTo>
                      <a:lnTo>
                        <a:pt x="14" y="44"/>
                      </a:lnTo>
                      <a:lnTo>
                        <a:pt x="15" y="48"/>
                      </a:lnTo>
                      <a:lnTo>
                        <a:pt x="16" y="53"/>
                      </a:lnTo>
                      <a:lnTo>
                        <a:pt x="16" y="56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2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8" y="60"/>
                      </a:lnTo>
                      <a:lnTo>
                        <a:pt x="6" y="61"/>
                      </a:lnTo>
                      <a:lnTo>
                        <a:pt x="5" y="62"/>
                      </a:lnTo>
                      <a:lnTo>
                        <a:pt x="4" y="62"/>
                      </a:lnTo>
                      <a:lnTo>
                        <a:pt x="3" y="62"/>
                      </a:lnTo>
                      <a:lnTo>
                        <a:pt x="2" y="62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2" y="59"/>
                      </a:lnTo>
                      <a:lnTo>
                        <a:pt x="2" y="58"/>
                      </a:lnTo>
                      <a:lnTo>
                        <a:pt x="3" y="54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2" y="45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3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9" name=""/>
                <p:cNvGrpSpPr/>
                <p:nvPr/>
              </p:nvGrpSpPr>
              <p:grpSpPr>
                <a:xfrm>
                  <a:off x="2546640" y="1904400"/>
                  <a:ext cx="25560" cy="83160"/>
                  <a:chOff x="2546640" y="1904400"/>
                  <a:chExt cx="25560" cy="83160"/>
                </a:xfrm>
              </p:grpSpPr>
              <p:sp>
                <p:nvSpPr>
                  <p:cNvPr id="2400" name=""/>
                  <p:cNvSpPr/>
                  <p:nvPr/>
                </p:nvSpPr>
                <p:spPr>
                  <a:xfrm>
                    <a:off x="2551320" y="1978200"/>
                    <a:ext cx="208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2548080" y="1959840"/>
                    <a:ext cx="20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3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2548080" y="1942200"/>
                    <a:ext cx="16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2546640" y="1929240"/>
                    <a:ext cx="14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2546640" y="191556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2546640" y="190440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2533320" y="1902960"/>
                  <a:ext cx="11160" cy="56880"/>
                  <a:chOff x="2533320" y="1902960"/>
                  <a:chExt cx="11160" cy="5688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>
                    <a:off x="2533320" y="1902960"/>
                    <a:ext cx="972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8"/>
                        </a:lnTo>
                        <a:lnTo>
                          <a:pt x="4" y="11"/>
                        </a:lnTo>
                        <a:lnTo>
                          <a:pt x="4" y="15"/>
                        </a:lnTo>
                        <a:lnTo>
                          <a:pt x="4" y="18"/>
                        </a:lnTo>
                        <a:lnTo>
                          <a:pt x="5" y="21"/>
                        </a:lnTo>
                        <a:lnTo>
                          <a:pt x="5" y="25"/>
                        </a:lnTo>
                        <a:lnTo>
                          <a:pt x="5" y="28"/>
                        </a:lnTo>
                        <a:lnTo>
                          <a:pt x="5" y="30"/>
                        </a:lnTo>
                        <a:lnTo>
                          <a:pt x="5" y="33"/>
                        </a:lnTo>
                        <a:lnTo>
                          <a:pt x="5" y="34"/>
                        </a:lnTo>
                        <a:lnTo>
                          <a:pt x="4" y="30"/>
                        </a:lnTo>
                        <a:lnTo>
                          <a:pt x="4" y="27"/>
                        </a:lnTo>
                        <a:lnTo>
                          <a:pt x="3" y="23"/>
                        </a:lnTo>
                        <a:lnTo>
                          <a:pt x="2" y="19"/>
                        </a:lnTo>
                        <a:lnTo>
                          <a:pt x="1" y="15"/>
                        </a:lnTo>
                        <a:lnTo>
                          <a:pt x="1" y="11"/>
                        </a:lnTo>
                        <a:lnTo>
                          <a:pt x="1" y="7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2533320" y="19094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2536560" y="1917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2538360" y="192744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2539800" y="1935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2541240" y="1945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3" name=""/>
                <p:cNvGrpSpPr/>
                <p:nvPr/>
              </p:nvGrpSpPr>
              <p:grpSpPr>
                <a:xfrm>
                  <a:off x="2484000" y="1870200"/>
                  <a:ext cx="11160" cy="40320"/>
                  <a:chOff x="2484000" y="1870200"/>
                  <a:chExt cx="11160" cy="40320"/>
                </a:xfrm>
              </p:grpSpPr>
              <p:sp>
                <p:nvSpPr>
                  <p:cNvPr id="2414" name=""/>
                  <p:cNvSpPr/>
                  <p:nvPr/>
                </p:nvSpPr>
                <p:spPr>
                  <a:xfrm>
                    <a:off x="2485800" y="1870200"/>
                    <a:ext cx="93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5" y="8"/>
                        </a:lnTo>
                        <a:lnTo>
                          <a:pt x="4" y="14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4" y="21"/>
                        </a:lnTo>
                        <a:lnTo>
                          <a:pt x="4" y="23"/>
                        </a:lnTo>
                        <a:lnTo>
                          <a:pt x="4" y="24"/>
                        </a:lnTo>
                        <a:lnTo>
                          <a:pt x="3" y="19"/>
                        </a:lnTo>
                        <a:lnTo>
                          <a:pt x="2" y="15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15" name=""/>
                  <p:cNvGrpSpPr/>
                  <p:nvPr/>
                </p:nvGrpSpPr>
                <p:grpSpPr>
                  <a:xfrm>
                    <a:off x="2484000" y="1874880"/>
                    <a:ext cx="11160" cy="25560"/>
                    <a:chOff x="2484000" y="1874880"/>
                    <a:chExt cx="11160" cy="25560"/>
                  </a:xfrm>
                </p:grpSpPr>
                <p:sp>
                  <p:nvSpPr>
                    <p:cNvPr id="2416" name=""/>
                    <p:cNvSpPr/>
                    <p:nvPr/>
                  </p:nvSpPr>
                  <p:spPr>
                    <a:xfrm>
                      <a:off x="2484000" y="187488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>
                      <a:off x="2491920" y="1878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"/>
                    <p:cNvSpPr/>
                    <p:nvPr/>
                  </p:nvSpPr>
                  <p:spPr>
                    <a:xfrm>
                      <a:off x="2484000" y="18846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2490480" y="188748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>
                      <a:off x="2488680" y="1898640"/>
                      <a:ext cx="5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21" name=""/>
                <p:cNvSpPr/>
                <p:nvPr/>
              </p:nvSpPr>
              <p:spPr>
                <a:xfrm>
                  <a:off x="2544840" y="19915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487600" y="1876680"/>
                  <a:ext cx="59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72">
                      <a:moveTo>
                        <a:pt x="8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7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5"/>
                      </a:lnTo>
                      <a:lnTo>
                        <a:pt x="28" y="31"/>
                      </a:lnTo>
                      <a:lnTo>
                        <a:pt x="30" y="38"/>
                      </a:lnTo>
                      <a:lnTo>
                        <a:pt x="31" y="42"/>
                      </a:lnTo>
                      <a:lnTo>
                        <a:pt x="33" y="48"/>
                      </a:lnTo>
                      <a:lnTo>
                        <a:pt x="35" y="55"/>
                      </a:lnTo>
                      <a:lnTo>
                        <a:pt x="35" y="59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8"/>
                      </a:lnTo>
                      <a:lnTo>
                        <a:pt x="35" y="70"/>
                      </a:lnTo>
                      <a:lnTo>
                        <a:pt x="35" y="71"/>
                      </a:lnTo>
                      <a:lnTo>
                        <a:pt x="35" y="70"/>
                      </a:lnTo>
                      <a:lnTo>
                        <a:pt x="34" y="69"/>
                      </a:lnTo>
                      <a:lnTo>
                        <a:pt x="33" y="68"/>
                      </a:lnTo>
                      <a:lnTo>
                        <a:pt x="32" y="66"/>
                      </a:lnTo>
                      <a:lnTo>
                        <a:pt x="31" y="66"/>
                      </a:lnTo>
                      <a:lnTo>
                        <a:pt x="28" y="66"/>
                      </a:lnTo>
                      <a:lnTo>
                        <a:pt x="25" y="65"/>
                      </a:lnTo>
                      <a:lnTo>
                        <a:pt x="22" y="66"/>
                      </a:lnTo>
                      <a:lnTo>
                        <a:pt x="18" y="67"/>
                      </a:lnTo>
                      <a:lnTo>
                        <a:pt x="15" y="68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7" y="70"/>
                      </a:lnTo>
                      <a:lnTo>
                        <a:pt x="6" y="70"/>
                      </a:lnTo>
                      <a:lnTo>
                        <a:pt x="4" y="70"/>
                      </a:lnTo>
                      <a:lnTo>
                        <a:pt x="4" y="69"/>
                      </a:lnTo>
                      <a:lnTo>
                        <a:pt x="2" y="68"/>
                      </a:lnTo>
                      <a:lnTo>
                        <a:pt x="1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4" y="63"/>
                      </a:lnTo>
                      <a:lnTo>
                        <a:pt x="8" y="63"/>
                      </a:lnTo>
                      <a:lnTo>
                        <a:pt x="11" y="63"/>
                      </a:lnTo>
                      <a:lnTo>
                        <a:pt x="14" y="63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4" y="51"/>
                      </a:lnTo>
                      <a:lnTo>
                        <a:pt x="12" y="46"/>
                      </a:lnTo>
                      <a:lnTo>
                        <a:pt x="11" y="38"/>
                      </a:lnTo>
                      <a:lnTo>
                        <a:pt x="8" y="32"/>
                      </a:lnTo>
                      <a:lnTo>
                        <a:pt x="7" y="27"/>
                      </a:lnTo>
                      <a:lnTo>
                        <a:pt x="5" y="23"/>
                      </a:lnTo>
                      <a:lnTo>
                        <a:pt x="6" y="21"/>
                      </a:lnTo>
                      <a:lnTo>
                        <a:pt x="6" y="18"/>
                      </a:lnTo>
                      <a:lnTo>
                        <a:pt x="6" y="15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7" y="4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3" name=""/>
                <p:cNvGrpSpPr/>
                <p:nvPr/>
              </p:nvGrpSpPr>
              <p:grpSpPr>
                <a:xfrm>
                  <a:off x="2495520" y="1883160"/>
                  <a:ext cx="50400" cy="97920"/>
                  <a:chOff x="2495520" y="1883160"/>
                  <a:chExt cx="50400" cy="97920"/>
                </a:xfrm>
              </p:grpSpPr>
              <p:sp>
                <p:nvSpPr>
                  <p:cNvPr id="2424" name=""/>
                  <p:cNvSpPr/>
                  <p:nvPr/>
                </p:nvSpPr>
                <p:spPr>
                  <a:xfrm>
                    <a:off x="2496960" y="1897920"/>
                    <a:ext cx="342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5"/>
                        </a:lnTo>
                        <a:lnTo>
                          <a:pt x="20" y="9"/>
                        </a:lnTo>
                        <a:lnTo>
                          <a:pt x="19" y="9"/>
                        </a:lnTo>
                        <a:lnTo>
                          <a:pt x="17" y="8"/>
                        </a:lnTo>
                        <a:lnTo>
                          <a:pt x="15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2495520" y="1910880"/>
                    <a:ext cx="370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2"/>
                        </a:move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5" y="3"/>
                        </a:lnTo>
                        <a:lnTo>
                          <a:pt x="18" y="4"/>
                        </a:lnTo>
                        <a:lnTo>
                          <a:pt x="20" y="6"/>
                        </a:lnTo>
                        <a:lnTo>
                          <a:pt x="22" y="6"/>
                        </a:lnTo>
                        <a:lnTo>
                          <a:pt x="22" y="9"/>
                        </a:lnTo>
                        <a:lnTo>
                          <a:pt x="21" y="8"/>
                        </a:lnTo>
                        <a:lnTo>
                          <a:pt x="17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1" y="5"/>
                        </a:lnTo>
                        <a:lnTo>
                          <a:pt x="9" y="4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2502000" y="1928880"/>
                    <a:ext cx="35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20" y="4"/>
                        </a:lnTo>
                        <a:lnTo>
                          <a:pt x="21" y="8"/>
                        </a:lnTo>
                        <a:lnTo>
                          <a:pt x="20" y="7"/>
                        </a:ln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3" y="5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2506680" y="1946880"/>
                    <a:ext cx="35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5" y="2"/>
                        </a:lnTo>
                        <a:lnTo>
                          <a:pt x="17" y="3"/>
                        </a:lnTo>
                        <a:lnTo>
                          <a:pt x="18" y="4"/>
                        </a:lnTo>
                        <a:lnTo>
                          <a:pt x="20" y="5"/>
                        </a:lnTo>
                        <a:lnTo>
                          <a:pt x="20" y="6"/>
                        </a:lnTo>
                        <a:lnTo>
                          <a:pt x="21" y="9"/>
                        </a:lnTo>
                        <a:lnTo>
                          <a:pt x="20" y="8"/>
                        </a:lnTo>
                        <a:lnTo>
                          <a:pt x="18" y="7"/>
                        </a:lnTo>
                        <a:lnTo>
                          <a:pt x="16" y="6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2513160" y="1967760"/>
                    <a:ext cx="32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4" y="2"/>
                        </a:lnTo>
                        <a:lnTo>
                          <a:pt x="17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6"/>
                        </a:lnTo>
                        <a:lnTo>
                          <a:pt x="19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2498760" y="1883160"/>
                    <a:ext cx="30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3" y="2"/>
                        </a:lnTo>
                        <a:lnTo>
                          <a:pt x="16" y="3"/>
                        </a:lnTo>
                        <a:lnTo>
                          <a:pt x="17" y="5"/>
                        </a:lnTo>
                        <a:lnTo>
                          <a:pt x="18" y="5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6" y="7"/>
                        </a:lnTo>
                        <a:lnTo>
                          <a:pt x="14" y="6"/>
                        </a:lnTo>
                        <a:lnTo>
                          <a:pt x="12" y="5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0" name=""/>
                <p:cNvSpPr/>
                <p:nvPr/>
              </p:nvSpPr>
              <p:spPr>
                <a:xfrm>
                  <a:off x="2486160" y="196704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3" y="5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486160" y="196704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18840" y="1873440"/>
                  <a:ext cx="14400" cy="139320"/>
                </a:xfrm>
                <a:custGeom>
                  <a:avLst/>
                  <a:gdLst/>
                  <a:ahLst/>
                  <a:rect l="l" t="t" r="r" b="b"/>
                  <a:pathLst>
                    <a:path w="9" h="85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4"/>
                      </a:lnTo>
                      <a:lnTo>
                        <a:pt x="0" y="31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2" y="53"/>
                      </a:lnTo>
                      <a:lnTo>
                        <a:pt x="3" y="60"/>
                      </a:lnTo>
                      <a:lnTo>
                        <a:pt x="5" y="69"/>
                      </a:lnTo>
                      <a:lnTo>
                        <a:pt x="6" y="74"/>
                      </a:lnTo>
                      <a:lnTo>
                        <a:pt x="6" y="79"/>
                      </a:lnTo>
                      <a:lnTo>
                        <a:pt x="6" y="84"/>
                      </a:lnTo>
                      <a:lnTo>
                        <a:pt x="8" y="80"/>
                      </a:lnTo>
                      <a:lnTo>
                        <a:pt x="8" y="76"/>
                      </a:lnTo>
                      <a:lnTo>
                        <a:pt x="7" y="71"/>
                      </a:lnTo>
                      <a:lnTo>
                        <a:pt x="6" y="66"/>
                      </a:lnTo>
                      <a:lnTo>
                        <a:pt x="5" y="62"/>
                      </a:lnTo>
                      <a:lnTo>
                        <a:pt x="4" y="55"/>
                      </a:lnTo>
                      <a:lnTo>
                        <a:pt x="3" y="52"/>
                      </a:lnTo>
                      <a:lnTo>
                        <a:pt x="2" y="47"/>
                      </a:lnTo>
                      <a:lnTo>
                        <a:pt x="2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3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3" name=""/>
                <p:cNvGrpSpPr/>
                <p:nvPr/>
              </p:nvGrpSpPr>
              <p:grpSpPr>
                <a:xfrm>
                  <a:off x="2420280" y="1842480"/>
                  <a:ext cx="15840" cy="15840"/>
                  <a:chOff x="2420280" y="1842480"/>
                  <a:chExt cx="15840" cy="15840"/>
                </a:xfrm>
              </p:grpSpPr>
              <p:grpSp>
                <p:nvGrpSpPr>
                  <p:cNvPr id="2434" name=""/>
                  <p:cNvGrpSpPr/>
                  <p:nvPr/>
                </p:nvGrpSpPr>
                <p:grpSpPr>
                  <a:xfrm>
                    <a:off x="2420280" y="1842480"/>
                    <a:ext cx="15840" cy="15840"/>
                    <a:chOff x="2420280" y="1842480"/>
                    <a:chExt cx="15840" cy="15840"/>
                  </a:xfrm>
                </p:grpSpPr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2420280" y="1845720"/>
                      <a:ext cx="158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6" y="4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3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"/>
                    <p:cNvSpPr/>
                    <p:nvPr/>
                  </p:nvSpPr>
                  <p:spPr>
                    <a:xfrm>
                      <a:off x="2423520" y="185508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1"/>
                          </a:move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>
                      <a:off x="2426760" y="1842480"/>
                      <a:ext cx="61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38" name=""/>
                  <p:cNvSpPr/>
                  <p:nvPr/>
                </p:nvSpPr>
                <p:spPr>
                  <a:xfrm>
                    <a:off x="2420280" y="184572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9" name=""/>
                <p:cNvSpPr/>
                <p:nvPr/>
              </p:nvSpPr>
              <p:spPr>
                <a:xfrm>
                  <a:off x="2431800" y="1911240"/>
                  <a:ext cx="80280" cy="67320"/>
                </a:xfrm>
                <a:custGeom>
                  <a:avLst/>
                  <a:gdLst/>
                  <a:ahLst/>
                  <a:rect l="l" t="t" r="r" b="b"/>
                  <a:pathLst>
                    <a:path w="49" h="41">
                      <a:moveTo>
                        <a:pt x="3" y="2"/>
                      </a:move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4" y="1"/>
                      </a:lnTo>
                      <a:lnTo>
                        <a:pt x="27" y="3"/>
                      </a:lnTo>
                      <a:lnTo>
                        <a:pt x="30" y="4"/>
                      </a:lnTo>
                      <a:lnTo>
                        <a:pt x="34" y="6"/>
                      </a:lnTo>
                      <a:lnTo>
                        <a:pt x="37" y="8"/>
                      </a:lnTo>
                      <a:lnTo>
                        <a:pt x="39" y="10"/>
                      </a:lnTo>
                      <a:lnTo>
                        <a:pt x="40" y="10"/>
                      </a:lnTo>
                      <a:lnTo>
                        <a:pt x="42" y="17"/>
                      </a:lnTo>
                      <a:lnTo>
                        <a:pt x="44" y="23"/>
                      </a:lnTo>
                      <a:lnTo>
                        <a:pt x="45" y="28"/>
                      </a:lnTo>
                      <a:lnTo>
                        <a:pt x="47" y="35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47" y="39"/>
                      </a:lnTo>
                      <a:lnTo>
                        <a:pt x="45" y="37"/>
                      </a:lnTo>
                      <a:lnTo>
                        <a:pt x="44" y="36"/>
                      </a:lnTo>
                      <a:lnTo>
                        <a:pt x="37" y="33"/>
                      </a:lnTo>
                      <a:lnTo>
                        <a:pt x="34" y="32"/>
                      </a:lnTo>
                      <a:lnTo>
                        <a:pt x="30" y="31"/>
                      </a:lnTo>
                      <a:lnTo>
                        <a:pt x="27" y="30"/>
                      </a:lnTo>
                      <a:lnTo>
                        <a:pt x="24" y="30"/>
                      </a:lnTo>
                      <a:lnTo>
                        <a:pt x="19" y="30"/>
                      </a:lnTo>
                      <a:lnTo>
                        <a:pt x="15" y="30"/>
                      </a:lnTo>
                      <a:lnTo>
                        <a:pt x="12" y="31"/>
                      </a:lnTo>
                      <a:lnTo>
                        <a:pt x="7" y="32"/>
                      </a:lnTo>
                      <a:lnTo>
                        <a:pt x="5" y="33"/>
                      </a:lnTo>
                      <a:lnTo>
                        <a:pt x="3" y="34"/>
                      </a:lnTo>
                      <a:lnTo>
                        <a:pt x="0" y="35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4" y="7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0" name=""/>
                <p:cNvGrpSpPr/>
                <p:nvPr/>
              </p:nvGrpSpPr>
              <p:grpSpPr>
                <a:xfrm>
                  <a:off x="2435040" y="1901520"/>
                  <a:ext cx="74880" cy="66600"/>
                  <a:chOff x="2435040" y="1901520"/>
                  <a:chExt cx="74880" cy="6660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2438280" y="1901520"/>
                    <a:ext cx="583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5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2"/>
                        </a:lnTo>
                        <a:lnTo>
                          <a:pt x="26" y="4"/>
                        </a:lnTo>
                        <a:lnTo>
                          <a:pt x="28" y="6"/>
                        </a:lnTo>
                        <a:lnTo>
                          <a:pt x="30" y="7"/>
                        </a:lnTo>
                        <a:lnTo>
                          <a:pt x="31" y="8"/>
                        </a:lnTo>
                        <a:lnTo>
                          <a:pt x="32" y="10"/>
                        </a:lnTo>
                        <a:lnTo>
                          <a:pt x="35" y="14"/>
                        </a:lnTo>
                        <a:lnTo>
                          <a:pt x="33" y="12"/>
                        </a:lnTo>
                        <a:lnTo>
                          <a:pt x="29" y="10"/>
                        </a:lnTo>
                        <a:lnTo>
                          <a:pt x="26" y="8"/>
                        </a:lnTo>
                        <a:lnTo>
                          <a:pt x="23" y="7"/>
                        </a:lnTo>
                        <a:lnTo>
                          <a:pt x="21" y="6"/>
                        </a:lnTo>
                        <a:lnTo>
                          <a:pt x="18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2436480" y="1920960"/>
                    <a:ext cx="669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6">
                        <a:moveTo>
                          <a:pt x="1" y="2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8" y="1"/>
                        </a:lnTo>
                        <a:lnTo>
                          <a:pt x="23" y="3"/>
                        </a:lnTo>
                        <a:lnTo>
                          <a:pt x="26" y="4"/>
                        </a:lnTo>
                        <a:lnTo>
                          <a:pt x="29" y="5"/>
                        </a:lnTo>
                        <a:lnTo>
                          <a:pt x="31" y="6"/>
                        </a:lnTo>
                        <a:lnTo>
                          <a:pt x="34" y="7"/>
                        </a:lnTo>
                        <a:lnTo>
                          <a:pt x="35" y="8"/>
                        </a:lnTo>
                        <a:lnTo>
                          <a:pt x="37" y="9"/>
                        </a:lnTo>
                        <a:lnTo>
                          <a:pt x="39" y="10"/>
                        </a:lnTo>
                        <a:lnTo>
                          <a:pt x="40" y="15"/>
                        </a:lnTo>
                        <a:lnTo>
                          <a:pt x="36" y="13"/>
                        </a:lnTo>
                        <a:lnTo>
                          <a:pt x="34" y="12"/>
                        </a:lnTo>
                        <a:lnTo>
                          <a:pt x="31" y="10"/>
                        </a:lnTo>
                        <a:lnTo>
                          <a:pt x="29" y="9"/>
                        </a:lnTo>
                        <a:lnTo>
                          <a:pt x="26" y="8"/>
                        </a:lnTo>
                        <a:lnTo>
                          <a:pt x="20" y="6"/>
                        </a:lnTo>
                        <a:lnTo>
                          <a:pt x="15" y="5"/>
                        </a:lnTo>
                        <a:lnTo>
                          <a:pt x="10" y="4"/>
                        </a:lnTo>
                        <a:lnTo>
                          <a:pt x="7" y="4"/>
                        </a:lnTo>
                        <a:lnTo>
                          <a:pt x="3" y="5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2435040" y="1940400"/>
                    <a:ext cx="7488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7">
                        <a:moveTo>
                          <a:pt x="0" y="2"/>
                        </a:moveTo>
                        <a:lnTo>
                          <a:pt x="6" y="1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2"/>
                        </a:lnTo>
                        <a:lnTo>
                          <a:pt x="30" y="4"/>
                        </a:lnTo>
                        <a:lnTo>
                          <a:pt x="35" y="6"/>
                        </a:lnTo>
                        <a:lnTo>
                          <a:pt x="40" y="8"/>
                        </a:lnTo>
                        <a:lnTo>
                          <a:pt x="43" y="10"/>
                        </a:lnTo>
                        <a:lnTo>
                          <a:pt x="45" y="16"/>
                        </a:lnTo>
                        <a:lnTo>
                          <a:pt x="42" y="14"/>
                        </a:lnTo>
                        <a:lnTo>
                          <a:pt x="39" y="12"/>
                        </a:lnTo>
                        <a:lnTo>
                          <a:pt x="36" y="11"/>
                        </a:lnTo>
                        <a:lnTo>
                          <a:pt x="33" y="10"/>
                        </a:lnTo>
                        <a:lnTo>
                          <a:pt x="29" y="8"/>
                        </a:lnTo>
                        <a:lnTo>
                          <a:pt x="25" y="7"/>
                        </a:lnTo>
                        <a:lnTo>
                          <a:pt x="19" y="6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4" y="6"/>
                        </a:lnTo>
                        <a:lnTo>
                          <a:pt x="0" y="8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4" name=""/>
                <p:cNvSpPr/>
                <p:nvPr/>
              </p:nvSpPr>
              <p:spPr>
                <a:xfrm>
                  <a:off x="2430360" y="1855440"/>
                  <a:ext cx="61920" cy="622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11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4" y="26"/>
                      </a:lnTo>
                      <a:lnTo>
                        <a:pt x="36" y="32"/>
                      </a:lnTo>
                      <a:lnTo>
                        <a:pt x="37" y="35"/>
                      </a:lnTo>
                      <a:lnTo>
                        <a:pt x="37" y="37"/>
                      </a:lnTo>
                      <a:lnTo>
                        <a:pt x="36" y="35"/>
                      </a:lnTo>
                      <a:lnTo>
                        <a:pt x="33" y="33"/>
                      </a:lnTo>
                      <a:lnTo>
                        <a:pt x="31" y="31"/>
                      </a:lnTo>
                      <a:lnTo>
                        <a:pt x="28" y="29"/>
                      </a:lnTo>
                      <a:lnTo>
                        <a:pt x="24" y="27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7" y="26"/>
                      </a:lnTo>
                      <a:lnTo>
                        <a:pt x="4" y="28"/>
                      </a:lnTo>
                      <a:lnTo>
                        <a:pt x="4" y="26"/>
                      </a:lnTo>
                      <a:lnTo>
                        <a:pt x="4" y="22"/>
                      </a:lnTo>
                      <a:lnTo>
                        <a:pt x="4" y="19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5" name=""/>
                <p:cNvGrpSpPr/>
                <p:nvPr/>
              </p:nvGrpSpPr>
              <p:grpSpPr>
                <a:xfrm>
                  <a:off x="2431800" y="1855440"/>
                  <a:ext cx="58680" cy="50400"/>
                  <a:chOff x="2431800" y="1855440"/>
                  <a:chExt cx="58680" cy="5040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>
                    <a:off x="2431800" y="18633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2441160" y="185868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2433240" y="18702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2449440" y="185544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2435040" y="18763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2442960" y="1874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2459520" y="185544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2451240" y="18651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2452680" y="18734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2460960" y="186516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2469240" y="185868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246924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2462760" y="18748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2471040" y="18763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2436480" y="18864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2438280" y="189468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2446560" y="18928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2444760" y="188316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2454480" y="18831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2454480" y="18928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2464200" y="1884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2464200" y="189288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2471040" y="1884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2474280" y="189612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2487240" y="19040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477160" y="18619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2477160" y="18702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2479320" y="1878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2479320" y="18878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2480760" y="189936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441160" y="186660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2424960" y="1865520"/>
                  <a:ext cx="7920" cy="105840"/>
                  <a:chOff x="2424960" y="1865520"/>
                  <a:chExt cx="7920" cy="10584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>
                    <a:off x="2424960" y="1866960"/>
                    <a:ext cx="79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">
                        <a:moveTo>
                          <a:pt x="2" y="0"/>
                        </a:moveTo>
                        <a:lnTo>
                          <a:pt x="3" y="4"/>
                        </a:lnTo>
                        <a:lnTo>
                          <a:pt x="3" y="7"/>
                        </a:lnTo>
                        <a:lnTo>
                          <a:pt x="3" y="9"/>
                        </a:lnTo>
                        <a:lnTo>
                          <a:pt x="4" y="11"/>
                        </a:lnTo>
                        <a:lnTo>
                          <a:pt x="4" y="17"/>
                        </a:lnTo>
                        <a:lnTo>
                          <a:pt x="4" y="23"/>
                        </a:lnTo>
                        <a:lnTo>
                          <a:pt x="4" y="31"/>
                        </a:lnTo>
                        <a:lnTo>
                          <a:pt x="4" y="37"/>
                        </a:lnTo>
                        <a:lnTo>
                          <a:pt x="4" y="42"/>
                        </a:lnTo>
                        <a:lnTo>
                          <a:pt x="3" y="50"/>
                        </a:lnTo>
                        <a:lnTo>
                          <a:pt x="3" y="58"/>
                        </a:lnTo>
                        <a:lnTo>
                          <a:pt x="2" y="61"/>
                        </a:lnTo>
                        <a:lnTo>
                          <a:pt x="0" y="63"/>
                        </a:lnTo>
                        <a:lnTo>
                          <a:pt x="1" y="56"/>
                        </a:lnTo>
                        <a:lnTo>
                          <a:pt x="2" y="47"/>
                        </a:lnTo>
                        <a:lnTo>
                          <a:pt x="3" y="41"/>
                        </a:lnTo>
                        <a:lnTo>
                          <a:pt x="3" y="35"/>
                        </a:lnTo>
                        <a:lnTo>
                          <a:pt x="3" y="28"/>
                        </a:lnTo>
                        <a:lnTo>
                          <a:pt x="3" y="21"/>
                        </a:lnTo>
                        <a:lnTo>
                          <a:pt x="3" y="14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2426760" y="1865520"/>
                    <a:ext cx="144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2424960" y="1962000"/>
                    <a:ext cx="18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2422080" y="1861920"/>
                  <a:ext cx="6120" cy="178200"/>
                  <a:chOff x="2422080" y="1861920"/>
                  <a:chExt cx="6120" cy="178200"/>
                </a:xfrm>
              </p:grpSpPr>
              <p:sp>
                <p:nvSpPr>
                  <p:cNvPr id="2482" name=""/>
                  <p:cNvSpPr/>
                  <p:nvPr/>
                </p:nvSpPr>
                <p:spPr>
                  <a:xfrm>
                    <a:off x="2423520" y="1861920"/>
                    <a:ext cx="1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0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2422080" y="1861920"/>
                    <a:ext cx="6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9">
                        <a:moveTo>
                          <a:pt x="0" y="0"/>
                        </a:moveTo>
                        <a:lnTo>
                          <a:pt x="0" y="108"/>
                        </a:lnTo>
                        <a:lnTo>
                          <a:pt x="3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4" name=""/>
              <p:cNvGrpSpPr/>
              <p:nvPr/>
            </p:nvGrpSpPr>
            <p:grpSpPr>
              <a:xfrm>
                <a:off x="2515680" y="2011680"/>
                <a:ext cx="66960" cy="34200"/>
                <a:chOff x="2515680" y="2011680"/>
                <a:chExt cx="66960" cy="3420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254160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6" y="0"/>
                      </a:moveTo>
                      <a:lnTo>
                        <a:pt x="8" y="3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8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515680" y="20134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7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3" y="16"/>
                      </a:lnTo>
                      <a:lnTo>
                        <a:pt x="8" y="8"/>
                      </a:lnTo>
                      <a:lnTo>
                        <a:pt x="8" y="3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567880" y="201168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488" name="" descr=""/>
          <p:cNvPicPr/>
          <p:nvPr/>
        </p:nvPicPr>
        <p:blipFill>
          <a:blip r:embed="rId1"/>
          <a:stretch/>
        </p:blipFill>
        <p:spPr>
          <a:xfrm>
            <a:off x="3151080" y="209700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89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490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491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4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5625000" y="28242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19024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7501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002360" y="1879560"/>
            <a:ext cx="729720" cy="1291680"/>
            <a:chOff x="7002360" y="1879560"/>
            <a:chExt cx="729720" cy="1291680"/>
          </a:xfrm>
        </p:grpSpPr>
        <p:grpSp>
          <p:nvGrpSpPr>
            <p:cNvPr id="2499" name=""/>
            <p:cNvGrpSpPr/>
            <p:nvPr/>
          </p:nvGrpSpPr>
          <p:grpSpPr>
            <a:xfrm>
              <a:off x="7002360" y="1879560"/>
              <a:ext cx="729720" cy="1291680"/>
              <a:chOff x="7002360" y="1879560"/>
              <a:chExt cx="729720" cy="1291680"/>
            </a:xfrm>
          </p:grpSpPr>
          <p:sp>
            <p:nvSpPr>
              <p:cNvPr id="2500" name=""/>
              <p:cNvSpPr/>
              <p:nvPr/>
            </p:nvSpPr>
            <p:spPr>
              <a:xfrm>
                <a:off x="7279920" y="18795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026840" y="2106000"/>
                <a:ext cx="622800" cy="49968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02360" y="2444760"/>
                <a:ext cx="72972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7312680" y="21340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5622480" y="33066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88800" y="611028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74760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F83-BAAA-494A-8B9F-52FAD7837F9C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798480" y="740880"/>
            <a:ext cx="75326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hase Game: Broadcast Tas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5452920" y="4863600"/>
            <a:ext cx="3052800" cy="186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will flip a coin to decide who delivers all the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933640" y="2941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986280" y="2941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776240" y="29415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H="1">
            <a:off x="2227320" y="318924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436920" y="320832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19440" y="502596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070520" y="50259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029120" y="4016520"/>
            <a:ext cx="4269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022480" y="340344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489480" y="5262480"/>
            <a:ext cx="537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4264200" y="341424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73560" y="4498920"/>
            <a:ext cx="0" cy="48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042000" y="29718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137840" y="40449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095000" y="2990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883520" y="29908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928880" y="50673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997360" y="50259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150440" y="50785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797120" y="397368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883880" y="400356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022480" y="449892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00400" y="525132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088440" y="50641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541960" y="174456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4" name="" descr=""/>
          <p:cNvPicPr/>
          <p:nvPr/>
        </p:nvPicPr>
        <p:blipFill>
          <a:blip r:embed="rId1"/>
          <a:stretch/>
        </p:blipFill>
        <p:spPr>
          <a:xfrm>
            <a:off x="2421000" y="203832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/>
          <p:nvPr/>
        </p:nvSpPr>
        <p:spPr>
          <a:xfrm>
            <a:off x="4894560" y="27637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460160" y="55483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020040" y="55483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892400" y="32479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458720" y="60516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017520" y="60325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6256440" y="1859040"/>
            <a:ext cx="2552400" cy="2872080"/>
            <a:chOff x="6256440" y="1859040"/>
            <a:chExt cx="2552400" cy="2872080"/>
          </a:xfrm>
        </p:grpSpPr>
        <p:grpSp>
          <p:nvGrpSpPr>
            <p:cNvPr id="2542" name=""/>
            <p:cNvGrpSpPr/>
            <p:nvPr/>
          </p:nvGrpSpPr>
          <p:grpSpPr>
            <a:xfrm>
              <a:off x="7180560" y="3438720"/>
              <a:ext cx="729360" cy="1292400"/>
              <a:chOff x="7180560" y="3438720"/>
              <a:chExt cx="729360" cy="1292400"/>
            </a:xfrm>
          </p:grpSpPr>
          <p:grpSp>
            <p:nvGrpSpPr>
              <p:cNvPr id="2543" name=""/>
              <p:cNvGrpSpPr/>
              <p:nvPr/>
            </p:nvGrpSpPr>
            <p:grpSpPr>
              <a:xfrm>
                <a:off x="7180560" y="3438720"/>
                <a:ext cx="729360" cy="1292400"/>
                <a:chOff x="7180560" y="3438720"/>
                <a:chExt cx="729360" cy="12924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7458120" y="343872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205040" y="366552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180560" y="400428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7" name=""/>
              <p:cNvSpPr/>
              <p:nvPr/>
            </p:nvSpPr>
            <p:spPr>
              <a:xfrm>
                <a:off x="7483680" y="369360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177320" y="1859040"/>
              <a:ext cx="729360" cy="1292400"/>
              <a:chOff x="7177320" y="1859040"/>
              <a:chExt cx="729360" cy="1292400"/>
            </a:xfrm>
          </p:grpSpPr>
          <p:grpSp>
            <p:nvGrpSpPr>
              <p:cNvPr id="2549" name=""/>
              <p:cNvGrpSpPr/>
              <p:nvPr/>
            </p:nvGrpSpPr>
            <p:grpSpPr>
              <a:xfrm>
                <a:off x="7177320" y="1859040"/>
                <a:ext cx="729360" cy="1292400"/>
                <a:chOff x="7177320" y="1859040"/>
                <a:chExt cx="729360" cy="12924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7454880" y="185904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201800" y="208584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177320" y="242460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3" name=""/>
              <p:cNvSpPr/>
              <p:nvPr/>
            </p:nvSpPr>
            <p:spPr>
              <a:xfrm>
                <a:off x="7464240" y="213336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4" name=""/>
            <p:cNvSpPr/>
            <p:nvPr/>
          </p:nvSpPr>
          <p:spPr>
            <a:xfrm rot="10800000">
              <a:off x="6256440" y="2171520"/>
              <a:ext cx="894240" cy="658080"/>
            </a:xfrm>
            <a:custGeom>
              <a:avLst/>
              <a:gdLst>
                <a:gd name="textAreaLeft" fmla="*/ 33120 w 894240"/>
                <a:gd name="textAreaRight" fmla="*/ 861120 w 894240"/>
                <a:gd name="textAreaTop" fmla="*/ 24120 h 658080"/>
                <a:gd name="textAreaBottom" fmla="*/ 525600 h 6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75000" y="3119400"/>
              <a:ext cx="933840" cy="67788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880"/>
                <a:gd name="textAreaBottom" fmla="*/ 5414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150760" y="3125880"/>
              <a:ext cx="355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10440" y="2289960"/>
              <a:ext cx="799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b, 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02F-56BB-45E7-85AE-92C444CF9EE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2383920" y="495000"/>
            <a:ext cx="42562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ding Let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283360" y="5146560"/>
            <a:ext cx="34336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r" rtl="1">
              <a:lnSpc>
                <a:spcPct val="89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y then agree that agent 2 delivers to f and 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95760" y="3768840"/>
            <a:ext cx="12783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03228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84560" y="30020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74880" y="30020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2325600" y="3247920"/>
            <a:ext cx="704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535200" y="3267000"/>
            <a:ext cx="517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917720" y="508644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168800" y="5086440"/>
            <a:ext cx="4302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127400" y="407520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120760" y="3463920"/>
            <a:ext cx="0" cy="53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587760" y="532116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4362480" y="3472920"/>
            <a:ext cx="0" cy="60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373640" y="4557600"/>
            <a:ext cx="0" cy="4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140640" y="303048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236480" y="410364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19328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982880" y="30510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037600" y="512748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095640" y="508644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258440" y="513720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895400" y="40323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982520" y="406224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20760" y="455760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398680" y="5311800"/>
            <a:ext cx="663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206880" y="51037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64024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6" name="" descr=""/>
          <p:cNvPicPr/>
          <p:nvPr/>
        </p:nvPicPr>
        <p:blipFill>
          <a:blip r:embed="rId1"/>
          <a:stretch/>
        </p:blipFill>
        <p:spPr>
          <a:xfrm>
            <a:off x="2519280" y="209700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587" name=""/>
          <p:cNvSpPr/>
          <p:nvPr/>
        </p:nvSpPr>
        <p:spPr>
          <a:xfrm>
            <a:off x="4993200" y="28242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5595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118320" y="5607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892760" y="3306600"/>
            <a:ext cx="619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557000" y="611028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11580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6256440" y="1919160"/>
            <a:ext cx="2512440" cy="2891520"/>
            <a:chOff x="6256440" y="1919160"/>
            <a:chExt cx="2512440" cy="2891520"/>
          </a:xfrm>
        </p:grpSpPr>
        <p:sp>
          <p:nvSpPr>
            <p:cNvPr id="2594" name=""/>
            <p:cNvSpPr/>
            <p:nvPr/>
          </p:nvSpPr>
          <p:spPr>
            <a:xfrm>
              <a:off x="7835040" y="3199320"/>
              <a:ext cx="933840" cy="67752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520"/>
                <a:gd name="textAreaBottom" fmla="*/ 541080 h 67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127720" y="3232080"/>
              <a:ext cx="361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66640" y="2402640"/>
              <a:ext cx="413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7" name=""/>
            <p:cNvGrpSpPr/>
            <p:nvPr/>
          </p:nvGrpSpPr>
          <p:grpSpPr>
            <a:xfrm>
              <a:off x="7140960" y="3518280"/>
              <a:ext cx="729360" cy="1292400"/>
              <a:chOff x="7140960" y="3518280"/>
              <a:chExt cx="729360" cy="1292400"/>
            </a:xfrm>
          </p:grpSpPr>
          <p:grpSp>
            <p:nvGrpSpPr>
              <p:cNvPr id="2598" name=""/>
              <p:cNvGrpSpPr/>
              <p:nvPr/>
            </p:nvGrpSpPr>
            <p:grpSpPr>
              <a:xfrm>
                <a:off x="7140960" y="3518280"/>
                <a:ext cx="729360" cy="1292400"/>
                <a:chOff x="7140960" y="3518280"/>
                <a:chExt cx="729360" cy="129240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7418520" y="3518280"/>
                  <a:ext cx="18720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7165440" y="374508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7140960" y="408384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2" name=""/>
              <p:cNvSpPr/>
              <p:nvPr/>
            </p:nvSpPr>
            <p:spPr>
              <a:xfrm>
                <a:off x="7441200" y="377280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7176960" y="1919160"/>
              <a:ext cx="729360" cy="1292400"/>
              <a:chOff x="7176960" y="1919160"/>
              <a:chExt cx="729360" cy="1292400"/>
            </a:xfrm>
          </p:grpSpPr>
          <p:grpSp>
            <p:nvGrpSpPr>
              <p:cNvPr id="2604" name=""/>
              <p:cNvGrpSpPr/>
              <p:nvPr/>
            </p:nvGrpSpPr>
            <p:grpSpPr>
              <a:xfrm>
                <a:off x="7176960" y="1919160"/>
                <a:ext cx="729360" cy="1292400"/>
                <a:chOff x="7176960" y="1919160"/>
                <a:chExt cx="729360" cy="129240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7454520" y="1919160"/>
                  <a:ext cx="18720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7201440" y="2145600"/>
                  <a:ext cx="62244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7176960" y="248472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8" name=""/>
              <p:cNvSpPr/>
              <p:nvPr/>
            </p:nvSpPr>
            <p:spPr>
              <a:xfrm>
                <a:off x="7461000" y="219348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9" name=""/>
            <p:cNvSpPr/>
            <p:nvPr/>
          </p:nvSpPr>
          <p:spPr>
            <a:xfrm rot="10800000">
              <a:off x="6256440" y="2231280"/>
              <a:ext cx="894240" cy="657720"/>
            </a:xfrm>
            <a:custGeom>
              <a:avLst/>
              <a:gdLst>
                <a:gd name="textAreaLeft" fmla="*/ 33120 w 894240"/>
                <a:gd name="textAreaRight" fmla="*/ 861120 w 894240"/>
                <a:gd name="textAreaTop" fmla="*/ 24120 h 657720"/>
                <a:gd name="textAreaBottom" fmla="*/ 525240 h 6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575040" y="2369880"/>
              <a:ext cx="30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7F8-B0C4-4292-B77E-EA3C7361ACF1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535880" cy="61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other Possibility for Dece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835360" y="3049560"/>
            <a:ext cx="428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1848960" y="3511440"/>
            <a:ext cx="116388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192480" y="3489480"/>
            <a:ext cx="4921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944440" y="30780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632040" y="394020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42560" y="398952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521000" y="4503600"/>
            <a:ext cx="4302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629720" y="455436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900680" y="4824000"/>
            <a:ext cx="3921120" cy="1784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gree to flip a coin to decide who goes to b and who goes to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541960" y="180324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2" name="" descr=""/>
          <p:cNvPicPr/>
          <p:nvPr/>
        </p:nvPicPr>
        <p:blipFill>
          <a:blip r:embed="rId1"/>
          <a:stretch/>
        </p:blipFill>
        <p:spPr>
          <a:xfrm>
            <a:off x="2421000" y="209700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623" name=""/>
          <p:cNvSpPr/>
          <p:nvPr/>
        </p:nvSpPr>
        <p:spPr>
          <a:xfrm>
            <a:off x="3789000" y="46004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1400760" y="511344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6117840" y="1855800"/>
            <a:ext cx="2045520" cy="2854800"/>
            <a:chOff x="6117840" y="1855800"/>
            <a:chExt cx="2045520" cy="2854800"/>
          </a:xfrm>
        </p:grpSpPr>
        <p:sp>
          <p:nvSpPr>
            <p:cNvPr id="2626" name=""/>
            <p:cNvSpPr/>
            <p:nvPr/>
          </p:nvSpPr>
          <p:spPr>
            <a:xfrm flipH="1">
              <a:off x="6117480" y="3296880"/>
              <a:ext cx="1052280" cy="815760"/>
            </a:xfrm>
            <a:custGeom>
              <a:avLst/>
              <a:gdLst>
                <a:gd name="textAreaLeft" fmla="*/ 38880 w 1052280"/>
                <a:gd name="textAreaRight" fmla="*/ 1013400 w 1052280"/>
                <a:gd name="textAreaTop" fmla="*/ 29880 h 815760"/>
                <a:gd name="textAreaBottom" fmla="*/ 65160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6118200" y="1855800"/>
              <a:ext cx="1051920" cy="815400"/>
              <a:chOff x="6118200" y="1855800"/>
              <a:chExt cx="1051920" cy="815400"/>
            </a:xfrm>
          </p:grpSpPr>
          <p:sp>
            <p:nvSpPr>
              <p:cNvPr id="2628" name=""/>
              <p:cNvSpPr/>
              <p:nvPr/>
            </p:nvSpPr>
            <p:spPr>
              <a:xfrm flipH="1">
                <a:off x="6118200" y="1855800"/>
                <a:ext cx="1051920" cy="815400"/>
              </a:xfrm>
              <a:custGeom>
                <a:avLst/>
                <a:gdLst>
                  <a:gd name="textAreaLeft" fmla="*/ 38880 w 1051920"/>
                  <a:gd name="textAreaRight" fmla="*/ 1013040 w 1051920"/>
                  <a:gd name="textAreaTop" fmla="*/ 29880 h 815400"/>
                  <a:gd name="textAreaBottom" fmla="*/ 651240 h 81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1799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212160" y="1941120"/>
                <a:ext cx="851040" cy="55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8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Times New Roman"/>
                  </a:rPr>
                  <a:t>b, c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0" name=""/>
            <p:cNvGrpSpPr/>
            <p:nvPr/>
          </p:nvGrpSpPr>
          <p:grpSpPr>
            <a:xfrm>
              <a:off x="7417440" y="3418560"/>
              <a:ext cx="729360" cy="1292040"/>
              <a:chOff x="7417440" y="3418560"/>
              <a:chExt cx="729360" cy="1292040"/>
            </a:xfrm>
          </p:grpSpPr>
          <p:grpSp>
            <p:nvGrpSpPr>
              <p:cNvPr id="2631" name=""/>
              <p:cNvGrpSpPr/>
              <p:nvPr/>
            </p:nvGrpSpPr>
            <p:grpSpPr>
              <a:xfrm>
                <a:off x="7417440" y="3418560"/>
                <a:ext cx="729360" cy="1292040"/>
                <a:chOff x="7417440" y="3418560"/>
                <a:chExt cx="729360" cy="129204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7695000" y="3418560"/>
                  <a:ext cx="18720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441920" y="364536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7417440" y="3984120"/>
                  <a:ext cx="729360" cy="72648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>
                <a:off x="7720560" y="367344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7434000" y="1938240"/>
              <a:ext cx="729360" cy="1292040"/>
              <a:chOff x="7434000" y="1938240"/>
              <a:chExt cx="729360" cy="1292040"/>
            </a:xfrm>
          </p:grpSpPr>
          <p:grpSp>
            <p:nvGrpSpPr>
              <p:cNvPr id="2637" name=""/>
              <p:cNvGrpSpPr/>
              <p:nvPr/>
            </p:nvGrpSpPr>
            <p:grpSpPr>
              <a:xfrm>
                <a:off x="7434000" y="1938240"/>
                <a:ext cx="729360" cy="1292040"/>
                <a:chOff x="7434000" y="1938240"/>
                <a:chExt cx="729360" cy="129204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7711560" y="1938240"/>
                  <a:ext cx="187200" cy="186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7458480" y="2164680"/>
                  <a:ext cx="622440" cy="49968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434000" y="2503800"/>
                  <a:ext cx="729360" cy="72648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29160" bIns="2916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1" name=""/>
              <p:cNvSpPr/>
              <p:nvPr/>
            </p:nvSpPr>
            <p:spPr>
              <a:xfrm>
                <a:off x="7720920" y="2212560"/>
                <a:ext cx="28116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29160" bIns="2916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2" name=""/>
            <p:cNvSpPr/>
            <p:nvPr/>
          </p:nvSpPr>
          <p:spPr>
            <a:xfrm>
              <a:off x="6192720" y="3382200"/>
              <a:ext cx="8510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29160" bIns="2916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b, c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3609000" y="514368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200600" y="563724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1BA-0760-454F-94CA-9CC7A741C445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2292120" y="495000"/>
            <a:ext cx="46162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antom Let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5999040" y="3159000"/>
            <a:ext cx="1052640" cy="816120"/>
          </a:xfrm>
          <a:custGeom>
            <a:avLst/>
            <a:gdLst>
              <a:gd name="textAreaLeft" fmla="*/ 38880 w 1052640"/>
              <a:gd name="textAreaRight" fmla="*/ 1013760 w 105264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5762520" y="1836720"/>
            <a:ext cx="1447920" cy="816120"/>
          </a:xfrm>
          <a:custGeom>
            <a:avLst/>
            <a:gdLst>
              <a:gd name="textAreaLeft" fmla="*/ 54000 w 1447920"/>
              <a:gd name="textAreaRight" fmla="*/ 1395000 w 144792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866560" y="1922400"/>
            <a:ext cx="13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, 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462400" y="178452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" descr=""/>
          <p:cNvPicPr/>
          <p:nvPr/>
        </p:nvPicPr>
        <p:blipFill>
          <a:blip r:embed="rId1"/>
          <a:stretch/>
        </p:blipFill>
        <p:spPr>
          <a:xfrm>
            <a:off x="2341440" y="20779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651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652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653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6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7434360" y="1800360"/>
            <a:ext cx="729360" cy="1293120"/>
            <a:chOff x="7434360" y="1800360"/>
            <a:chExt cx="729360" cy="1293120"/>
          </a:xfrm>
        </p:grpSpPr>
        <p:grpSp>
          <p:nvGrpSpPr>
            <p:cNvPr id="2658" name=""/>
            <p:cNvGrpSpPr/>
            <p:nvPr/>
          </p:nvGrpSpPr>
          <p:grpSpPr>
            <a:xfrm>
              <a:off x="7434360" y="1800360"/>
              <a:ext cx="729360" cy="1293120"/>
              <a:chOff x="7434360" y="1800360"/>
              <a:chExt cx="729360" cy="1293120"/>
            </a:xfrm>
          </p:grpSpPr>
          <p:sp>
            <p:nvSpPr>
              <p:cNvPr id="2659" name=""/>
              <p:cNvSpPr/>
              <p:nvPr/>
            </p:nvSpPr>
            <p:spPr>
              <a:xfrm>
                <a:off x="7711920" y="180036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458840" y="202752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434360" y="23662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2" name=""/>
            <p:cNvSpPr/>
            <p:nvPr/>
          </p:nvSpPr>
          <p:spPr>
            <a:xfrm>
              <a:off x="7728480" y="20754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6100560" y="3224160"/>
            <a:ext cx="836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776680" y="294948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1790640" y="3413160"/>
            <a:ext cx="116352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133800" y="3390840"/>
            <a:ext cx="4903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885760" y="29797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573360" y="384192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683880" y="389088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461960" y="440532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569960" y="44560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394440" y="43830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341720" y="50148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214440" y="490680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141920" y="55389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962520" y="4259160"/>
            <a:ext cx="1477800" cy="146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389560" y="56577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498280" y="570852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618440" y="56275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003920" y="6173640"/>
            <a:ext cx="1822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5927400" y="4943160"/>
            <a:ext cx="3051000" cy="934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gree that agent 1 goes to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854-A1F6-407E-BA1A-FFC60B0E929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130400" y="228600"/>
            <a:ext cx="6881760" cy="99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over Mixed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31840" y="4981680"/>
            <a:ext cx="52182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368280" indent="-368280" rtl="1">
              <a:lnSpc>
                <a:spcPct val="89000"/>
              </a:lnSpc>
              <a:spcBef>
                <a:spcPts val="15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: With mixed deals, agents can always agree on the “all-or-nothing” de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506600" y="1922040"/>
            <a:ext cx="6269040" cy="2357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ed deal (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: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nts will perform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probability p, and the symmetric deal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probability 1 –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901880" y="4502160"/>
            <a:ext cx="539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A15-B4D2-45C3-806E-57DC55B2747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30080" y="3100320"/>
            <a:ext cx="1960560" cy="1249560"/>
          </a:xfrm>
          <a:custGeom>
            <a:avLst/>
            <a:gdLst>
              <a:gd name="textAreaLeft" fmla="*/ 447480 w 1960560"/>
              <a:gd name="textAreaRight" fmla="*/ 1513080 w 1960560"/>
              <a:gd name="textAreaTop" fmla="*/ 285120 h 1249560"/>
              <a:gd name="textAreaBottom" fmla="*/ 96444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73000" y="495000"/>
            <a:ext cx="7491600" cy="122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st Bid W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37920" y="1862280"/>
            <a:ext cx="8024760" cy="101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hooses carrier with lowes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ier gets amount that i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400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428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29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4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38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439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440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441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442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8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449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1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2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5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56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457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458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9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0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62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64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465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466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7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68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69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0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1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473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474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5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76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77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8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0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481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482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83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84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6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7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8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489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490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1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2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93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4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6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497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498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9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04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505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506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10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2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3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514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515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6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7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18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522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523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4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5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26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7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8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9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530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531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4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5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6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7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538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539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4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547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0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1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3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554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555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8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1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562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563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66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9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570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571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572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3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5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576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9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580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1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2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83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584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5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6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87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588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0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1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2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593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9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0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04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605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606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7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8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9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1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3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614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5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7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618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2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0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60" name=""/>
          <p:cNvSpPr/>
          <p:nvPr/>
        </p:nvSpPr>
        <p:spPr>
          <a:xfrm>
            <a:off x="3685680" y="345276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197360" y="343224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65320" y="34322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7320" y="420372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30680" y="444024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55720" y="4680000"/>
            <a:ext cx="974880" cy="420480"/>
          </a:xfrm>
          <a:prstGeom prst="plus">
            <a:avLst>
              <a:gd name="adj" fmla="val 24995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0" y="465768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FAB-5015-402A-9DD9-2B70E366CA85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32520" cy="1338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ding Letters with Mixed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or-Nothing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682880" y="4665600"/>
            <a:ext cx="4119480" cy="176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gree on the mixed deal where agent 1 has a 3/8 chance of delivering to f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368600" y="3747960"/>
            <a:ext cx="12783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816280" y="29811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68560" y="2981160"/>
            <a:ext cx="42876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657440" y="29811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2108160" y="3228840"/>
            <a:ext cx="706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319560" y="3247920"/>
            <a:ext cx="515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700280" y="50655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951360" y="506556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911760" y="4056120"/>
            <a:ext cx="4269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905120" y="3443400"/>
            <a:ext cx="0" cy="536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371760" y="5302080"/>
            <a:ext cx="53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4146480" y="3454560"/>
            <a:ext cx="0" cy="59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156200" y="4538520"/>
            <a:ext cx="0" cy="48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923920" y="301140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019040" y="40845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975840" y="30304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766160" y="30304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1820160" y="5106960"/>
            <a:ext cx="21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878200" y="506556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061520" y="5116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679400" y="40132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765800" y="40435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905120" y="4538520"/>
            <a:ext cx="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182680" y="5291280"/>
            <a:ext cx="662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979720" y="509436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422800" y="178452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4" name="" descr=""/>
          <p:cNvPicPr/>
          <p:nvPr/>
        </p:nvPicPr>
        <p:blipFill>
          <a:blip r:embed="rId1"/>
          <a:stretch/>
        </p:blipFill>
        <p:spPr>
          <a:xfrm>
            <a:off x="2301840" y="2077920"/>
            <a:ext cx="1635120" cy="743040"/>
          </a:xfrm>
          <a:prstGeom prst="rect">
            <a:avLst/>
          </a:prstGeom>
          <a:ln w="0">
            <a:noFill/>
          </a:ln>
        </p:spPr>
      </p:pic>
      <p:sp>
        <p:nvSpPr>
          <p:cNvPr id="2715" name=""/>
          <p:cNvSpPr/>
          <p:nvPr/>
        </p:nvSpPr>
        <p:spPr>
          <a:xfrm>
            <a:off x="4775760" y="28036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341720" y="55879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900880" y="558792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675320" y="3287880"/>
            <a:ext cx="619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339560" y="609120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899080" y="6072120"/>
            <a:ext cx="3722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1" name=""/>
          <p:cNvGrpSpPr/>
          <p:nvPr/>
        </p:nvGrpSpPr>
        <p:grpSpPr>
          <a:xfrm>
            <a:off x="6197400" y="1741320"/>
            <a:ext cx="2512800" cy="2891520"/>
            <a:chOff x="6197400" y="1741320"/>
            <a:chExt cx="2512800" cy="2891520"/>
          </a:xfrm>
        </p:grpSpPr>
        <p:sp>
          <p:nvSpPr>
            <p:cNvPr id="2722" name=""/>
            <p:cNvSpPr/>
            <p:nvPr/>
          </p:nvSpPr>
          <p:spPr>
            <a:xfrm>
              <a:off x="7776360" y="3021120"/>
              <a:ext cx="933840" cy="677880"/>
            </a:xfrm>
            <a:custGeom>
              <a:avLst/>
              <a:gdLst>
                <a:gd name="textAreaLeft" fmla="*/ 34560 w 933840"/>
                <a:gd name="textAreaRight" fmla="*/ 899280 w 933840"/>
                <a:gd name="textAreaTop" fmla="*/ 24840 h 677880"/>
                <a:gd name="textAreaBottom" fmla="*/ 5414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069400" y="3053880"/>
              <a:ext cx="361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707960" y="2225160"/>
              <a:ext cx="413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5" name=""/>
            <p:cNvGrpSpPr/>
            <p:nvPr/>
          </p:nvGrpSpPr>
          <p:grpSpPr>
            <a:xfrm>
              <a:off x="7082280" y="3340440"/>
              <a:ext cx="729360" cy="1292400"/>
              <a:chOff x="7082280" y="3340440"/>
              <a:chExt cx="729360" cy="1292400"/>
            </a:xfrm>
          </p:grpSpPr>
          <p:grpSp>
            <p:nvGrpSpPr>
              <p:cNvPr id="2726" name=""/>
              <p:cNvGrpSpPr/>
              <p:nvPr/>
            </p:nvGrpSpPr>
            <p:grpSpPr>
              <a:xfrm>
                <a:off x="7082280" y="3340440"/>
                <a:ext cx="729360" cy="1292400"/>
                <a:chOff x="7082280" y="3340440"/>
                <a:chExt cx="729360" cy="129240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7360200" y="3340440"/>
                  <a:ext cx="186840" cy="18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106760" y="3566880"/>
                  <a:ext cx="62280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7082280" y="3906000"/>
                  <a:ext cx="729360" cy="72684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0" name=""/>
              <p:cNvSpPr/>
              <p:nvPr/>
            </p:nvSpPr>
            <p:spPr>
              <a:xfrm>
                <a:off x="7382520" y="359496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1" name=""/>
            <p:cNvGrpSpPr/>
            <p:nvPr/>
          </p:nvGrpSpPr>
          <p:grpSpPr>
            <a:xfrm>
              <a:off x="7118280" y="1741320"/>
              <a:ext cx="729360" cy="1292760"/>
              <a:chOff x="7118280" y="1741320"/>
              <a:chExt cx="729360" cy="1292760"/>
            </a:xfrm>
          </p:grpSpPr>
          <p:grpSp>
            <p:nvGrpSpPr>
              <p:cNvPr id="2732" name=""/>
              <p:cNvGrpSpPr/>
              <p:nvPr/>
            </p:nvGrpSpPr>
            <p:grpSpPr>
              <a:xfrm>
                <a:off x="7118280" y="1741320"/>
                <a:ext cx="729360" cy="1292760"/>
                <a:chOff x="7118280" y="1741320"/>
                <a:chExt cx="729360" cy="129276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7396200" y="1741320"/>
                  <a:ext cx="18684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7142760" y="1968120"/>
                  <a:ext cx="622800" cy="500040"/>
                </a:xfrm>
                <a:custGeom>
                  <a:avLst/>
                  <a:gdLst/>
                  <a:ahLst/>
                  <a:rect l="l" t="t" r="r" b="b"/>
                  <a:pathLst>
                    <a:path w="379" h="304">
                      <a:moveTo>
                        <a:pt x="378" y="90"/>
                      </a:moveTo>
                      <a:lnTo>
                        <a:pt x="378" y="258"/>
                      </a:lnTo>
                      <a:lnTo>
                        <a:pt x="345" y="303"/>
                      </a:lnTo>
                      <a:lnTo>
                        <a:pt x="324" y="303"/>
                      </a:lnTo>
                      <a:lnTo>
                        <a:pt x="324" y="140"/>
                      </a:lnTo>
                      <a:lnTo>
                        <a:pt x="312" y="133"/>
                      </a:lnTo>
                      <a:lnTo>
                        <a:pt x="312" y="182"/>
                      </a:lnTo>
                      <a:lnTo>
                        <a:pt x="79" y="182"/>
                      </a:lnTo>
                      <a:lnTo>
                        <a:pt x="0" y="152"/>
                      </a:lnTo>
                      <a:lnTo>
                        <a:pt x="0" y="128"/>
                      </a:lnTo>
                      <a:lnTo>
                        <a:pt x="159" y="128"/>
                      </a:lnTo>
                      <a:lnTo>
                        <a:pt x="159" y="65"/>
                      </a:lnTo>
                      <a:lnTo>
                        <a:pt x="159" y="58"/>
                      </a:lnTo>
                      <a:lnTo>
                        <a:pt x="161" y="52"/>
                      </a:lnTo>
                      <a:lnTo>
                        <a:pt x="163" y="47"/>
                      </a:lnTo>
                      <a:lnTo>
                        <a:pt x="165" y="41"/>
                      </a:lnTo>
                      <a:lnTo>
                        <a:pt x="168" y="37"/>
                      </a:lnTo>
                      <a:lnTo>
                        <a:pt x="170" y="32"/>
                      </a:lnTo>
                      <a:lnTo>
                        <a:pt x="173" y="29"/>
                      </a:lnTo>
                      <a:lnTo>
                        <a:pt x="179" y="23"/>
                      </a:lnTo>
                      <a:lnTo>
                        <a:pt x="184" y="19"/>
                      </a:lnTo>
                      <a:lnTo>
                        <a:pt x="190" y="14"/>
                      </a:lnTo>
                      <a:lnTo>
                        <a:pt x="195" y="10"/>
                      </a:lnTo>
                      <a:lnTo>
                        <a:pt x="201" y="8"/>
                      </a:lnTo>
                      <a:lnTo>
                        <a:pt x="208" y="5"/>
                      </a:lnTo>
                      <a:lnTo>
                        <a:pt x="215" y="3"/>
                      </a:lnTo>
                      <a:lnTo>
                        <a:pt x="223" y="1"/>
                      </a:lnTo>
                      <a:lnTo>
                        <a:pt x="231" y="0"/>
                      </a:lnTo>
                      <a:lnTo>
                        <a:pt x="239" y="0"/>
                      </a:lnTo>
                      <a:lnTo>
                        <a:pt x="248" y="1"/>
                      </a:lnTo>
                      <a:lnTo>
                        <a:pt x="255" y="3"/>
                      </a:lnTo>
                      <a:lnTo>
                        <a:pt x="263" y="5"/>
                      </a:lnTo>
                      <a:lnTo>
                        <a:pt x="270" y="8"/>
                      </a:lnTo>
                      <a:lnTo>
                        <a:pt x="277" y="11"/>
                      </a:lnTo>
                      <a:lnTo>
                        <a:pt x="281" y="14"/>
                      </a:lnTo>
                      <a:lnTo>
                        <a:pt x="378" y="9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7118280" y="2306880"/>
                  <a:ext cx="729360" cy="727200"/>
                </a:xfrm>
                <a:custGeom>
                  <a:avLst/>
                  <a:gdLst/>
                  <a:ahLst/>
                  <a:rect l="l" t="t" r="r" b="b"/>
                  <a:pathLst>
                    <a:path w="444" h="442">
                      <a:moveTo>
                        <a:pt x="328" y="0"/>
                      </a:moveTo>
                      <a:lnTo>
                        <a:pt x="174" y="0"/>
                      </a:lnTo>
                      <a:lnTo>
                        <a:pt x="174" y="62"/>
                      </a:lnTo>
                      <a:lnTo>
                        <a:pt x="77" y="393"/>
                      </a:lnTo>
                      <a:lnTo>
                        <a:pt x="0" y="411"/>
                      </a:lnTo>
                      <a:lnTo>
                        <a:pt x="0" y="441"/>
                      </a:lnTo>
                      <a:lnTo>
                        <a:pt x="126" y="441"/>
                      </a:lnTo>
                      <a:lnTo>
                        <a:pt x="243" y="102"/>
                      </a:lnTo>
                      <a:lnTo>
                        <a:pt x="225" y="91"/>
                      </a:lnTo>
                      <a:lnTo>
                        <a:pt x="229" y="82"/>
                      </a:lnTo>
                      <a:lnTo>
                        <a:pt x="249" y="95"/>
                      </a:lnTo>
                      <a:lnTo>
                        <a:pt x="249" y="210"/>
                      </a:lnTo>
                      <a:lnTo>
                        <a:pt x="359" y="375"/>
                      </a:lnTo>
                      <a:lnTo>
                        <a:pt x="324" y="439"/>
                      </a:lnTo>
                      <a:lnTo>
                        <a:pt x="360" y="439"/>
                      </a:lnTo>
                      <a:lnTo>
                        <a:pt x="443" y="362"/>
                      </a:lnTo>
                      <a:lnTo>
                        <a:pt x="328" y="190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5600" rIns="75600" tIns="30240" bIns="3024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6" name=""/>
              <p:cNvSpPr/>
              <p:nvPr/>
            </p:nvSpPr>
            <p:spPr>
              <a:xfrm>
                <a:off x="7402320" y="2016000"/>
                <a:ext cx="2869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0240" bIns="30240" anchor="t">
                <a:spAutoFit/>
              </a:bodyPr>
              <a:p>
                <a:pPr algn="r" rtl="1">
                  <a:lnSpc>
                    <a:spcPct val="85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 rot="10800000">
              <a:off x="6197400" y="2053800"/>
              <a:ext cx="894600" cy="658080"/>
            </a:xfrm>
            <a:custGeom>
              <a:avLst/>
              <a:gdLst>
                <a:gd name="textAreaLeft" fmla="*/ 33120 w 894600"/>
                <a:gd name="textAreaRight" fmla="*/ 861480 w 894600"/>
                <a:gd name="textAreaTop" fmla="*/ 24120 h 658080"/>
                <a:gd name="textAreaBottom" fmla="*/ 525600 h 6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0240" bIns="302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516360" y="2192040"/>
              <a:ext cx="30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0240" bIns="30240" anchor="t">
              <a:spAutoFit/>
            </a:bodyPr>
            <a:p>
              <a:pPr algn="r" rtl="1">
                <a:lnSpc>
                  <a:spcPct val="88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28E-F5EA-4C51-9AAA-D05EE8AD08AC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552600" y="703080"/>
            <a:ext cx="799920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hantom Letters with Mixed De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5243040" y="4648320"/>
            <a:ext cx="3900600" cy="196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ill agree on the mixed deal where A has 3/4 chance of delivering all letters, lowering his expected ut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H="1">
            <a:off x="5999040" y="3159000"/>
            <a:ext cx="1052640" cy="816120"/>
          </a:xfrm>
          <a:custGeom>
            <a:avLst/>
            <a:gdLst>
              <a:gd name="textAreaLeft" fmla="*/ 38880 w 1052640"/>
              <a:gd name="textAreaRight" fmla="*/ 1013760 w 105264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5762520" y="1836720"/>
            <a:ext cx="1447920" cy="816120"/>
          </a:xfrm>
          <a:custGeom>
            <a:avLst/>
            <a:gdLst>
              <a:gd name="textAreaLeft" fmla="*/ 54000 w 1447920"/>
              <a:gd name="textAreaRight" fmla="*/ 1395000 w 1447920"/>
              <a:gd name="textAreaTop" fmla="*/ 30240 h 816120"/>
              <a:gd name="textAreaBottom" fmla="*/ 651960 h 81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144880" y="2989440"/>
            <a:ext cx="4284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1158840" y="3452760"/>
            <a:ext cx="1163520" cy="1049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502000" y="3430440"/>
            <a:ext cx="490320" cy="49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253960" y="3019320"/>
            <a:ext cx="2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941560" y="3881520"/>
            <a:ext cx="430200" cy="43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052080" y="3930480"/>
            <a:ext cx="24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830160" y="4444920"/>
            <a:ext cx="4302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939240" y="4495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866560" y="1922400"/>
            <a:ext cx="13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, 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1851480" y="1744560"/>
            <a:ext cx="1264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st Off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3" name="" descr=""/>
          <p:cNvPicPr/>
          <p:nvPr/>
        </p:nvPicPr>
        <p:blipFill>
          <a:blip r:embed="rId1"/>
          <a:stretch/>
        </p:blipFill>
        <p:spPr>
          <a:xfrm>
            <a:off x="1730520" y="2038320"/>
            <a:ext cx="16351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754" name=""/>
          <p:cNvGrpSpPr/>
          <p:nvPr/>
        </p:nvGrpSpPr>
        <p:grpSpPr>
          <a:xfrm>
            <a:off x="7416720" y="3281400"/>
            <a:ext cx="729720" cy="1291320"/>
            <a:chOff x="7416720" y="3281400"/>
            <a:chExt cx="729720" cy="1291320"/>
          </a:xfrm>
        </p:grpSpPr>
        <p:grpSp>
          <p:nvGrpSpPr>
            <p:cNvPr id="2755" name=""/>
            <p:cNvGrpSpPr/>
            <p:nvPr/>
          </p:nvGrpSpPr>
          <p:grpSpPr>
            <a:xfrm>
              <a:off x="7416720" y="3281400"/>
              <a:ext cx="729720" cy="1291320"/>
              <a:chOff x="7416720" y="3281400"/>
              <a:chExt cx="729720" cy="1291320"/>
            </a:xfrm>
          </p:grpSpPr>
          <p:sp>
            <p:nvSpPr>
              <p:cNvPr id="2756" name=""/>
              <p:cNvSpPr/>
              <p:nvPr/>
            </p:nvSpPr>
            <p:spPr>
              <a:xfrm>
                <a:off x="7694280" y="328140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441200" y="3508200"/>
                <a:ext cx="62280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416720" y="3846600"/>
                <a:ext cx="729720" cy="72612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9" name=""/>
            <p:cNvSpPr/>
            <p:nvPr/>
          </p:nvSpPr>
          <p:spPr>
            <a:xfrm>
              <a:off x="7727400" y="353592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2762640" y="442260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7434360" y="1800360"/>
            <a:ext cx="729360" cy="1293120"/>
            <a:chOff x="7434360" y="1800360"/>
            <a:chExt cx="729360" cy="1293120"/>
          </a:xfrm>
        </p:grpSpPr>
        <p:grpSp>
          <p:nvGrpSpPr>
            <p:cNvPr id="2762" name=""/>
            <p:cNvGrpSpPr/>
            <p:nvPr/>
          </p:nvGrpSpPr>
          <p:grpSpPr>
            <a:xfrm>
              <a:off x="7434360" y="1800360"/>
              <a:ext cx="729360" cy="1293120"/>
              <a:chOff x="7434360" y="1800360"/>
              <a:chExt cx="729360" cy="1293120"/>
            </a:xfrm>
          </p:grpSpPr>
          <p:sp>
            <p:nvSpPr>
              <p:cNvPr id="2763" name=""/>
              <p:cNvSpPr/>
              <p:nvPr/>
            </p:nvSpPr>
            <p:spPr>
              <a:xfrm>
                <a:off x="7711920" y="1800360"/>
                <a:ext cx="187200" cy="18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458840" y="2027520"/>
                <a:ext cx="622440" cy="50004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434360" y="23662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6" name=""/>
            <p:cNvSpPr/>
            <p:nvPr/>
          </p:nvSpPr>
          <p:spPr>
            <a:xfrm>
              <a:off x="7728480" y="207540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"/>
          <p:cNvSpPr/>
          <p:nvPr/>
        </p:nvSpPr>
        <p:spPr>
          <a:xfrm>
            <a:off x="709920" y="505476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080760" y="3244680"/>
            <a:ext cx="836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b, 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583360" y="49467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10120" y="5578560"/>
            <a:ext cx="7423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330720" y="4299120"/>
            <a:ext cx="1477800" cy="146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757760" y="5697360"/>
            <a:ext cx="428760" cy="43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867200" y="5746680"/>
            <a:ext cx="282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560" rIns="52560" tIns="21240" bIns="212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986640" y="5667480"/>
            <a:ext cx="378360" cy="7171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352320" y="6213600"/>
            <a:ext cx="1822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540-0D1B-4FA4-B21A-B7A3756C05CA}" type="slidenum">
              <a:t>121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1725480" y="534600"/>
            <a:ext cx="57009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1150920" y="2572920"/>
            <a:ext cx="6881760" cy="24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-add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X, Y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C21-D25E-4D6F-9FF2-1736819AF54A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2444400" y="534600"/>
            <a:ext cx="43131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216160" y="4962600"/>
            <a:ext cx="444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90000"/>
              </a:lnSpc>
              <a:spcBef>
                <a:spcPts val="3713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X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Y)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X) + </a:t>
            </a:r>
            <a:r>
              <a:rPr b="0" lang="en-US" sz="33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Book Antiqua"/>
              </a:rPr>
              <a:t>(Y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790720" y="2281320"/>
            <a:ext cx="2227320" cy="2173320"/>
          </a:xfrm>
          <a:prstGeom prst="ellipse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933720" y="2295360"/>
            <a:ext cx="2229120" cy="2173320"/>
          </a:xfrm>
          <a:prstGeom prst="ellipse">
            <a:avLst/>
          </a:prstGeom>
          <a:solidFill>
            <a:srgbClr val="df1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52800" y="2433600"/>
            <a:ext cx="1041480" cy="833400"/>
          </a:xfrm>
          <a:custGeom>
            <a:avLst/>
            <a:gdLst/>
            <a:ahLst/>
            <a:rect l="l" t="t" r="r" b="b"/>
            <a:pathLst>
              <a:path w="633" h="507">
                <a:moveTo>
                  <a:pt x="321" y="0"/>
                </a:moveTo>
                <a:lnTo>
                  <a:pt x="303" y="11"/>
                </a:lnTo>
                <a:lnTo>
                  <a:pt x="283" y="24"/>
                </a:lnTo>
                <a:lnTo>
                  <a:pt x="261" y="41"/>
                </a:lnTo>
                <a:lnTo>
                  <a:pt x="242" y="55"/>
                </a:lnTo>
                <a:lnTo>
                  <a:pt x="222" y="71"/>
                </a:lnTo>
                <a:lnTo>
                  <a:pt x="207" y="85"/>
                </a:lnTo>
                <a:lnTo>
                  <a:pt x="188" y="102"/>
                </a:lnTo>
                <a:lnTo>
                  <a:pt x="171" y="118"/>
                </a:lnTo>
                <a:lnTo>
                  <a:pt x="151" y="140"/>
                </a:lnTo>
                <a:lnTo>
                  <a:pt x="132" y="162"/>
                </a:lnTo>
                <a:lnTo>
                  <a:pt x="116" y="180"/>
                </a:lnTo>
                <a:lnTo>
                  <a:pt x="97" y="206"/>
                </a:lnTo>
                <a:lnTo>
                  <a:pt x="82" y="227"/>
                </a:lnTo>
                <a:lnTo>
                  <a:pt x="68" y="250"/>
                </a:lnTo>
                <a:lnTo>
                  <a:pt x="54" y="274"/>
                </a:lnTo>
                <a:lnTo>
                  <a:pt x="42" y="297"/>
                </a:lnTo>
                <a:lnTo>
                  <a:pt x="29" y="328"/>
                </a:lnTo>
                <a:lnTo>
                  <a:pt x="19" y="357"/>
                </a:lnTo>
                <a:lnTo>
                  <a:pt x="10" y="386"/>
                </a:lnTo>
                <a:lnTo>
                  <a:pt x="5" y="409"/>
                </a:lnTo>
                <a:lnTo>
                  <a:pt x="0" y="428"/>
                </a:lnTo>
                <a:lnTo>
                  <a:pt x="22" y="442"/>
                </a:lnTo>
                <a:lnTo>
                  <a:pt x="49" y="452"/>
                </a:lnTo>
                <a:lnTo>
                  <a:pt x="81" y="464"/>
                </a:lnTo>
                <a:lnTo>
                  <a:pt x="115" y="475"/>
                </a:lnTo>
                <a:lnTo>
                  <a:pt x="155" y="487"/>
                </a:lnTo>
                <a:lnTo>
                  <a:pt x="193" y="494"/>
                </a:lnTo>
                <a:lnTo>
                  <a:pt x="223" y="499"/>
                </a:lnTo>
                <a:lnTo>
                  <a:pt x="256" y="503"/>
                </a:lnTo>
                <a:lnTo>
                  <a:pt x="288" y="505"/>
                </a:lnTo>
                <a:lnTo>
                  <a:pt x="316" y="506"/>
                </a:lnTo>
                <a:lnTo>
                  <a:pt x="352" y="505"/>
                </a:lnTo>
                <a:lnTo>
                  <a:pt x="389" y="500"/>
                </a:lnTo>
                <a:lnTo>
                  <a:pt x="431" y="495"/>
                </a:lnTo>
                <a:lnTo>
                  <a:pt x="466" y="488"/>
                </a:lnTo>
                <a:lnTo>
                  <a:pt x="496" y="482"/>
                </a:lnTo>
                <a:lnTo>
                  <a:pt x="527" y="472"/>
                </a:lnTo>
                <a:lnTo>
                  <a:pt x="549" y="463"/>
                </a:lnTo>
                <a:lnTo>
                  <a:pt x="574" y="454"/>
                </a:lnTo>
                <a:lnTo>
                  <a:pt x="596" y="446"/>
                </a:lnTo>
                <a:lnTo>
                  <a:pt x="620" y="434"/>
                </a:lnTo>
                <a:lnTo>
                  <a:pt x="632" y="427"/>
                </a:lnTo>
                <a:lnTo>
                  <a:pt x="628" y="403"/>
                </a:lnTo>
                <a:lnTo>
                  <a:pt x="621" y="377"/>
                </a:lnTo>
                <a:lnTo>
                  <a:pt x="613" y="352"/>
                </a:lnTo>
                <a:lnTo>
                  <a:pt x="600" y="319"/>
                </a:lnTo>
                <a:lnTo>
                  <a:pt x="583" y="285"/>
                </a:lnTo>
                <a:lnTo>
                  <a:pt x="563" y="248"/>
                </a:lnTo>
                <a:lnTo>
                  <a:pt x="545" y="221"/>
                </a:lnTo>
                <a:lnTo>
                  <a:pt x="527" y="193"/>
                </a:lnTo>
                <a:lnTo>
                  <a:pt x="512" y="172"/>
                </a:lnTo>
                <a:lnTo>
                  <a:pt x="488" y="143"/>
                </a:lnTo>
                <a:lnTo>
                  <a:pt x="470" y="122"/>
                </a:lnTo>
                <a:lnTo>
                  <a:pt x="450" y="102"/>
                </a:lnTo>
                <a:lnTo>
                  <a:pt x="423" y="77"/>
                </a:lnTo>
                <a:lnTo>
                  <a:pt x="404" y="60"/>
                </a:lnTo>
                <a:lnTo>
                  <a:pt x="380" y="42"/>
                </a:lnTo>
                <a:lnTo>
                  <a:pt x="351" y="19"/>
                </a:lnTo>
                <a:lnTo>
                  <a:pt x="321" y="0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11760" y="3138480"/>
            <a:ext cx="1106280" cy="1209600"/>
          </a:xfrm>
          <a:custGeom>
            <a:avLst/>
            <a:gdLst/>
            <a:ahLst/>
            <a:rect l="l" t="t" r="r" b="b"/>
            <a:pathLst>
              <a:path w="673" h="736">
                <a:moveTo>
                  <a:pt x="15" y="1"/>
                </a:moveTo>
                <a:lnTo>
                  <a:pt x="34" y="13"/>
                </a:lnTo>
                <a:lnTo>
                  <a:pt x="54" y="22"/>
                </a:lnTo>
                <a:lnTo>
                  <a:pt x="73" y="29"/>
                </a:lnTo>
                <a:lnTo>
                  <a:pt x="101" y="40"/>
                </a:lnTo>
                <a:lnTo>
                  <a:pt x="126" y="47"/>
                </a:lnTo>
                <a:lnTo>
                  <a:pt x="153" y="55"/>
                </a:lnTo>
                <a:lnTo>
                  <a:pt x="182" y="61"/>
                </a:lnTo>
                <a:lnTo>
                  <a:pt x="211" y="68"/>
                </a:lnTo>
                <a:lnTo>
                  <a:pt x="242" y="73"/>
                </a:lnTo>
                <a:lnTo>
                  <a:pt x="278" y="77"/>
                </a:lnTo>
                <a:lnTo>
                  <a:pt x="312" y="80"/>
                </a:lnTo>
                <a:lnTo>
                  <a:pt x="344" y="80"/>
                </a:lnTo>
                <a:lnTo>
                  <a:pt x="383" y="80"/>
                </a:lnTo>
                <a:lnTo>
                  <a:pt x="426" y="73"/>
                </a:lnTo>
                <a:lnTo>
                  <a:pt x="459" y="69"/>
                </a:lnTo>
                <a:lnTo>
                  <a:pt x="482" y="64"/>
                </a:lnTo>
                <a:lnTo>
                  <a:pt x="512" y="57"/>
                </a:lnTo>
                <a:lnTo>
                  <a:pt x="537" y="50"/>
                </a:lnTo>
                <a:lnTo>
                  <a:pt x="559" y="42"/>
                </a:lnTo>
                <a:lnTo>
                  <a:pt x="587" y="31"/>
                </a:lnTo>
                <a:lnTo>
                  <a:pt x="607" y="23"/>
                </a:lnTo>
                <a:lnTo>
                  <a:pt x="627" y="14"/>
                </a:lnTo>
                <a:lnTo>
                  <a:pt x="643" y="8"/>
                </a:lnTo>
                <a:lnTo>
                  <a:pt x="656" y="0"/>
                </a:lnTo>
                <a:lnTo>
                  <a:pt x="661" y="20"/>
                </a:lnTo>
                <a:lnTo>
                  <a:pt x="664" y="40"/>
                </a:lnTo>
                <a:lnTo>
                  <a:pt x="665" y="57"/>
                </a:lnTo>
                <a:lnTo>
                  <a:pt x="669" y="89"/>
                </a:lnTo>
                <a:lnTo>
                  <a:pt x="670" y="113"/>
                </a:lnTo>
                <a:lnTo>
                  <a:pt x="672" y="135"/>
                </a:lnTo>
                <a:lnTo>
                  <a:pt x="672" y="154"/>
                </a:lnTo>
                <a:lnTo>
                  <a:pt x="669" y="185"/>
                </a:lnTo>
                <a:lnTo>
                  <a:pt x="668" y="208"/>
                </a:lnTo>
                <a:lnTo>
                  <a:pt x="665" y="235"/>
                </a:lnTo>
                <a:lnTo>
                  <a:pt x="660" y="266"/>
                </a:lnTo>
                <a:lnTo>
                  <a:pt x="656" y="293"/>
                </a:lnTo>
                <a:lnTo>
                  <a:pt x="645" y="333"/>
                </a:lnTo>
                <a:lnTo>
                  <a:pt x="636" y="363"/>
                </a:lnTo>
                <a:lnTo>
                  <a:pt x="625" y="391"/>
                </a:lnTo>
                <a:lnTo>
                  <a:pt x="615" y="416"/>
                </a:lnTo>
                <a:lnTo>
                  <a:pt x="600" y="446"/>
                </a:lnTo>
                <a:lnTo>
                  <a:pt x="586" y="475"/>
                </a:lnTo>
                <a:lnTo>
                  <a:pt x="572" y="498"/>
                </a:lnTo>
                <a:lnTo>
                  <a:pt x="555" y="522"/>
                </a:lnTo>
                <a:lnTo>
                  <a:pt x="536" y="551"/>
                </a:lnTo>
                <a:lnTo>
                  <a:pt x="512" y="581"/>
                </a:lnTo>
                <a:lnTo>
                  <a:pt x="491" y="604"/>
                </a:lnTo>
                <a:lnTo>
                  <a:pt x="467" y="629"/>
                </a:lnTo>
                <a:lnTo>
                  <a:pt x="440" y="653"/>
                </a:lnTo>
                <a:lnTo>
                  <a:pt x="413" y="676"/>
                </a:lnTo>
                <a:lnTo>
                  <a:pt x="392" y="693"/>
                </a:lnTo>
                <a:lnTo>
                  <a:pt x="373" y="708"/>
                </a:lnTo>
                <a:lnTo>
                  <a:pt x="349" y="722"/>
                </a:lnTo>
                <a:lnTo>
                  <a:pt x="331" y="735"/>
                </a:lnTo>
                <a:lnTo>
                  <a:pt x="311" y="723"/>
                </a:lnTo>
                <a:lnTo>
                  <a:pt x="294" y="712"/>
                </a:lnTo>
                <a:lnTo>
                  <a:pt x="269" y="694"/>
                </a:lnTo>
                <a:lnTo>
                  <a:pt x="250" y="679"/>
                </a:lnTo>
                <a:lnTo>
                  <a:pt x="229" y="661"/>
                </a:lnTo>
                <a:lnTo>
                  <a:pt x="211" y="644"/>
                </a:lnTo>
                <a:lnTo>
                  <a:pt x="188" y="622"/>
                </a:lnTo>
                <a:lnTo>
                  <a:pt x="168" y="597"/>
                </a:lnTo>
                <a:lnTo>
                  <a:pt x="139" y="563"/>
                </a:lnTo>
                <a:lnTo>
                  <a:pt x="120" y="537"/>
                </a:lnTo>
                <a:lnTo>
                  <a:pt x="103" y="514"/>
                </a:lnTo>
                <a:lnTo>
                  <a:pt x="86" y="484"/>
                </a:lnTo>
                <a:lnTo>
                  <a:pt x="73" y="460"/>
                </a:lnTo>
                <a:lnTo>
                  <a:pt x="58" y="428"/>
                </a:lnTo>
                <a:lnTo>
                  <a:pt x="46" y="400"/>
                </a:lnTo>
                <a:lnTo>
                  <a:pt x="37" y="376"/>
                </a:lnTo>
                <a:lnTo>
                  <a:pt x="26" y="339"/>
                </a:lnTo>
                <a:lnTo>
                  <a:pt x="17" y="312"/>
                </a:lnTo>
                <a:lnTo>
                  <a:pt x="10" y="275"/>
                </a:lnTo>
                <a:lnTo>
                  <a:pt x="6" y="249"/>
                </a:lnTo>
                <a:lnTo>
                  <a:pt x="1" y="208"/>
                </a:lnTo>
                <a:lnTo>
                  <a:pt x="0" y="177"/>
                </a:lnTo>
                <a:lnTo>
                  <a:pt x="0" y="141"/>
                </a:lnTo>
                <a:lnTo>
                  <a:pt x="1" y="104"/>
                </a:lnTo>
                <a:lnTo>
                  <a:pt x="3" y="74"/>
                </a:lnTo>
                <a:lnTo>
                  <a:pt x="7" y="43"/>
                </a:lnTo>
                <a:lnTo>
                  <a:pt x="11" y="19"/>
                </a:lnTo>
                <a:lnTo>
                  <a:pt x="15" y="1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197520" y="312588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303520" y="3125880"/>
            <a:ext cx="37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8EA-7DE0-4E6C-A8AE-37F914213362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743120" y="574200"/>
            <a:ext cx="570240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ub-Additi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37920" y="1843200"/>
            <a:ext cx="7848360" cy="123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tmen Domain, Database Domain, and Fax Domain are sub-add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517920" y="4605480"/>
            <a:ext cx="533556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92000"/>
              </a:lnSpc>
              <a:spcBef>
                <a:spcPts val="1437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“Delivery Domain” (where postmen don’t have to return to the Post Office) is not sub-additiv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1884240" y="2862360"/>
            <a:ext cx="5047920" cy="864720"/>
            <a:chOff x="1884240" y="2862360"/>
            <a:chExt cx="5047920" cy="864720"/>
          </a:xfrm>
        </p:grpSpPr>
        <p:pic>
          <p:nvPicPr>
            <p:cNvPr id="2790" name="" descr=""/>
            <p:cNvPicPr/>
            <p:nvPr/>
          </p:nvPicPr>
          <p:blipFill>
            <a:blip r:embed="rId1"/>
            <a:stretch/>
          </p:blipFill>
          <p:spPr>
            <a:xfrm>
              <a:off x="3974400" y="2959200"/>
              <a:ext cx="10904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1" name="" descr=""/>
            <p:cNvPicPr/>
            <p:nvPr/>
          </p:nvPicPr>
          <p:blipFill>
            <a:blip r:embed="rId2"/>
            <a:stretch/>
          </p:blipFill>
          <p:spPr>
            <a:xfrm>
              <a:off x="5640840" y="2862360"/>
              <a:ext cx="1291320" cy="86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2" name=""/>
            <p:cNvGrpSpPr/>
            <p:nvPr/>
          </p:nvGrpSpPr>
          <p:grpSpPr>
            <a:xfrm>
              <a:off x="1884240" y="3064680"/>
              <a:ext cx="1455120" cy="599040"/>
              <a:chOff x="1884240" y="3064680"/>
              <a:chExt cx="1455120" cy="599040"/>
            </a:xfrm>
          </p:grpSpPr>
          <p:sp>
            <p:nvSpPr>
              <p:cNvPr id="2793" name=""/>
              <p:cNvSpPr/>
              <p:nvPr/>
            </p:nvSpPr>
            <p:spPr>
              <a:xfrm>
                <a:off x="1884240" y="3064680"/>
                <a:ext cx="1455120" cy="59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4" name=""/>
              <p:cNvGrpSpPr/>
              <p:nvPr/>
            </p:nvGrpSpPr>
            <p:grpSpPr>
              <a:xfrm>
                <a:off x="1921680" y="3080880"/>
                <a:ext cx="941760" cy="478440"/>
                <a:chOff x="1921680" y="3080880"/>
                <a:chExt cx="941760" cy="478440"/>
              </a:xfrm>
            </p:grpSpPr>
            <p:grpSp>
              <p:nvGrpSpPr>
                <p:cNvPr id="2795" name=""/>
                <p:cNvGrpSpPr/>
                <p:nvPr/>
              </p:nvGrpSpPr>
              <p:grpSpPr>
                <a:xfrm>
                  <a:off x="1921680" y="3080880"/>
                  <a:ext cx="279000" cy="144360"/>
                  <a:chOff x="1921680" y="3080880"/>
                  <a:chExt cx="279000" cy="144360"/>
                </a:xfrm>
              </p:grpSpPr>
              <p:sp>
                <p:nvSpPr>
                  <p:cNvPr id="2796" name=""/>
                  <p:cNvSpPr/>
                  <p:nvPr/>
                </p:nvSpPr>
                <p:spPr>
                  <a:xfrm>
                    <a:off x="1921680" y="3080880"/>
                    <a:ext cx="279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0">
                        <a:moveTo>
                          <a:pt x="0" y="0"/>
                        </a:moveTo>
                        <a:lnTo>
                          <a:pt x="169" y="0"/>
                        </a:lnTo>
                        <a:lnTo>
                          <a:pt x="16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1921680" y="3121920"/>
                    <a:ext cx="269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">
                        <a:moveTo>
                          <a:pt x="0" y="0"/>
                        </a:moveTo>
                        <a:lnTo>
                          <a:pt x="163" y="0"/>
                        </a:lnTo>
                        <a:lnTo>
                          <a:pt x="163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1921680" y="3166560"/>
                    <a:ext cx="226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">
                        <a:moveTo>
                          <a:pt x="0" y="0"/>
                        </a:moveTo>
                        <a:lnTo>
                          <a:pt x="137" y="0"/>
                        </a:lnTo>
                        <a:lnTo>
                          <a:pt x="137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1921680" y="3207600"/>
                    <a:ext cx="259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">
                        <a:moveTo>
                          <a:pt x="0" y="0"/>
                        </a:moveTo>
                        <a:lnTo>
                          <a:pt x="157" y="0"/>
                        </a:lnTo>
                        <a:lnTo>
                          <a:pt x="15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0" name=""/>
                <p:cNvGrpSpPr/>
                <p:nvPr/>
              </p:nvGrpSpPr>
              <p:grpSpPr>
                <a:xfrm>
                  <a:off x="2436120" y="3321000"/>
                  <a:ext cx="427320" cy="238320"/>
                  <a:chOff x="2436120" y="3321000"/>
                  <a:chExt cx="427320" cy="238320"/>
                </a:xfrm>
              </p:grpSpPr>
              <p:sp>
                <p:nvSpPr>
                  <p:cNvPr id="2801" name=""/>
                  <p:cNvSpPr/>
                  <p:nvPr/>
                </p:nvSpPr>
                <p:spPr>
                  <a:xfrm>
                    <a:off x="2436120" y="3321000"/>
                    <a:ext cx="404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18">
                        <a:moveTo>
                          <a:pt x="0" y="0"/>
                        </a:moveTo>
                        <a:lnTo>
                          <a:pt x="245" y="0"/>
                        </a:lnTo>
                        <a:lnTo>
                          <a:pt x="245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2436120" y="3375360"/>
                    <a:ext cx="3945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8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2436120" y="3426120"/>
                    <a:ext cx="4273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8">
                        <a:moveTo>
                          <a:pt x="0" y="0"/>
                        </a:moveTo>
                        <a:lnTo>
                          <a:pt x="259" y="0"/>
                        </a:lnTo>
                        <a:lnTo>
                          <a:pt x="259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2436120" y="3480480"/>
                    <a:ext cx="3632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0" y="0"/>
                        </a:moveTo>
                        <a:lnTo>
                          <a:pt x="220" y="0"/>
                        </a:lnTo>
                        <a:lnTo>
                          <a:pt x="22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2625120" y="3533040"/>
                    <a:ext cx="2365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6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6" name=""/>
              <p:cNvGrpSpPr/>
              <p:nvPr/>
            </p:nvGrpSpPr>
            <p:grpSpPr>
              <a:xfrm>
                <a:off x="3151800" y="3080880"/>
                <a:ext cx="152280" cy="158760"/>
                <a:chOff x="3151800" y="3080880"/>
                <a:chExt cx="152280" cy="158760"/>
              </a:xfrm>
            </p:grpSpPr>
            <p:grpSp>
              <p:nvGrpSpPr>
                <p:cNvPr id="2807" name=""/>
                <p:cNvGrpSpPr/>
                <p:nvPr/>
              </p:nvGrpSpPr>
              <p:grpSpPr>
                <a:xfrm>
                  <a:off x="3151800" y="3080880"/>
                  <a:ext cx="152280" cy="158760"/>
                  <a:chOff x="3151800" y="3080880"/>
                  <a:chExt cx="152280" cy="158760"/>
                </a:xfrm>
              </p:grpSpPr>
              <p:sp>
                <p:nvSpPr>
                  <p:cNvPr id="2808" name=""/>
                  <p:cNvSpPr/>
                  <p:nvPr/>
                </p:nvSpPr>
                <p:spPr>
                  <a:xfrm>
                    <a:off x="3158280" y="3080880"/>
                    <a:ext cx="134280" cy="15732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3300840" y="3080880"/>
                    <a:ext cx="32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" y="16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1" y="20"/>
                        </a:lnTo>
                        <a:lnTo>
                          <a:pt x="1" y="24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1" y="32"/>
                        </a:lnTo>
                        <a:lnTo>
                          <a:pt x="0" y="32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8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2"/>
                        </a:lnTo>
                        <a:lnTo>
                          <a:pt x="1" y="56"/>
                        </a:lnTo>
                        <a:lnTo>
                          <a:pt x="0" y="56"/>
                        </a:lnTo>
                        <a:lnTo>
                          <a:pt x="0" y="60"/>
                        </a:lnTo>
                        <a:lnTo>
                          <a:pt x="1" y="60"/>
                        </a:lnTo>
                        <a:lnTo>
                          <a:pt x="1" y="64"/>
                        </a:lnTo>
                        <a:lnTo>
                          <a:pt x="0" y="64"/>
                        </a:lnTo>
                        <a:lnTo>
                          <a:pt x="0" y="68"/>
                        </a:lnTo>
                        <a:lnTo>
                          <a:pt x="1" y="68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8"/>
                        </a:lnTo>
                        <a:lnTo>
                          <a:pt x="0" y="88"/>
                        </a:lnTo>
                        <a:lnTo>
                          <a:pt x="0" y="92"/>
                        </a:lnTo>
                        <a:lnTo>
                          <a:pt x="1" y="92"/>
                        </a:lnTo>
                        <a:lnTo>
                          <a:pt x="1" y="96"/>
                        </a:lnTo>
                        <a:lnTo>
                          <a:pt x="0" y="96"/>
                        </a:lnTo>
                        <a:lnTo>
                          <a:pt x="0" y="9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3151800" y="3080880"/>
                    <a:ext cx="32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9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1" y="16"/>
                        </a:lnTo>
                        <a:lnTo>
                          <a:pt x="1" y="20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1" y="24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1" y="32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8"/>
                        </a:lnTo>
                        <a:lnTo>
                          <a:pt x="1" y="48"/>
                        </a:lnTo>
                        <a:lnTo>
                          <a:pt x="1" y="52"/>
                        </a:lnTo>
                        <a:lnTo>
                          <a:pt x="0" y="52"/>
                        </a:lnTo>
                        <a:lnTo>
                          <a:pt x="0" y="56"/>
                        </a:lnTo>
                        <a:lnTo>
                          <a:pt x="1" y="56"/>
                        </a:lnTo>
                        <a:lnTo>
                          <a:pt x="1" y="60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1" y="64"/>
                        </a:lnTo>
                        <a:lnTo>
                          <a:pt x="1" y="68"/>
                        </a:lnTo>
                        <a:lnTo>
                          <a:pt x="0" y="68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8"/>
                        </a:lnTo>
                        <a:lnTo>
                          <a:pt x="1" y="88"/>
                        </a:lnTo>
                        <a:lnTo>
                          <a:pt x="1" y="92"/>
                        </a:lnTo>
                        <a:lnTo>
                          <a:pt x="0" y="92"/>
                        </a:lnTo>
                        <a:lnTo>
                          <a:pt x="0" y="96"/>
                        </a:lnTo>
                        <a:lnTo>
                          <a:pt x="1" y="96"/>
                        </a:lnTo>
                        <a:lnTo>
                          <a:pt x="1" y="9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1" name=""/>
                <p:cNvGrpSpPr/>
                <p:nvPr/>
              </p:nvGrpSpPr>
              <p:grpSpPr>
                <a:xfrm>
                  <a:off x="3173040" y="3087360"/>
                  <a:ext cx="111240" cy="142200"/>
                  <a:chOff x="3173040" y="3087360"/>
                  <a:chExt cx="111240" cy="142200"/>
                </a:xfrm>
              </p:grpSpPr>
              <p:sp>
                <p:nvSpPr>
                  <p:cNvPr id="2812" name=""/>
                  <p:cNvSpPr/>
                  <p:nvPr/>
                </p:nvSpPr>
                <p:spPr>
                  <a:xfrm>
                    <a:off x="3263040" y="3126600"/>
                    <a:ext cx="212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6">
                        <a:moveTo>
                          <a:pt x="1" y="1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7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11"/>
                        </a:lnTo>
                        <a:lnTo>
                          <a:pt x="7" y="12"/>
                        </a:lnTo>
                        <a:lnTo>
                          <a:pt x="8" y="17"/>
                        </a:lnTo>
                        <a:lnTo>
                          <a:pt x="8" y="21"/>
                        </a:lnTo>
                        <a:lnTo>
                          <a:pt x="9" y="24"/>
                        </a:lnTo>
                        <a:lnTo>
                          <a:pt x="10" y="29"/>
                        </a:lnTo>
                        <a:lnTo>
                          <a:pt x="10" y="32"/>
                        </a:lnTo>
                        <a:lnTo>
                          <a:pt x="11" y="35"/>
                        </a:lnTo>
                        <a:lnTo>
                          <a:pt x="12" y="38"/>
                        </a:lnTo>
                        <a:lnTo>
                          <a:pt x="12" y="41"/>
                        </a:lnTo>
                        <a:lnTo>
                          <a:pt x="12" y="44"/>
                        </a:lnTo>
                        <a:lnTo>
                          <a:pt x="11" y="44"/>
                        </a:lnTo>
                        <a:lnTo>
                          <a:pt x="9" y="44"/>
                        </a:lnTo>
                        <a:lnTo>
                          <a:pt x="8" y="43"/>
                        </a:lnTo>
                        <a:lnTo>
                          <a:pt x="7" y="43"/>
                        </a:lnTo>
                        <a:lnTo>
                          <a:pt x="6" y="44"/>
                        </a:lnTo>
                        <a:lnTo>
                          <a:pt x="5" y="44"/>
                        </a:lnTo>
                        <a:lnTo>
                          <a:pt x="4" y="45"/>
                        </a:lnTo>
                        <a:lnTo>
                          <a:pt x="3" y="45"/>
                        </a:lnTo>
                        <a:lnTo>
                          <a:pt x="2" y="45"/>
                        </a:lnTo>
                        <a:lnTo>
                          <a:pt x="2" y="45"/>
                        </a:lnTo>
                        <a:lnTo>
                          <a:pt x="1" y="44"/>
                        </a:lnTo>
                        <a:lnTo>
                          <a:pt x="1" y="44"/>
                        </a:lnTo>
                        <a:lnTo>
                          <a:pt x="2" y="43"/>
                        </a:lnTo>
                        <a:lnTo>
                          <a:pt x="2" y="42"/>
                        </a:lnTo>
                        <a:lnTo>
                          <a:pt x="2" y="39"/>
                        </a:lnTo>
                        <a:lnTo>
                          <a:pt x="2" y="37"/>
                        </a:lnTo>
                        <a:lnTo>
                          <a:pt x="2" y="35"/>
                        </a:lnTo>
                        <a:lnTo>
                          <a:pt x="2" y="33"/>
                        </a:lnTo>
                        <a:lnTo>
                          <a:pt x="1" y="29"/>
                        </a:lnTo>
                        <a:lnTo>
                          <a:pt x="1" y="27"/>
                        </a:lnTo>
                        <a:lnTo>
                          <a:pt x="1" y="24"/>
                        </a:lnTo>
                        <a:lnTo>
                          <a:pt x="1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13" name=""/>
                  <p:cNvGrpSpPr/>
                  <p:nvPr/>
                </p:nvGrpSpPr>
                <p:grpSpPr>
                  <a:xfrm>
                    <a:off x="3263040" y="3131640"/>
                    <a:ext cx="19080" cy="60120"/>
                    <a:chOff x="3263040" y="3131640"/>
                    <a:chExt cx="19080" cy="60120"/>
                  </a:xfrm>
                </p:grpSpPr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3268080" y="3183840"/>
                      <a:ext cx="140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"/>
                    <p:cNvSpPr/>
                    <p:nvPr/>
                  </p:nvSpPr>
                  <p:spPr>
                    <a:xfrm>
                      <a:off x="3264840" y="3172320"/>
                      <a:ext cx="15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6" name=""/>
                    <p:cNvSpPr/>
                    <p:nvPr/>
                  </p:nvSpPr>
                  <p:spPr>
                    <a:xfrm>
                      <a:off x="3264840" y="315936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2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7" name=""/>
                    <p:cNvSpPr/>
                    <p:nvPr/>
                  </p:nvSpPr>
                  <p:spPr>
                    <a:xfrm>
                      <a:off x="3263040" y="3149640"/>
                      <a:ext cx="129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8" name=""/>
                    <p:cNvSpPr/>
                    <p:nvPr/>
                  </p:nvSpPr>
                  <p:spPr>
                    <a:xfrm>
                      <a:off x="3263040" y="3139560"/>
                      <a:ext cx="111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4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>
                      <a:off x="3263040" y="313164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4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0" name=""/>
                  <p:cNvGrpSpPr/>
                  <p:nvPr/>
                </p:nvGrpSpPr>
                <p:grpSpPr>
                  <a:xfrm>
                    <a:off x="3254760" y="3131640"/>
                    <a:ext cx="9720" cy="40320"/>
                    <a:chOff x="3254760" y="3131640"/>
                    <a:chExt cx="9720" cy="40320"/>
                  </a:xfrm>
                </p:grpSpPr>
                <p:sp>
                  <p:nvSpPr>
                    <p:cNvPr id="2821" name=""/>
                    <p:cNvSpPr/>
                    <p:nvPr/>
                  </p:nvSpPr>
                  <p:spPr>
                    <a:xfrm>
                      <a:off x="3254760" y="3131640"/>
                      <a:ext cx="792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6"/>
                          </a:lnTo>
                          <a:lnTo>
                            <a:pt x="4" y="8"/>
                          </a:lnTo>
                          <a:lnTo>
                            <a:pt x="4" y="11"/>
                          </a:lnTo>
                          <a:lnTo>
                            <a:pt x="4" y="12"/>
                          </a:lnTo>
                          <a:lnTo>
                            <a:pt x="4" y="15"/>
                          </a:lnTo>
                          <a:lnTo>
                            <a:pt x="4" y="18"/>
                          </a:lnTo>
                          <a:lnTo>
                            <a:pt x="4" y="20"/>
                          </a:lnTo>
                          <a:lnTo>
                            <a:pt x="4" y="21"/>
                          </a:lnTo>
                          <a:lnTo>
                            <a:pt x="4" y="23"/>
                          </a:lnTo>
                          <a:lnTo>
                            <a:pt x="4" y="24"/>
                          </a:lnTo>
                          <a:lnTo>
                            <a:pt x="4" y="21"/>
                          </a:lnTo>
                          <a:lnTo>
                            <a:pt x="3" y="19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8"/>
                          </a:lnTo>
                          <a:lnTo>
                            <a:pt x="0" y="5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2" name=""/>
                    <p:cNvSpPr/>
                    <p:nvPr/>
                  </p:nvSpPr>
                  <p:spPr>
                    <a:xfrm>
                      <a:off x="3254760" y="3136320"/>
                      <a:ext cx="64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3" name=""/>
                    <p:cNvSpPr/>
                    <p:nvPr/>
                  </p:nvSpPr>
                  <p:spPr>
                    <a:xfrm>
                      <a:off x="3258000" y="314136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4" name=""/>
                    <p:cNvSpPr/>
                    <p:nvPr/>
                  </p:nvSpPr>
                  <p:spPr>
                    <a:xfrm>
                      <a:off x="3258000" y="31496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5" name=""/>
                    <p:cNvSpPr/>
                    <p:nvPr/>
                  </p:nvSpPr>
                  <p:spPr>
                    <a:xfrm>
                      <a:off x="3259440" y="31543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6" name=""/>
                    <p:cNvSpPr/>
                    <p:nvPr/>
                  </p:nvSpPr>
                  <p:spPr>
                    <a:xfrm>
                      <a:off x="3261240" y="31608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7" name=""/>
                  <p:cNvGrpSpPr/>
                  <p:nvPr/>
                </p:nvGrpSpPr>
                <p:grpSpPr>
                  <a:xfrm>
                    <a:off x="3218760" y="3106800"/>
                    <a:ext cx="9720" cy="30600"/>
                    <a:chOff x="3218760" y="3106800"/>
                    <a:chExt cx="9720" cy="30600"/>
                  </a:xfrm>
                </p:grpSpPr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3220560" y="3106800"/>
                      <a:ext cx="792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9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6"/>
                          </a:lnTo>
                          <a:lnTo>
                            <a:pt x="3" y="10"/>
                          </a:lnTo>
                          <a:lnTo>
                            <a:pt x="3" y="13"/>
                          </a:lnTo>
                          <a:lnTo>
                            <a:pt x="4" y="14"/>
                          </a:lnTo>
                          <a:lnTo>
                            <a:pt x="3" y="16"/>
                          </a:lnTo>
                          <a:lnTo>
                            <a:pt x="3" y="17"/>
                          </a:lnTo>
                          <a:lnTo>
                            <a:pt x="3" y="18"/>
                          </a:lnTo>
                          <a:lnTo>
                            <a:pt x="2" y="14"/>
                          </a:lnTo>
                          <a:lnTo>
                            <a:pt x="1" y="11"/>
                          </a:lnTo>
                          <a:lnTo>
                            <a:pt x="1" y="8"/>
                          </a:lnTo>
                          <a:lnTo>
                            <a:pt x="1" y="8"/>
                          </a:lnTo>
                          <a:lnTo>
                            <a:pt x="1" y="6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9" name=""/>
                    <p:cNvGrpSpPr/>
                    <p:nvPr/>
                  </p:nvGrpSpPr>
                  <p:grpSpPr>
                    <a:xfrm>
                      <a:off x="3218760" y="3110040"/>
                      <a:ext cx="9720" cy="19080"/>
                      <a:chOff x="3218760" y="3110040"/>
                      <a:chExt cx="9720" cy="19080"/>
                    </a:xfrm>
                  </p:grpSpPr>
                  <p:sp>
                    <p:nvSpPr>
                      <p:cNvPr id="2830" name=""/>
                      <p:cNvSpPr/>
                      <p:nvPr/>
                    </p:nvSpPr>
                    <p:spPr>
                      <a:xfrm>
                        <a:off x="3218760" y="311004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1" name=""/>
                      <p:cNvSpPr/>
                      <p:nvPr/>
                    </p:nvSpPr>
                    <p:spPr>
                      <a:xfrm>
                        <a:off x="3225240" y="311328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2" name=""/>
                      <p:cNvSpPr/>
                      <p:nvPr/>
                    </p:nvSpPr>
                    <p:spPr>
                      <a:xfrm>
                        <a:off x="3218760" y="311796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3" name=""/>
                      <p:cNvSpPr/>
                      <p:nvPr/>
                    </p:nvSpPr>
                    <p:spPr>
                      <a:xfrm>
                        <a:off x="3223440" y="311940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4" name=""/>
                      <p:cNvSpPr/>
                      <p:nvPr/>
                    </p:nvSpPr>
                    <p:spPr>
                      <a:xfrm>
                        <a:off x="3222000" y="3127320"/>
                        <a:ext cx="4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35" name=""/>
                  <p:cNvSpPr/>
                  <p:nvPr/>
                </p:nvSpPr>
                <p:spPr>
                  <a:xfrm>
                    <a:off x="3263040" y="319536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3222000" y="3111840"/>
                    <a:ext cx="424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3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4" y="1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3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8" y="5"/>
                        </a:lnTo>
                        <a:lnTo>
                          <a:pt x="19" y="6"/>
                        </a:lnTo>
                        <a:lnTo>
                          <a:pt x="19" y="8"/>
                        </a:lnTo>
                        <a:lnTo>
                          <a:pt x="18" y="11"/>
                        </a:lnTo>
                        <a:lnTo>
                          <a:pt x="18" y="13"/>
                        </a:lnTo>
                        <a:lnTo>
                          <a:pt x="19" y="18"/>
                        </a:lnTo>
                        <a:lnTo>
                          <a:pt x="20" y="22"/>
                        </a:lnTo>
                        <a:lnTo>
                          <a:pt x="21" y="28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5" y="40"/>
                        </a:lnTo>
                        <a:lnTo>
                          <a:pt x="25" y="43"/>
                        </a:lnTo>
                        <a:lnTo>
                          <a:pt x="25" y="45"/>
                        </a:lnTo>
                        <a:lnTo>
                          <a:pt x="25" y="46"/>
                        </a:lnTo>
                        <a:lnTo>
                          <a:pt x="25" y="50"/>
                        </a:lnTo>
                        <a:lnTo>
                          <a:pt x="25" y="51"/>
                        </a:lnTo>
                        <a:lnTo>
                          <a:pt x="25" y="52"/>
                        </a:lnTo>
                        <a:lnTo>
                          <a:pt x="25" y="51"/>
                        </a:lnTo>
                        <a:lnTo>
                          <a:pt x="24" y="50"/>
                        </a:lnTo>
                        <a:lnTo>
                          <a:pt x="23" y="50"/>
                        </a:lnTo>
                        <a:lnTo>
                          <a:pt x="23" y="49"/>
                        </a:lnTo>
                        <a:lnTo>
                          <a:pt x="22" y="49"/>
                        </a:lnTo>
                        <a:lnTo>
                          <a:pt x="20" y="48"/>
                        </a:lnTo>
                        <a:lnTo>
                          <a:pt x="18" y="48"/>
                        </a:lnTo>
                        <a:lnTo>
                          <a:pt x="16" y="48"/>
                        </a:lnTo>
                        <a:lnTo>
                          <a:pt x="13" y="49"/>
                        </a:lnTo>
                        <a:lnTo>
                          <a:pt x="10" y="50"/>
                        </a:lnTo>
                        <a:lnTo>
                          <a:pt x="9" y="51"/>
                        </a:lnTo>
                        <a:lnTo>
                          <a:pt x="7" y="51"/>
                        </a:lnTo>
                        <a:lnTo>
                          <a:pt x="6" y="51"/>
                        </a:lnTo>
                        <a:lnTo>
                          <a:pt x="5" y="51"/>
                        </a:lnTo>
                        <a:lnTo>
                          <a:pt x="4" y="51"/>
                        </a:lnTo>
                        <a:lnTo>
                          <a:pt x="3" y="51"/>
                        </a:lnTo>
                        <a:lnTo>
                          <a:pt x="3" y="50"/>
                        </a:lnTo>
                        <a:lnTo>
                          <a:pt x="2" y="50"/>
                        </a:lnTo>
                        <a:lnTo>
                          <a:pt x="1" y="50"/>
                        </a:lnTo>
                        <a:lnTo>
                          <a:pt x="0" y="49"/>
                        </a:lnTo>
                        <a:lnTo>
                          <a:pt x="0" y="48"/>
                        </a:lnTo>
                        <a:lnTo>
                          <a:pt x="2" y="46"/>
                        </a:lnTo>
                        <a:lnTo>
                          <a:pt x="3" y="46"/>
                        </a:lnTo>
                        <a:lnTo>
                          <a:pt x="5" y="46"/>
                        </a:lnTo>
                        <a:lnTo>
                          <a:pt x="8" y="46"/>
                        </a:lnTo>
                        <a:lnTo>
                          <a:pt x="10" y="46"/>
                        </a:lnTo>
                        <a:lnTo>
                          <a:pt x="11" y="46"/>
                        </a:lnTo>
                        <a:lnTo>
                          <a:pt x="11" y="44"/>
                        </a:lnTo>
                        <a:lnTo>
                          <a:pt x="11" y="42"/>
                        </a:lnTo>
                        <a:lnTo>
                          <a:pt x="10" y="38"/>
                        </a:lnTo>
                        <a:lnTo>
                          <a:pt x="9" y="34"/>
                        </a:lnTo>
                        <a:lnTo>
                          <a:pt x="8" y="28"/>
                        </a:lnTo>
                        <a:lnTo>
                          <a:pt x="6" y="23"/>
                        </a:lnTo>
                        <a:lnTo>
                          <a:pt x="5" y="20"/>
                        </a:lnTo>
                        <a:lnTo>
                          <a:pt x="3" y="17"/>
                        </a:lnTo>
                        <a:lnTo>
                          <a:pt x="4" y="15"/>
                        </a:lnTo>
                        <a:lnTo>
                          <a:pt x="4" y="13"/>
                        </a:lnTo>
                        <a:lnTo>
                          <a:pt x="4" y="11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5" y="6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37" name=""/>
                  <p:cNvGrpSpPr/>
                  <p:nvPr/>
                </p:nvGrpSpPr>
                <p:grpSpPr>
                  <a:xfrm>
                    <a:off x="3228480" y="3116520"/>
                    <a:ext cx="35640" cy="70200"/>
                    <a:chOff x="3228480" y="3116520"/>
                    <a:chExt cx="35640" cy="70200"/>
                  </a:xfrm>
                </p:grpSpPr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3228480" y="3126240"/>
                      <a:ext cx="244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3" y="3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5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3228480" y="3135960"/>
                      <a:ext cx="259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8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2" y="3"/>
                          </a:lnTo>
                          <a:lnTo>
                            <a:pt x="14" y="4"/>
                          </a:lnTo>
                          <a:lnTo>
                            <a:pt x="15" y="5"/>
                          </a:lnTo>
                          <a:lnTo>
                            <a:pt x="15" y="7"/>
                          </a:lnTo>
                          <a:lnTo>
                            <a:pt x="14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8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3233160" y="3149280"/>
                      <a:ext cx="2592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5" y="6"/>
                          </a:lnTo>
                          <a:lnTo>
                            <a:pt x="14" y="6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9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3234600" y="3162240"/>
                      <a:ext cx="27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0"/>
                          </a:lnTo>
                          <a:lnTo>
                            <a:pt x="11" y="1"/>
                          </a:lnTo>
                          <a:lnTo>
                            <a:pt x="13" y="2"/>
                          </a:lnTo>
                          <a:lnTo>
                            <a:pt x="14" y="3"/>
                          </a:lnTo>
                          <a:lnTo>
                            <a:pt x="15" y="3"/>
                          </a:lnTo>
                          <a:lnTo>
                            <a:pt x="15" y="4"/>
                          </a:lnTo>
                          <a:lnTo>
                            <a:pt x="16" y="6"/>
                          </a:lnTo>
                          <a:lnTo>
                            <a:pt x="15" y="5"/>
                          </a:lnTo>
                          <a:lnTo>
                            <a:pt x="14" y="5"/>
                          </a:lnTo>
                          <a:lnTo>
                            <a:pt x="12" y="4"/>
                          </a:lnTo>
                          <a:lnTo>
                            <a:pt x="11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3239640" y="3178800"/>
                      <a:ext cx="244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9" y="1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4" y="2"/>
                          </a:lnTo>
                          <a:lnTo>
                            <a:pt x="14" y="3"/>
                          </a:lnTo>
                          <a:lnTo>
                            <a:pt x="14" y="3"/>
                          </a:lnTo>
                          <a:lnTo>
                            <a:pt x="14" y="4"/>
                          </a:lnTo>
                          <a:lnTo>
                            <a:pt x="13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3229920" y="3116520"/>
                      <a:ext cx="226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6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2" y="4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0" y="4"/>
                          </a:lnTo>
                          <a:lnTo>
                            <a:pt x="9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6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4" name=""/>
                  <p:cNvSpPr/>
                  <p:nvPr/>
                </p:nvSpPr>
                <p:spPr>
                  <a:xfrm>
                    <a:off x="3220560" y="3177720"/>
                    <a:ext cx="19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5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9" y="4"/>
                        </a:lnTo>
                        <a:lnTo>
                          <a:pt x="10" y="4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1" y="6"/>
                        </a:lnTo>
                        <a:lnTo>
                          <a:pt x="10" y="7"/>
                        </a:lnTo>
                        <a:lnTo>
                          <a:pt x="10" y="7"/>
                        </a:lnTo>
                        <a:lnTo>
                          <a:pt x="9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220560" y="317772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3173040" y="3108240"/>
                    <a:ext cx="9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2">
                        <a:moveTo>
                          <a:pt x="3" y="0"/>
                        </a:moveTo>
                        <a:lnTo>
                          <a:pt x="2" y="5"/>
                        </a:lnTo>
                        <a:lnTo>
                          <a:pt x="1" y="9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0" y="33"/>
                        </a:lnTo>
                        <a:lnTo>
                          <a:pt x="1" y="39"/>
                        </a:lnTo>
                        <a:lnTo>
                          <a:pt x="2" y="43"/>
                        </a:lnTo>
                        <a:lnTo>
                          <a:pt x="3" y="50"/>
                        </a:lnTo>
                        <a:lnTo>
                          <a:pt x="4" y="54"/>
                        </a:lnTo>
                        <a:lnTo>
                          <a:pt x="4" y="57"/>
                        </a:lnTo>
                        <a:lnTo>
                          <a:pt x="4" y="61"/>
                        </a:lnTo>
                        <a:lnTo>
                          <a:pt x="5" y="58"/>
                        </a:lnTo>
                        <a:lnTo>
                          <a:pt x="5" y="55"/>
                        </a:lnTo>
                        <a:lnTo>
                          <a:pt x="4" y="51"/>
                        </a:lnTo>
                        <a:lnTo>
                          <a:pt x="4" y="48"/>
                        </a:lnTo>
                        <a:lnTo>
                          <a:pt x="3" y="45"/>
                        </a:lnTo>
                        <a:lnTo>
                          <a:pt x="2" y="40"/>
                        </a:lnTo>
                        <a:lnTo>
                          <a:pt x="2" y="37"/>
                        </a:lnTo>
                        <a:lnTo>
                          <a:pt x="1" y="34"/>
                        </a:lnTo>
                        <a:lnTo>
                          <a:pt x="1" y="31"/>
                        </a:lnTo>
                        <a:lnTo>
                          <a:pt x="1" y="26"/>
                        </a:lnTo>
                        <a:lnTo>
                          <a:pt x="1" y="21"/>
                        </a:lnTo>
                        <a:lnTo>
                          <a:pt x="1" y="16"/>
                        </a:lnTo>
                        <a:lnTo>
                          <a:pt x="1" y="11"/>
                        </a:lnTo>
                        <a:lnTo>
                          <a:pt x="2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47" name=""/>
                  <p:cNvGrpSpPr/>
                  <p:nvPr/>
                </p:nvGrpSpPr>
                <p:grpSpPr>
                  <a:xfrm>
                    <a:off x="3174480" y="3087360"/>
                    <a:ext cx="11160" cy="11160"/>
                    <a:chOff x="3174480" y="3087360"/>
                    <a:chExt cx="11160" cy="11160"/>
                  </a:xfrm>
                </p:grpSpPr>
                <p:grpSp>
                  <p:nvGrpSpPr>
                    <p:cNvPr id="2848" name=""/>
                    <p:cNvGrpSpPr/>
                    <p:nvPr/>
                  </p:nvGrpSpPr>
                  <p:grpSpPr>
                    <a:xfrm>
                      <a:off x="3174480" y="3087360"/>
                      <a:ext cx="11160" cy="11160"/>
                      <a:chOff x="3174480" y="3087360"/>
                      <a:chExt cx="11160" cy="11160"/>
                    </a:xfrm>
                  </p:grpSpPr>
                  <p:sp>
                    <p:nvSpPr>
                      <p:cNvPr id="2849" name=""/>
                      <p:cNvSpPr/>
                      <p:nvPr/>
                    </p:nvSpPr>
                    <p:spPr>
                      <a:xfrm>
                        <a:off x="3174480" y="3090600"/>
                        <a:ext cx="111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0" name=""/>
                      <p:cNvSpPr/>
                      <p:nvPr/>
                    </p:nvSpPr>
                    <p:spPr>
                      <a:xfrm>
                        <a:off x="3174480" y="3095280"/>
                        <a:ext cx="4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2">
                            <a:moveTo>
                              <a:pt x="2" y="1"/>
                            </a:move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1" name=""/>
                      <p:cNvSpPr/>
                      <p:nvPr/>
                    </p:nvSpPr>
                    <p:spPr>
                      <a:xfrm>
                        <a:off x="3177720" y="3087360"/>
                        <a:ext cx="468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2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2" y="3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3174480" y="3090600"/>
                      <a:ext cx="111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3" name=""/>
                  <p:cNvSpPr/>
                  <p:nvPr/>
                </p:nvSpPr>
                <p:spPr>
                  <a:xfrm>
                    <a:off x="3180960" y="3136320"/>
                    <a:ext cx="590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0">
                        <a:moveTo>
                          <a:pt x="2" y="2"/>
                        </a:move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7" y="1"/>
                        </a:lnTo>
                        <a:lnTo>
                          <a:pt x="20" y="2"/>
                        </a:lnTo>
                        <a:lnTo>
                          <a:pt x="22" y="3"/>
                        </a:lnTo>
                        <a:lnTo>
                          <a:pt x="25" y="5"/>
                        </a:lnTo>
                        <a:lnTo>
                          <a:pt x="27" y="6"/>
                        </a:lnTo>
                        <a:lnTo>
                          <a:pt x="28" y="7"/>
                        </a:lnTo>
                        <a:lnTo>
                          <a:pt x="29" y="8"/>
                        </a:lnTo>
                        <a:lnTo>
                          <a:pt x="31" y="12"/>
                        </a:lnTo>
                        <a:lnTo>
                          <a:pt x="32" y="17"/>
                        </a:lnTo>
                        <a:lnTo>
                          <a:pt x="33" y="20"/>
                        </a:lnTo>
                        <a:lnTo>
                          <a:pt x="34" y="26"/>
                        </a:lnTo>
                        <a:lnTo>
                          <a:pt x="35" y="29"/>
                        </a:lnTo>
                        <a:lnTo>
                          <a:pt x="35" y="29"/>
                        </a:lnTo>
                        <a:lnTo>
                          <a:pt x="34" y="28"/>
                        </a:lnTo>
                        <a:lnTo>
                          <a:pt x="33" y="27"/>
                        </a:lnTo>
                        <a:lnTo>
                          <a:pt x="32" y="26"/>
                        </a:lnTo>
                        <a:lnTo>
                          <a:pt x="27" y="24"/>
                        </a:lnTo>
                        <a:lnTo>
                          <a:pt x="25" y="23"/>
                        </a:lnTo>
                        <a:lnTo>
                          <a:pt x="22" y="22"/>
                        </a:lnTo>
                        <a:lnTo>
                          <a:pt x="20" y="22"/>
                        </a:lnTo>
                        <a:lnTo>
                          <a:pt x="17" y="22"/>
                        </a:lnTo>
                        <a:lnTo>
                          <a:pt x="14" y="22"/>
                        </a:lnTo>
                        <a:lnTo>
                          <a:pt x="11" y="22"/>
                        </a:lnTo>
                        <a:lnTo>
                          <a:pt x="8" y="22"/>
                        </a:lnTo>
                        <a:lnTo>
                          <a:pt x="5" y="23"/>
                        </a:lnTo>
                        <a:lnTo>
                          <a:pt x="3" y="24"/>
                        </a:lnTo>
                        <a:lnTo>
                          <a:pt x="2" y="24"/>
                        </a:lnTo>
                        <a:lnTo>
                          <a:pt x="0" y="25"/>
                        </a:lnTo>
                        <a:lnTo>
                          <a:pt x="1" y="17"/>
                        </a:lnTo>
                        <a:lnTo>
                          <a:pt x="2" y="11"/>
                        </a:lnTo>
                        <a:lnTo>
                          <a:pt x="3" y="5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4" name=""/>
                  <p:cNvGrpSpPr/>
                  <p:nvPr/>
                </p:nvGrpSpPr>
                <p:grpSpPr>
                  <a:xfrm>
                    <a:off x="3184560" y="3129840"/>
                    <a:ext cx="53280" cy="48600"/>
                    <a:chOff x="3184560" y="3129840"/>
                    <a:chExt cx="53280" cy="48600"/>
                  </a:xfrm>
                </p:grpSpPr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3187440" y="3129840"/>
                      <a:ext cx="4248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1">
                          <a:moveTo>
                            <a:pt x="0" y="1"/>
                          </a:moveTo>
                          <a:lnTo>
                            <a:pt x="3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2" y="6"/>
                          </a:lnTo>
                          <a:lnTo>
                            <a:pt x="23" y="7"/>
                          </a:lnTo>
                          <a:lnTo>
                            <a:pt x="25" y="10"/>
                          </a:lnTo>
                          <a:lnTo>
                            <a:pt x="24" y="9"/>
                          </a:lnTo>
                          <a:lnTo>
                            <a:pt x="21" y="7"/>
                          </a:ln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5" y="4"/>
                          </a:lnTo>
                          <a:lnTo>
                            <a:pt x="13" y="4"/>
                          </a:lnTo>
                          <a:lnTo>
                            <a:pt x="11" y="3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3186000" y="3142800"/>
                      <a:ext cx="4860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2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7" y="0"/>
                          </a:lnTo>
                          <a:lnTo>
                            <a:pt x="10" y="0"/>
                          </a:lnTo>
                          <a:lnTo>
                            <a:pt x="13" y="1"/>
                          </a:lnTo>
                          <a:lnTo>
                            <a:pt x="17" y="2"/>
                          </a:lnTo>
                          <a:lnTo>
                            <a:pt x="19" y="3"/>
                          </a:lnTo>
                          <a:lnTo>
                            <a:pt x="21" y="4"/>
                          </a:lnTo>
                          <a:lnTo>
                            <a:pt x="23" y="4"/>
                          </a:lnTo>
                          <a:lnTo>
                            <a:pt x="24" y="5"/>
                          </a:lnTo>
                          <a:lnTo>
                            <a:pt x="26" y="6"/>
                          </a:lnTo>
                          <a:lnTo>
                            <a:pt x="27" y="7"/>
                          </a:lnTo>
                          <a:lnTo>
                            <a:pt x="28" y="7"/>
                          </a:lnTo>
                          <a:lnTo>
                            <a:pt x="29" y="11"/>
                          </a:lnTo>
                          <a:lnTo>
                            <a:pt x="26" y="10"/>
                          </a:lnTo>
                          <a:lnTo>
                            <a:pt x="24" y="8"/>
                          </a:lnTo>
                          <a:lnTo>
                            <a:pt x="23" y="7"/>
                          </a:lnTo>
                          <a:lnTo>
                            <a:pt x="21" y="7"/>
                          </a:lnTo>
                          <a:lnTo>
                            <a:pt x="19" y="6"/>
                          </a:lnTo>
                          <a:lnTo>
                            <a:pt x="15" y="5"/>
                          </a:lnTo>
                          <a:lnTo>
                            <a:pt x="11" y="4"/>
                          </a:lnTo>
                          <a:lnTo>
                            <a:pt x="8" y="3"/>
                          </a:lnTo>
                          <a:lnTo>
                            <a:pt x="5" y="3"/>
                          </a:lnTo>
                          <a:lnTo>
                            <a:pt x="2" y="4"/>
                          </a:lnTo>
                          <a:lnTo>
                            <a:pt x="0" y="5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3184560" y="3157560"/>
                      <a:ext cx="53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3">
                          <a:moveTo>
                            <a:pt x="0" y="2"/>
                          </a:moveTo>
                          <a:lnTo>
                            <a:pt x="4" y="1"/>
                          </a:lnTo>
                          <a:lnTo>
                            <a:pt x="7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  <a:lnTo>
                            <a:pt x="22" y="3"/>
                          </a:lnTo>
                          <a:lnTo>
                            <a:pt x="25" y="5"/>
                          </a:lnTo>
                          <a:lnTo>
                            <a:pt x="28" y="6"/>
                          </a:lnTo>
                          <a:lnTo>
                            <a:pt x="31" y="8"/>
                          </a:lnTo>
                          <a:lnTo>
                            <a:pt x="32" y="12"/>
                          </a:lnTo>
                          <a:lnTo>
                            <a:pt x="30" y="10"/>
                          </a:lnTo>
                          <a:lnTo>
                            <a:pt x="28" y="9"/>
                          </a:lnTo>
                          <a:lnTo>
                            <a:pt x="26" y="8"/>
                          </a:lnTo>
                          <a:lnTo>
                            <a:pt x="24" y="7"/>
                          </a:lnTo>
                          <a:lnTo>
                            <a:pt x="21" y="6"/>
                          </a:lnTo>
                          <a:lnTo>
                            <a:pt x="18" y="5"/>
                          </a:lnTo>
                          <a:lnTo>
                            <a:pt x="13" y="4"/>
                          </a:lnTo>
                          <a:lnTo>
                            <a:pt x="10" y="4"/>
                          </a:lnTo>
                          <a:lnTo>
                            <a:pt x="6" y="4"/>
                          </a:lnTo>
                          <a:lnTo>
                            <a:pt x="3" y="5"/>
                          </a:lnTo>
                          <a:lnTo>
                            <a:pt x="0" y="6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8" name=""/>
                  <p:cNvSpPr/>
                  <p:nvPr/>
                </p:nvSpPr>
                <p:spPr>
                  <a:xfrm>
                    <a:off x="3180960" y="309528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0" y="4"/>
                        </a:move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8" y="2"/>
                        </a:lnTo>
                        <a:lnTo>
                          <a:pt x="20" y="2"/>
                        </a:lnTo>
                        <a:lnTo>
                          <a:pt x="21" y="3"/>
                        </a:lnTo>
                        <a:lnTo>
                          <a:pt x="21" y="4"/>
                        </a:lnTo>
                        <a:lnTo>
                          <a:pt x="22" y="5"/>
                        </a:lnTo>
                        <a:lnTo>
                          <a:pt x="22" y="6"/>
                        </a:lnTo>
                        <a:lnTo>
                          <a:pt x="22" y="8"/>
                        </a:lnTo>
                        <a:lnTo>
                          <a:pt x="23" y="11"/>
                        </a:lnTo>
                        <a:lnTo>
                          <a:pt x="23" y="15"/>
                        </a:lnTo>
                        <a:lnTo>
                          <a:pt x="24" y="19"/>
                        </a:lnTo>
                        <a:lnTo>
                          <a:pt x="25" y="23"/>
                        </a:lnTo>
                        <a:lnTo>
                          <a:pt x="26" y="26"/>
                        </a:lnTo>
                        <a:lnTo>
                          <a:pt x="26" y="27"/>
                        </a:lnTo>
                        <a:lnTo>
                          <a:pt x="25" y="25"/>
                        </a:lnTo>
                        <a:lnTo>
                          <a:pt x="23" y="24"/>
                        </a:lnTo>
                        <a:lnTo>
                          <a:pt x="22" y="22"/>
                        </a:lnTo>
                        <a:lnTo>
                          <a:pt x="19" y="21"/>
                        </a:lnTo>
                        <a:lnTo>
                          <a:pt x="17" y="20"/>
                        </a:lnTo>
                        <a:lnTo>
                          <a:pt x="15" y="19"/>
                        </a:lnTo>
                        <a:lnTo>
                          <a:pt x="13" y="19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5" y="19"/>
                        </a:lnTo>
                        <a:lnTo>
                          <a:pt x="3" y="21"/>
                        </a:lnTo>
                        <a:lnTo>
                          <a:pt x="3" y="19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2" y="11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9" name=""/>
                  <p:cNvGrpSpPr/>
                  <p:nvPr/>
                </p:nvGrpSpPr>
                <p:grpSpPr>
                  <a:xfrm>
                    <a:off x="3180960" y="3095280"/>
                    <a:ext cx="41760" cy="37440"/>
                    <a:chOff x="3180960" y="3095280"/>
                    <a:chExt cx="41760" cy="37440"/>
                  </a:xfrm>
                </p:grpSpPr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3180960" y="31017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3188880" y="30985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3182400" y="31064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3193560" y="30952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3184200" y="311148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1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3188880" y="31100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3201840" y="30952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3195720" y="310320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3197160" y="31082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3203640" y="31032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3208320" y="3098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3208320" y="31050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3203640" y="311004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3210120" y="31114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3185640" y="31194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3187080" y="312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3192120" y="31230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3190320" y="311616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3198600" y="31161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3198600" y="31230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3203640" y="3117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3203640" y="31230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3210120" y="311796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3" name=""/>
                    <p:cNvSpPr/>
                    <p:nvPr/>
                  </p:nvSpPr>
                  <p:spPr>
                    <a:xfrm>
                      <a:off x="3211920" y="31244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3221280" y="31309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3214800" y="31017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3214800" y="31064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3216600" y="3113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3216600" y="3119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3216600" y="3127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3188880" y="310500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1" name=""/>
                  <p:cNvGrpSpPr/>
                  <p:nvPr/>
                </p:nvGrpSpPr>
                <p:grpSpPr>
                  <a:xfrm>
                    <a:off x="3176280" y="3103560"/>
                    <a:ext cx="6120" cy="76320"/>
                    <a:chOff x="3176280" y="3103560"/>
                    <a:chExt cx="6120" cy="76320"/>
                  </a:xfrm>
                </p:grpSpPr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3176280" y="3105360"/>
                      <a:ext cx="6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6">
                          <a:moveTo>
                            <a:pt x="1" y="0"/>
                          </a:move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2" y="6"/>
                          </a:lnTo>
                          <a:lnTo>
                            <a:pt x="3" y="8"/>
                          </a:lnTo>
                          <a:lnTo>
                            <a:pt x="3" y="12"/>
                          </a:lnTo>
                          <a:lnTo>
                            <a:pt x="3" y="17"/>
                          </a:lnTo>
                          <a:lnTo>
                            <a:pt x="3" y="22"/>
                          </a:lnTo>
                          <a:lnTo>
                            <a:pt x="3" y="26"/>
                          </a:lnTo>
                          <a:lnTo>
                            <a:pt x="3" y="30"/>
                          </a:lnTo>
                          <a:lnTo>
                            <a:pt x="2" y="36"/>
                          </a:lnTo>
                          <a:lnTo>
                            <a:pt x="2" y="42"/>
                          </a:lnTo>
                          <a:lnTo>
                            <a:pt x="2" y="44"/>
                          </a:lnTo>
                          <a:lnTo>
                            <a:pt x="0" y="45"/>
                          </a:lnTo>
                          <a:lnTo>
                            <a:pt x="1" y="40"/>
                          </a:lnTo>
                          <a:lnTo>
                            <a:pt x="2" y="34"/>
                          </a:lnTo>
                          <a:lnTo>
                            <a:pt x="2" y="29"/>
                          </a:lnTo>
                          <a:lnTo>
                            <a:pt x="2" y="25"/>
                          </a:lnTo>
                          <a:lnTo>
                            <a:pt x="2" y="20"/>
                          </a:lnTo>
                          <a:lnTo>
                            <a:pt x="2" y="15"/>
                          </a:lnTo>
                          <a:lnTo>
                            <a:pt x="2" y="10"/>
                          </a:lnTo>
                          <a:lnTo>
                            <a:pt x="2" y="6"/>
                          </a:lnTo>
                          <a:lnTo>
                            <a:pt x="1" y="4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3177720" y="3103560"/>
                      <a:ext cx="1440" cy="1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3176280" y="3171960"/>
                      <a:ext cx="1440" cy="1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5" name=""/>
                  <p:cNvGrpSpPr/>
                  <p:nvPr/>
                </p:nvGrpSpPr>
                <p:grpSpPr>
                  <a:xfrm>
                    <a:off x="3174480" y="3102120"/>
                    <a:ext cx="4680" cy="127440"/>
                    <a:chOff x="3174480" y="3102120"/>
                    <a:chExt cx="4680" cy="127440"/>
                  </a:xfrm>
                </p:grpSpPr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3174480" y="3102120"/>
                      <a:ext cx="180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8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7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>
                      <a:off x="3174480" y="3102120"/>
                      <a:ext cx="468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8">
                          <a:moveTo>
                            <a:pt x="0" y="0"/>
                          </a:moveTo>
                          <a:lnTo>
                            <a:pt x="0" y="77"/>
                          </a:lnTo>
                          <a:lnTo>
                            <a:pt x="2" y="7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3242160" y="3209040"/>
                  <a:ext cx="48600" cy="24480"/>
                  <a:chOff x="3242160" y="3209040"/>
                  <a:chExt cx="48600" cy="24480"/>
                </a:xfrm>
              </p:grpSpPr>
              <p:sp>
                <p:nvSpPr>
                  <p:cNvPr id="2899" name=""/>
                  <p:cNvSpPr/>
                  <p:nvPr/>
                </p:nvSpPr>
                <p:spPr>
                  <a:xfrm>
                    <a:off x="3261600" y="3210840"/>
                    <a:ext cx="93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4" y="0"/>
                        </a:moveTo>
                        <a:lnTo>
                          <a:pt x="5" y="2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1" y="13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3" y="11"/>
                        </a:lnTo>
                        <a:lnTo>
                          <a:pt x="3" y="8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8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3242160" y="3210840"/>
                    <a:ext cx="111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5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6" y="13"/>
                        </a:lnTo>
                        <a:lnTo>
                          <a:pt x="6" y="1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3279600" y="3209040"/>
                    <a:ext cx="11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4" y="2"/>
                        </a:move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9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10"/>
                        </a:lnTo>
                        <a:lnTo>
                          <a:pt x="4" y="11"/>
                        </a:lnTo>
                        <a:lnTo>
                          <a:pt x="4" y="12"/>
                        </a:lnTo>
                        <a:lnTo>
                          <a:pt x="3" y="12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02" name=""/>
          <p:cNvSpPr/>
          <p:nvPr/>
        </p:nvSpPr>
        <p:spPr>
          <a:xfrm>
            <a:off x="2488680" y="5502240"/>
            <a:ext cx="288720" cy="545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874800" y="5502240"/>
            <a:ext cx="288720" cy="545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360" rIns="72360" tIns="36360" bIns="363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681200" y="4203720"/>
            <a:ext cx="318960" cy="3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1111320" y="4516560"/>
            <a:ext cx="668160" cy="538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866880" y="4998960"/>
            <a:ext cx="318960" cy="3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976400" y="4516560"/>
            <a:ext cx="542880" cy="538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479680" y="5018040"/>
            <a:ext cx="318960" cy="3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B0B-0C5F-4EC5-8A90-FFD64646744E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805520" cy="1017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entive Compatible Mechanis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96760" y="2795760"/>
            <a:ext cx="222660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261200" y="1933560"/>
            <a:ext cx="20808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 flipH="1">
            <a:off x="6753240" y="2174760"/>
            <a:ext cx="606240" cy="49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450200" y="2163600"/>
            <a:ext cx="218880" cy="220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314840" y="194328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"/>
          <p:cNvGrpSpPr/>
          <p:nvPr/>
        </p:nvGrpSpPr>
        <p:grpSpPr>
          <a:xfrm>
            <a:off x="7661160" y="2379600"/>
            <a:ext cx="206280" cy="207720"/>
            <a:chOff x="7661160" y="2379600"/>
            <a:chExt cx="206280" cy="207720"/>
          </a:xfrm>
        </p:grpSpPr>
        <p:sp>
          <p:nvSpPr>
            <p:cNvPr id="2916" name=""/>
            <p:cNvSpPr/>
            <p:nvPr/>
          </p:nvSpPr>
          <p:spPr>
            <a:xfrm>
              <a:off x="7661160" y="2379600"/>
              <a:ext cx="206280" cy="207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713000" y="2399040"/>
              <a:ext cx="1202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6603840" y="2660760"/>
            <a:ext cx="207720" cy="209160"/>
            <a:chOff x="6603840" y="2660760"/>
            <a:chExt cx="207720" cy="209160"/>
          </a:xfrm>
        </p:grpSpPr>
        <p:sp>
          <p:nvSpPr>
            <p:cNvPr id="2919" name=""/>
            <p:cNvSpPr/>
            <p:nvPr/>
          </p:nvSpPr>
          <p:spPr>
            <a:xfrm>
              <a:off x="6603840" y="2660760"/>
              <a:ext cx="207720" cy="20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655680" y="2682000"/>
              <a:ext cx="1386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7561080" y="264312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534720" y="29592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7471440" y="2906640"/>
            <a:ext cx="3830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434640" y="3222720"/>
            <a:ext cx="3830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864560" y="2598840"/>
            <a:ext cx="712800" cy="70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6" name=""/>
          <p:cNvGrpSpPr/>
          <p:nvPr/>
        </p:nvGrpSpPr>
        <p:grpSpPr>
          <a:xfrm>
            <a:off x="8567640" y="3287880"/>
            <a:ext cx="207720" cy="207360"/>
            <a:chOff x="8567640" y="3287880"/>
            <a:chExt cx="207720" cy="207360"/>
          </a:xfrm>
        </p:grpSpPr>
        <p:sp>
          <p:nvSpPr>
            <p:cNvPr id="2927" name=""/>
            <p:cNvSpPr/>
            <p:nvPr/>
          </p:nvSpPr>
          <p:spPr>
            <a:xfrm>
              <a:off x="8567640" y="3287880"/>
              <a:ext cx="207720" cy="20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160" bIns="11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619120" y="3307320"/>
              <a:ext cx="1386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1520" bIns="1152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9" name=""/>
          <p:cNvSpPr/>
          <p:nvPr/>
        </p:nvSpPr>
        <p:spPr>
          <a:xfrm>
            <a:off x="8173080" y="326376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120880" y="3543480"/>
            <a:ext cx="92880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13320" bIns="1332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phantom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977960" y="351936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215800" y="2541600"/>
            <a:ext cx="75816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13320" bIns="13320" anchor="t">
            <a:spAutoFit/>
          </a:bodyPr>
          <a:p>
            <a:pPr algn="r" rtl="1">
              <a:lnSpc>
                <a:spcPct val="88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hidden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469880" y="2173320"/>
            <a:ext cx="20952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996920" y="2173320"/>
            <a:ext cx="20808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890640" y="2173320"/>
            <a:ext cx="209520" cy="20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1100160" y="2293920"/>
            <a:ext cx="379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731960" y="2303640"/>
            <a:ext cx="23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912960" y="3216240"/>
            <a:ext cx="20628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039760" y="3216240"/>
            <a:ext cx="20664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017800" y="2711520"/>
            <a:ext cx="207720" cy="207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1011240" y="2416320"/>
            <a:ext cx="0" cy="24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1757520" y="3330720"/>
            <a:ext cx="244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2133720" y="2394000"/>
            <a:ext cx="0" cy="32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138400" y="2962440"/>
            <a:ext cx="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522080" y="218268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070360" y="2719440"/>
            <a:ext cx="120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048400" y="219384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43200" y="219384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975960" y="3236760"/>
            <a:ext cx="103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01920" y="3216240"/>
            <a:ext cx="207720" cy="20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091240" y="3236760"/>
            <a:ext cx="138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903240" y="2690640"/>
            <a:ext cx="206280" cy="206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943200" y="2700360"/>
            <a:ext cx="1296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011240" y="2962440"/>
            <a:ext cx="0" cy="22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163520" y="3325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565640" y="3214800"/>
            <a:ext cx="120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280" rIns="26280" tIns="11520" bIns="1152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441520" y="207648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724320" y="34686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1503720" y="3468600"/>
            <a:ext cx="194040" cy="3700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390040" y="2320920"/>
            <a:ext cx="3207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15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26120" y="372420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505520" y="3713040"/>
            <a:ext cx="1926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06600" y="5424480"/>
            <a:ext cx="8127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: For all encounters in all sub-additive TODs, when using a PMM over all-or-nothing deals, no agent has an incentive to hide a task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138480" y="3238560"/>
            <a:ext cx="1486080" cy="4204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387520" y="3672000"/>
            <a:ext cx="736560" cy="539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3157560" y="3692520"/>
            <a:ext cx="1447920" cy="500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657680" y="3692520"/>
            <a:ext cx="1447920" cy="500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387520" y="4226040"/>
            <a:ext cx="736560" cy="539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157560" y="4245120"/>
            <a:ext cx="1447920" cy="500040"/>
          </a:xfrm>
          <a:prstGeom prst="rect">
            <a:avLst/>
          </a:prstGeom>
          <a:solidFill>
            <a:srgbClr val="99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637160" y="4226040"/>
            <a:ext cx="1487520" cy="539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387520" y="4778280"/>
            <a:ext cx="736560" cy="540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138480" y="4778280"/>
            <a:ext cx="1486080" cy="5400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637160" y="4778280"/>
            <a:ext cx="1487520" cy="5400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637160" y="3238560"/>
            <a:ext cx="1487520" cy="4204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5842080" y="4370040"/>
            <a:ext cx="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776600" y="2963880"/>
            <a:ext cx="1485720" cy="140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248800" y="2686320"/>
            <a:ext cx="1881720" cy="128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679400" y="4602240"/>
            <a:ext cx="3537000" cy="168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0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05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BDE-3274-4A1F-8205-4A23FA6F38BC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752040" y="504360"/>
            <a:ext cx="758988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oy Tas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2298600" y="402264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231920" y="4457880"/>
            <a:ext cx="13366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57280" y="484812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231920" y="484812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581200" y="4848120"/>
            <a:ext cx="13384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57280" y="5345280"/>
            <a:ext cx="6620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231920" y="534528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581200" y="5345280"/>
            <a:ext cx="133848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57280" y="5845320"/>
            <a:ext cx="6620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231920" y="5845320"/>
            <a:ext cx="133668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581200" y="5845320"/>
            <a:ext cx="1338480" cy="4824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581200" y="4457880"/>
            <a:ext cx="13384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3665520" y="541656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932280" y="484812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3951360" y="5365800"/>
            <a:ext cx="1298520" cy="446040"/>
          </a:xfrm>
          <a:prstGeom prst="rect">
            <a:avLst/>
          </a:prstGeom>
          <a:solidFill>
            <a:srgbClr val="f76681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3932280" y="5845320"/>
            <a:ext cx="133668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932280" y="4457880"/>
            <a:ext cx="133668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986360" y="553068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3643200" y="5079960"/>
            <a:ext cx="696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57040" y="1797120"/>
            <a:ext cx="59850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27120" y="2265480"/>
            <a:ext cx="39830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Book Antiqua"/>
              </a:rPr>
              <a:t>Decoy tasks, however, can be beneficial even with all-or-nothing dea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274560" y="3949920"/>
            <a:ext cx="4092840" cy="172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4894920" y="1773360"/>
            <a:ext cx="3937320" cy="3291840"/>
            <a:chOff x="4894920" y="1773360"/>
            <a:chExt cx="3937320" cy="3291840"/>
          </a:xfrm>
        </p:grpSpPr>
        <p:sp>
          <p:nvSpPr>
            <p:cNvPr id="3003" name=""/>
            <p:cNvSpPr/>
            <p:nvPr/>
          </p:nvSpPr>
          <p:spPr>
            <a:xfrm>
              <a:off x="6777000" y="2409840"/>
              <a:ext cx="28116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472520" y="2826000"/>
              <a:ext cx="27900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012720" y="2409840"/>
              <a:ext cx="279360" cy="27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6300360" y="2569320"/>
              <a:ext cx="483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-50040" bIns="-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115760" y="2610360"/>
              <a:ext cx="340200" cy="27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042240" y="3786840"/>
              <a:ext cx="277920" cy="27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93760" y="3474360"/>
              <a:ext cx="276120" cy="27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173640" y="2722320"/>
              <a:ext cx="0" cy="336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7149960" y="3668400"/>
              <a:ext cx="356760" cy="29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7635240" y="3074400"/>
              <a:ext cx="0" cy="41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818400" y="3786840"/>
              <a:ext cx="279000" cy="276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28920" y="3092760"/>
              <a:ext cx="276120" cy="27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173640" y="3443400"/>
              <a:ext cx="0" cy="310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67680" y="3931920"/>
              <a:ext cx="41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-50040" bIns="-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026560" y="336564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759280" y="412632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88520" y="412632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0" name="" descr=""/>
            <p:cNvPicPr/>
            <p:nvPr/>
          </p:nvPicPr>
          <p:blipFill>
            <a:blip r:embed="rId1"/>
            <a:stretch/>
          </p:blipFill>
          <p:spPr>
            <a:xfrm>
              <a:off x="6341400" y="1773360"/>
              <a:ext cx="1060200" cy="4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"/>
            <p:cNvSpPr/>
            <p:nvPr/>
          </p:nvSpPr>
          <p:spPr>
            <a:xfrm>
              <a:off x="6938280" y="2722320"/>
              <a:ext cx="0" cy="336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791760" y="3092760"/>
              <a:ext cx="277560" cy="27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040" bIns="500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938280" y="3443400"/>
              <a:ext cx="0" cy="310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040" bIns="50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991640" y="267120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386320" y="228960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386320" y="2966040"/>
              <a:ext cx="322200" cy="51264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3248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324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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94920" y="234900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894920" y="301068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780880" y="46591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805080" y="46591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72240" y="27655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506800" y="340848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12760" y="3069720"/>
              <a:ext cx="325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50400" bIns="504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10B-08C4-46BE-83DF-308A984BFF9C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2343240" y="515520"/>
            <a:ext cx="440208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37920" y="2416320"/>
            <a:ext cx="7886520" cy="22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Y and Z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and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,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573200" y="4753080"/>
            <a:ext cx="58388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oncavity implies sub-additivity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BD7-C31C-4D5E-95CC-4BADC93101CC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3068640" y="534600"/>
            <a:ext cx="30146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855800" y="2652840"/>
            <a:ext cx="4511520" cy="22111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4130640" y="3178080"/>
            <a:ext cx="2236680" cy="121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124600" y="3579840"/>
            <a:ext cx="41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979720" y="3579840"/>
            <a:ext cx="41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998960" y="1876320"/>
            <a:ext cx="2724120" cy="184176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6151320" y="251460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1407960" y="5238360"/>
            <a:ext cx="6407280" cy="139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Z adds to X is more than the cost it adds to 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Z - X is a superset of Z -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5121360" y="3178080"/>
            <a:ext cx="1247760" cy="546120"/>
          </a:xfrm>
          <a:custGeom>
            <a:avLst/>
            <a:gdLst/>
            <a:ahLst/>
            <a:rect l="l" t="t" r="r" b="b"/>
            <a:pathLst>
              <a:path w="759" h="331">
                <a:moveTo>
                  <a:pt x="0" y="2"/>
                </a:moveTo>
                <a:lnTo>
                  <a:pt x="152" y="0"/>
                </a:lnTo>
                <a:lnTo>
                  <a:pt x="312" y="20"/>
                </a:lnTo>
                <a:lnTo>
                  <a:pt x="470" y="64"/>
                </a:lnTo>
                <a:lnTo>
                  <a:pt x="590" y="122"/>
                </a:lnTo>
                <a:lnTo>
                  <a:pt x="674" y="186"/>
                </a:lnTo>
                <a:lnTo>
                  <a:pt x="732" y="264"/>
                </a:lnTo>
                <a:lnTo>
                  <a:pt x="758" y="330"/>
                </a:lnTo>
                <a:lnTo>
                  <a:pt x="606" y="322"/>
                </a:lnTo>
                <a:lnTo>
                  <a:pt x="494" y="302"/>
                </a:lnTo>
                <a:lnTo>
                  <a:pt x="346" y="258"/>
                </a:lnTo>
                <a:lnTo>
                  <a:pt x="228" y="202"/>
                </a:lnTo>
                <a:lnTo>
                  <a:pt x="138" y="144"/>
                </a:lnTo>
                <a:lnTo>
                  <a:pt x="46" y="64"/>
                </a:lnTo>
                <a:lnTo>
                  <a:pt x="0" y="2"/>
                </a:lnTo>
              </a:path>
            </a:pathLst>
          </a:custGeom>
          <a:solidFill>
            <a:srgbClr val="50009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998960" y="2744640"/>
            <a:ext cx="1370160" cy="979560"/>
          </a:xfrm>
          <a:custGeom>
            <a:avLst/>
            <a:gdLst/>
            <a:ahLst/>
            <a:rect l="l" t="t" r="r" b="b"/>
            <a:pathLst>
              <a:path w="833" h="595">
                <a:moveTo>
                  <a:pt x="0" y="0"/>
                </a:moveTo>
                <a:lnTo>
                  <a:pt x="146" y="32"/>
                </a:lnTo>
                <a:lnTo>
                  <a:pt x="320" y="90"/>
                </a:lnTo>
                <a:lnTo>
                  <a:pt x="478" y="164"/>
                </a:lnTo>
                <a:lnTo>
                  <a:pt x="592" y="234"/>
                </a:lnTo>
                <a:lnTo>
                  <a:pt x="678" y="304"/>
                </a:lnTo>
                <a:lnTo>
                  <a:pt x="740" y="372"/>
                </a:lnTo>
                <a:lnTo>
                  <a:pt x="796" y="460"/>
                </a:lnTo>
                <a:lnTo>
                  <a:pt x="822" y="524"/>
                </a:lnTo>
                <a:lnTo>
                  <a:pt x="832" y="594"/>
                </a:lnTo>
                <a:lnTo>
                  <a:pt x="806" y="526"/>
                </a:lnTo>
                <a:lnTo>
                  <a:pt x="754" y="458"/>
                </a:lnTo>
                <a:lnTo>
                  <a:pt x="670" y="388"/>
                </a:lnTo>
                <a:lnTo>
                  <a:pt x="548" y="330"/>
                </a:lnTo>
                <a:lnTo>
                  <a:pt x="390" y="284"/>
                </a:lnTo>
                <a:lnTo>
                  <a:pt x="236" y="266"/>
                </a:lnTo>
                <a:lnTo>
                  <a:pt x="74" y="266"/>
                </a:lnTo>
                <a:lnTo>
                  <a:pt x="34" y="198"/>
                </a:lnTo>
                <a:lnTo>
                  <a:pt x="12" y="134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429-DDCD-4C47-8221-D6622A5389A6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2391840" y="560160"/>
            <a:ext cx="440244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ave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519120" y="1704960"/>
            <a:ext cx="7848720" cy="1548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base Domain and Fax Domain are concave (not the Postmen Domain, unless restricted to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9" name=""/>
          <p:cNvGrpSpPr/>
          <p:nvPr/>
        </p:nvGrpSpPr>
        <p:grpSpPr>
          <a:xfrm>
            <a:off x="2500200" y="3040200"/>
            <a:ext cx="4132080" cy="916920"/>
            <a:chOff x="2500200" y="3040200"/>
            <a:chExt cx="4132080" cy="916920"/>
          </a:xfrm>
        </p:grpSpPr>
        <p:pic>
          <p:nvPicPr>
            <p:cNvPr id="3050" name="" descr=""/>
            <p:cNvPicPr/>
            <p:nvPr/>
          </p:nvPicPr>
          <p:blipFill>
            <a:blip r:embed="rId1"/>
            <a:stretch/>
          </p:blipFill>
          <p:spPr>
            <a:xfrm>
              <a:off x="4188960" y="3188160"/>
              <a:ext cx="981360" cy="6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1" name="" descr=""/>
            <p:cNvPicPr/>
            <p:nvPr/>
          </p:nvPicPr>
          <p:blipFill>
            <a:blip r:embed="rId2"/>
            <a:stretch/>
          </p:blipFill>
          <p:spPr>
            <a:xfrm>
              <a:off x="5471640" y="3153600"/>
              <a:ext cx="1160640" cy="77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2" name=""/>
            <p:cNvGrpSpPr/>
            <p:nvPr/>
          </p:nvGrpSpPr>
          <p:grpSpPr>
            <a:xfrm>
              <a:off x="2500200" y="3260880"/>
              <a:ext cx="1308600" cy="539640"/>
              <a:chOff x="2500200" y="3260880"/>
              <a:chExt cx="1308600" cy="539640"/>
            </a:xfrm>
          </p:grpSpPr>
          <p:sp>
            <p:nvSpPr>
              <p:cNvPr id="3053" name=""/>
              <p:cNvSpPr/>
              <p:nvPr/>
            </p:nvSpPr>
            <p:spPr>
              <a:xfrm>
                <a:off x="2500200" y="3260880"/>
                <a:ext cx="13086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4" name=""/>
              <p:cNvGrpSpPr/>
              <p:nvPr/>
            </p:nvGrpSpPr>
            <p:grpSpPr>
              <a:xfrm>
                <a:off x="2531520" y="3275640"/>
                <a:ext cx="847440" cy="432360"/>
                <a:chOff x="2531520" y="3275640"/>
                <a:chExt cx="847440" cy="432360"/>
              </a:xfrm>
            </p:grpSpPr>
            <p:grpSp>
              <p:nvGrpSpPr>
                <p:cNvPr id="3055" name=""/>
                <p:cNvGrpSpPr/>
                <p:nvPr/>
              </p:nvGrpSpPr>
              <p:grpSpPr>
                <a:xfrm>
                  <a:off x="2531520" y="3275640"/>
                  <a:ext cx="252720" cy="129240"/>
                  <a:chOff x="2531520" y="3275640"/>
                  <a:chExt cx="252720" cy="12924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2531520" y="3275640"/>
                    <a:ext cx="252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0">
                        <a:moveTo>
                          <a:pt x="0" y="0"/>
                        </a:moveTo>
                        <a:lnTo>
                          <a:pt x="153" y="0"/>
                        </a:lnTo>
                        <a:lnTo>
                          <a:pt x="15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2531520" y="3313080"/>
                    <a:ext cx="2448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0">
                        <a:moveTo>
                          <a:pt x="0" y="0"/>
                        </a:moveTo>
                        <a:lnTo>
                          <a:pt x="148" y="0"/>
                        </a:lnTo>
                        <a:lnTo>
                          <a:pt x="148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2531520" y="3350880"/>
                    <a:ext cx="2066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2531520" y="3388680"/>
                    <a:ext cx="236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0" name=""/>
                <p:cNvGrpSpPr/>
                <p:nvPr/>
              </p:nvGrpSpPr>
              <p:grpSpPr>
                <a:xfrm>
                  <a:off x="2996640" y="3492720"/>
                  <a:ext cx="382320" cy="215280"/>
                  <a:chOff x="2996640" y="3492720"/>
                  <a:chExt cx="382320" cy="21528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>
                    <a:off x="2996640" y="3492720"/>
                    <a:ext cx="364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16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2996640" y="3541680"/>
                    <a:ext cx="354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5">
                        <a:moveTo>
                          <a:pt x="0" y="0"/>
                        </a:moveTo>
                        <a:lnTo>
                          <a:pt x="215" y="0"/>
                        </a:lnTo>
                        <a:lnTo>
                          <a:pt x="215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2996640" y="3588120"/>
                    <a:ext cx="382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6">
                        <a:moveTo>
                          <a:pt x="0" y="0"/>
                        </a:moveTo>
                        <a:lnTo>
                          <a:pt x="232" y="0"/>
                        </a:lnTo>
                        <a:lnTo>
                          <a:pt x="232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2996640" y="3635280"/>
                    <a:ext cx="325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5">
                        <a:moveTo>
                          <a:pt x="0" y="0"/>
                        </a:moveTo>
                        <a:lnTo>
                          <a:pt x="197" y="0"/>
                        </a:lnTo>
                        <a:lnTo>
                          <a:pt x="197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3165480" y="3681720"/>
                    <a:ext cx="2134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6">
                        <a:moveTo>
                          <a:pt x="0" y="0"/>
                        </a:moveTo>
                        <a:lnTo>
                          <a:pt x="129" y="0"/>
                        </a:lnTo>
                        <a:lnTo>
                          <a:pt x="129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6" name=""/>
              <p:cNvGrpSpPr/>
              <p:nvPr/>
            </p:nvGrpSpPr>
            <p:grpSpPr>
              <a:xfrm>
                <a:off x="3639600" y="3275640"/>
                <a:ext cx="137160" cy="144000"/>
                <a:chOff x="3639600" y="3275640"/>
                <a:chExt cx="137160" cy="144000"/>
              </a:xfrm>
            </p:grpSpPr>
            <p:grpSp>
              <p:nvGrpSpPr>
                <p:cNvPr id="3067" name=""/>
                <p:cNvGrpSpPr/>
                <p:nvPr/>
              </p:nvGrpSpPr>
              <p:grpSpPr>
                <a:xfrm>
                  <a:off x="3639600" y="3275640"/>
                  <a:ext cx="137160" cy="144000"/>
                  <a:chOff x="3639600" y="3275640"/>
                  <a:chExt cx="137160" cy="144000"/>
                </a:xfrm>
              </p:grpSpPr>
              <p:sp>
                <p:nvSpPr>
                  <p:cNvPr id="3068" name=""/>
                  <p:cNvSpPr/>
                  <p:nvPr/>
                </p:nvSpPr>
                <p:spPr>
                  <a:xfrm>
                    <a:off x="3644280" y="3275640"/>
                    <a:ext cx="124200" cy="14076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3773520" y="3275640"/>
                    <a:ext cx="3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22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3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1" y="47"/>
                        </a:lnTo>
                        <a:lnTo>
                          <a:pt x="1" y="51"/>
                        </a:lnTo>
                        <a:lnTo>
                          <a:pt x="0" y="51"/>
                        </a:lnTo>
                        <a:lnTo>
                          <a:pt x="0" y="54"/>
                        </a:lnTo>
                        <a:lnTo>
                          <a:pt x="1" y="54"/>
                        </a:lnTo>
                        <a:lnTo>
                          <a:pt x="1" y="58"/>
                        </a:lnTo>
                        <a:lnTo>
                          <a:pt x="0" y="58"/>
                        </a:lnTo>
                        <a:lnTo>
                          <a:pt x="0" y="62"/>
                        </a:lnTo>
                        <a:lnTo>
                          <a:pt x="1" y="62"/>
                        </a:lnTo>
                        <a:lnTo>
                          <a:pt x="1" y="65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69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3639600" y="3275640"/>
                    <a:ext cx="3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1" y="25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29"/>
                        </a:lnTo>
                        <a:lnTo>
                          <a:pt x="1" y="33"/>
                        </a:lnTo>
                        <a:lnTo>
                          <a:pt x="0" y="33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7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1" y="51"/>
                        </a:lnTo>
                        <a:lnTo>
                          <a:pt x="1" y="54"/>
                        </a:lnTo>
                        <a:lnTo>
                          <a:pt x="0" y="54"/>
                        </a:lnTo>
                        <a:lnTo>
                          <a:pt x="0" y="58"/>
                        </a:lnTo>
                        <a:lnTo>
                          <a:pt x="1" y="58"/>
                        </a:lnTo>
                        <a:lnTo>
                          <a:pt x="1" y="62"/>
                        </a:lnTo>
                        <a:lnTo>
                          <a:pt x="0" y="62"/>
                        </a:lnTo>
                        <a:lnTo>
                          <a:pt x="0" y="65"/>
                        </a:lnTo>
                        <a:lnTo>
                          <a:pt x="1" y="65"/>
                        </a:lnTo>
                        <a:lnTo>
                          <a:pt x="1" y="69"/>
                        </a:lnTo>
                        <a:lnTo>
                          <a:pt x="0" y="69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7"/>
                        </a:lnTo>
                        <a:lnTo>
                          <a:pt x="1" y="87"/>
                        </a:lnTo>
                        <a:lnTo>
                          <a:pt x="1" y="87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1" name=""/>
                <p:cNvGrpSpPr/>
                <p:nvPr/>
              </p:nvGrpSpPr>
              <p:grpSpPr>
                <a:xfrm>
                  <a:off x="3659040" y="3281760"/>
                  <a:ext cx="99720" cy="127440"/>
                  <a:chOff x="3659040" y="3281760"/>
                  <a:chExt cx="99720" cy="127440"/>
                </a:xfrm>
              </p:grpSpPr>
              <p:sp>
                <p:nvSpPr>
                  <p:cNvPr id="3072" name=""/>
                  <p:cNvSpPr/>
                  <p:nvPr/>
                </p:nvSpPr>
                <p:spPr>
                  <a:xfrm>
                    <a:off x="3742560" y="3317760"/>
                    <a:ext cx="16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0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6" y="15"/>
                        </a:lnTo>
                        <a:lnTo>
                          <a:pt x="6" y="18"/>
                        </a:lnTo>
                        <a:lnTo>
                          <a:pt x="7" y="21"/>
                        </a:lnTo>
                        <a:lnTo>
                          <a:pt x="7" y="25"/>
                        </a:lnTo>
                        <a:lnTo>
                          <a:pt x="8" y="27"/>
                        </a:lnTo>
                        <a:lnTo>
                          <a:pt x="8" y="30"/>
                        </a:lnTo>
                        <a:lnTo>
                          <a:pt x="9" y="33"/>
                        </a:lnTo>
                        <a:lnTo>
                          <a:pt x="9" y="35"/>
                        </a:lnTo>
                        <a:lnTo>
                          <a:pt x="9" y="38"/>
                        </a:lnTo>
                        <a:lnTo>
                          <a:pt x="8" y="38"/>
                        </a:lnTo>
                        <a:lnTo>
                          <a:pt x="7" y="38"/>
                        </a:lnTo>
                        <a:lnTo>
                          <a:pt x="6" y="38"/>
                        </a:lnTo>
                        <a:lnTo>
                          <a:pt x="5" y="38"/>
                        </a:lnTo>
                        <a:lnTo>
                          <a:pt x="5" y="38"/>
                        </a:lnTo>
                        <a:lnTo>
                          <a:pt x="4" y="38"/>
                        </a:lnTo>
                        <a:lnTo>
                          <a:pt x="3" y="39"/>
                        </a:lnTo>
                        <a:lnTo>
                          <a:pt x="2" y="39"/>
                        </a:lnTo>
                        <a:lnTo>
                          <a:pt x="2" y="39"/>
                        </a:lnTo>
                        <a:lnTo>
                          <a:pt x="1" y="39"/>
                        </a:lnTo>
                        <a:lnTo>
                          <a:pt x="1" y="38"/>
                        </a:lnTo>
                        <a:lnTo>
                          <a:pt x="0" y="38"/>
                        </a:lnTo>
                        <a:lnTo>
                          <a:pt x="1" y="37"/>
                        </a:lnTo>
                        <a:lnTo>
                          <a:pt x="1" y="36"/>
                        </a:lnTo>
                        <a:lnTo>
                          <a:pt x="2" y="34"/>
                        </a:lnTo>
                        <a:lnTo>
                          <a:pt x="2" y="32"/>
                        </a:lnTo>
                        <a:lnTo>
                          <a:pt x="2" y="30"/>
                        </a:lnTo>
                        <a:lnTo>
                          <a:pt x="1" y="29"/>
                        </a:lnTo>
                        <a:lnTo>
                          <a:pt x="1" y="25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3" name=""/>
                  <p:cNvGrpSpPr/>
                  <p:nvPr/>
                </p:nvGrpSpPr>
                <p:grpSpPr>
                  <a:xfrm>
                    <a:off x="3742560" y="3321000"/>
                    <a:ext cx="15840" cy="55440"/>
                    <a:chOff x="3742560" y="3321000"/>
                    <a:chExt cx="15840" cy="55440"/>
                  </a:xfrm>
                </p:grpSpPr>
                <p:sp>
                  <p:nvSpPr>
                    <p:cNvPr id="3074" name=""/>
                    <p:cNvSpPr/>
                    <p:nvPr/>
                  </p:nvSpPr>
                  <p:spPr>
                    <a:xfrm>
                      <a:off x="3744000" y="3370320"/>
                      <a:ext cx="144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3742560" y="335880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lnTo>
                            <a:pt x="8" y="1"/>
                          </a:lnTo>
                          <a:lnTo>
                            <a:pt x="8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6" name=""/>
                    <p:cNvSpPr/>
                    <p:nvPr/>
                  </p:nvSpPr>
                  <p:spPr>
                    <a:xfrm>
                      <a:off x="3742560" y="3347280"/>
                      <a:ext cx="10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7" name=""/>
                    <p:cNvSpPr/>
                    <p:nvPr/>
                  </p:nvSpPr>
                  <p:spPr>
                    <a:xfrm>
                      <a:off x="3742560" y="3337200"/>
                      <a:ext cx="9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8" name=""/>
                    <p:cNvSpPr/>
                    <p:nvPr/>
                  </p:nvSpPr>
                  <p:spPr>
                    <a:xfrm>
                      <a:off x="3742560" y="3328920"/>
                      <a:ext cx="79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0" y="2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9" name=""/>
                    <p:cNvSpPr/>
                    <p:nvPr/>
                  </p:nvSpPr>
                  <p:spPr>
                    <a:xfrm>
                      <a:off x="3742560" y="332100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0" name=""/>
                  <p:cNvGrpSpPr/>
                  <p:nvPr/>
                </p:nvGrpSpPr>
                <p:grpSpPr>
                  <a:xfrm>
                    <a:off x="3732480" y="3319560"/>
                    <a:ext cx="7920" cy="38880"/>
                    <a:chOff x="3732480" y="3319560"/>
                    <a:chExt cx="7920" cy="38880"/>
                  </a:xfrm>
                </p:grpSpPr>
                <p:sp>
                  <p:nvSpPr>
                    <p:cNvPr id="3081" name=""/>
                    <p:cNvSpPr/>
                    <p:nvPr/>
                  </p:nvSpPr>
                  <p:spPr>
                    <a:xfrm>
                      <a:off x="3732480" y="3319560"/>
                      <a:ext cx="792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4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6"/>
                          </a:lnTo>
                          <a:lnTo>
                            <a:pt x="4" y="8"/>
                          </a:lnTo>
                          <a:lnTo>
                            <a:pt x="4" y="10"/>
                          </a:lnTo>
                          <a:lnTo>
                            <a:pt x="4" y="12"/>
                          </a:lnTo>
                          <a:lnTo>
                            <a:pt x="4" y="14"/>
                          </a:lnTo>
                          <a:lnTo>
                            <a:pt x="4" y="17"/>
                          </a:lnTo>
                          <a:lnTo>
                            <a:pt x="4" y="19"/>
                          </a:lnTo>
                          <a:lnTo>
                            <a:pt x="4" y="20"/>
                          </a:lnTo>
                          <a:lnTo>
                            <a:pt x="4" y="22"/>
                          </a:lnTo>
                          <a:lnTo>
                            <a:pt x="4" y="23"/>
                          </a:lnTo>
                          <a:lnTo>
                            <a:pt x="4" y="21"/>
                          </a:lnTo>
                          <a:lnTo>
                            <a:pt x="3" y="18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7"/>
                          </a:lnTo>
                          <a:lnTo>
                            <a:pt x="0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2" name=""/>
                    <p:cNvSpPr/>
                    <p:nvPr/>
                  </p:nvSpPr>
                  <p:spPr>
                    <a:xfrm>
                      <a:off x="3732480" y="3324240"/>
                      <a:ext cx="6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3" name=""/>
                    <p:cNvSpPr/>
                    <p:nvPr/>
                  </p:nvSpPr>
                  <p:spPr>
                    <a:xfrm>
                      <a:off x="3735720" y="332892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4" name=""/>
                    <p:cNvSpPr/>
                    <p:nvPr/>
                  </p:nvSpPr>
                  <p:spPr>
                    <a:xfrm>
                      <a:off x="3735720" y="33357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5" name=""/>
                    <p:cNvSpPr/>
                    <p:nvPr/>
                  </p:nvSpPr>
                  <p:spPr>
                    <a:xfrm>
                      <a:off x="3737160" y="33404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6" name=""/>
                    <p:cNvSpPr/>
                    <p:nvPr/>
                  </p:nvSpPr>
                  <p:spPr>
                    <a:xfrm>
                      <a:off x="3738960" y="3348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7" name=""/>
                  <p:cNvGrpSpPr/>
                  <p:nvPr/>
                </p:nvGrpSpPr>
                <p:grpSpPr>
                  <a:xfrm>
                    <a:off x="3701160" y="3299760"/>
                    <a:ext cx="7920" cy="25560"/>
                    <a:chOff x="3701160" y="3299760"/>
                    <a:chExt cx="7920" cy="25560"/>
                  </a:xfrm>
                </p:grpSpPr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3702960" y="3299760"/>
                      <a:ext cx="61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6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2" y="11"/>
                          </a:lnTo>
                          <a:lnTo>
                            <a:pt x="3" y="12"/>
                          </a:lnTo>
                          <a:lnTo>
                            <a:pt x="2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2" y="12"/>
                          </a:lnTo>
                          <a:lnTo>
                            <a:pt x="1" y="9"/>
                          </a:lnTo>
                          <a:lnTo>
                            <a:pt x="1" y="7"/>
                          </a:lnTo>
                          <a:lnTo>
                            <a:pt x="1" y="6"/>
                          </a:lnTo>
                          <a:lnTo>
                            <a:pt x="1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9" name=""/>
                    <p:cNvGrpSpPr/>
                    <p:nvPr/>
                  </p:nvGrpSpPr>
                  <p:grpSpPr>
                    <a:xfrm>
                      <a:off x="3701160" y="3303000"/>
                      <a:ext cx="7920" cy="15840"/>
                      <a:chOff x="3701160" y="3303000"/>
                      <a:chExt cx="7920" cy="15840"/>
                    </a:xfrm>
                  </p:grpSpPr>
                  <p:sp>
                    <p:nvSpPr>
                      <p:cNvPr id="3090" name=""/>
                      <p:cNvSpPr/>
                      <p:nvPr/>
                    </p:nvSpPr>
                    <p:spPr>
                      <a:xfrm>
                        <a:off x="3701160" y="330300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1" name=""/>
                      <p:cNvSpPr/>
                      <p:nvPr/>
                    </p:nvSpPr>
                    <p:spPr>
                      <a:xfrm>
                        <a:off x="3706200" y="3304440"/>
                        <a:ext cx="28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2" name=""/>
                      <p:cNvSpPr/>
                      <p:nvPr/>
                    </p:nvSpPr>
                    <p:spPr>
                      <a:xfrm>
                        <a:off x="3701160" y="330768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3" name=""/>
                      <p:cNvSpPr/>
                      <p:nvPr/>
                    </p:nvSpPr>
                    <p:spPr>
                      <a:xfrm>
                        <a:off x="3704400" y="331092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4" name=""/>
                      <p:cNvSpPr/>
                      <p:nvPr/>
                    </p:nvSpPr>
                    <p:spPr>
                      <a:xfrm>
                        <a:off x="3702960" y="3317040"/>
                        <a:ext cx="4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095" name=""/>
                  <p:cNvSpPr/>
                  <p:nvPr/>
                </p:nvSpPr>
                <p:spPr>
                  <a:xfrm>
                    <a:off x="3740760" y="337896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3702960" y="3304800"/>
                    <a:ext cx="392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7" y="7"/>
                        </a:lnTo>
                        <a:lnTo>
                          <a:pt x="17" y="10"/>
                        </a:lnTo>
                        <a:lnTo>
                          <a:pt x="17" y="12"/>
                        </a:lnTo>
                        <a:lnTo>
                          <a:pt x="17" y="16"/>
                        </a:lnTo>
                        <a:lnTo>
                          <a:pt x="18" y="19"/>
                        </a:lnTo>
                        <a:lnTo>
                          <a:pt x="20" y="24"/>
                        </a:lnTo>
                        <a:lnTo>
                          <a:pt x="21" y="27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3" y="39"/>
                        </a:lnTo>
                        <a:lnTo>
                          <a:pt x="23" y="40"/>
                        </a:lnTo>
                        <a:lnTo>
                          <a:pt x="23" y="43"/>
                        </a:lnTo>
                        <a:lnTo>
                          <a:pt x="23" y="44"/>
                        </a:lnTo>
                        <a:lnTo>
                          <a:pt x="23" y="45"/>
                        </a:lnTo>
                        <a:lnTo>
                          <a:pt x="23" y="44"/>
                        </a:lnTo>
                        <a:lnTo>
                          <a:pt x="22" y="44"/>
                        </a:lnTo>
                        <a:lnTo>
                          <a:pt x="22" y="43"/>
                        </a:lnTo>
                        <a:lnTo>
                          <a:pt x="21" y="42"/>
                        </a:lnTo>
                        <a:lnTo>
                          <a:pt x="20" y="42"/>
                        </a:lnTo>
                        <a:lnTo>
                          <a:pt x="18" y="42"/>
                        </a:lnTo>
                        <a:lnTo>
                          <a:pt x="16" y="41"/>
                        </a:lnTo>
                        <a:lnTo>
                          <a:pt x="15" y="42"/>
                        </a:lnTo>
                        <a:lnTo>
                          <a:pt x="12" y="43"/>
                        </a:lnTo>
                        <a:lnTo>
                          <a:pt x="10" y="43"/>
                        </a:lnTo>
                        <a:lnTo>
                          <a:pt x="8" y="44"/>
                        </a:lnTo>
                        <a:lnTo>
                          <a:pt x="7" y="44"/>
                        </a:lnTo>
                        <a:lnTo>
                          <a:pt x="6" y="44"/>
                        </a:lnTo>
                        <a:lnTo>
                          <a:pt x="5" y="44"/>
                        </a:lnTo>
                        <a:lnTo>
                          <a:pt x="4" y="44"/>
                        </a:lnTo>
                        <a:lnTo>
                          <a:pt x="3" y="44"/>
                        </a:lnTo>
                        <a:lnTo>
                          <a:pt x="2" y="44"/>
                        </a:lnTo>
                        <a:lnTo>
                          <a:pt x="1" y="43"/>
                        </a:lnTo>
                        <a:lnTo>
                          <a:pt x="1" y="43"/>
                        </a:lnTo>
                        <a:lnTo>
                          <a:pt x="0" y="42"/>
                        </a:lnTo>
                        <a:lnTo>
                          <a:pt x="0" y="41"/>
                        </a:lnTo>
                        <a:lnTo>
                          <a:pt x="1" y="40"/>
                        </a:lnTo>
                        <a:lnTo>
                          <a:pt x="3" y="40"/>
                        </a:lnTo>
                        <a:lnTo>
                          <a:pt x="5" y="40"/>
                        </a:lnTo>
                        <a:lnTo>
                          <a:pt x="7" y="40"/>
                        </a:lnTo>
                        <a:lnTo>
                          <a:pt x="9" y="40"/>
                        </a:lnTo>
                        <a:lnTo>
                          <a:pt x="10" y="40"/>
                        </a:lnTo>
                        <a:lnTo>
                          <a:pt x="10" y="38"/>
                        </a:lnTo>
                        <a:lnTo>
                          <a:pt x="10" y="36"/>
                        </a:lnTo>
                        <a:lnTo>
                          <a:pt x="9" y="32"/>
                        </a:lnTo>
                        <a:lnTo>
                          <a:pt x="8" y="29"/>
                        </a:lnTo>
                        <a:lnTo>
                          <a:pt x="7" y="24"/>
                        </a:lnTo>
                        <a:lnTo>
                          <a:pt x="6" y="20"/>
                        </a:lnTo>
                        <a:lnTo>
                          <a:pt x="4" y="17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7" name=""/>
                  <p:cNvGrpSpPr/>
                  <p:nvPr/>
                </p:nvGrpSpPr>
                <p:grpSpPr>
                  <a:xfrm>
                    <a:off x="3709440" y="3306600"/>
                    <a:ext cx="32400" cy="65160"/>
                    <a:chOff x="3709440" y="3306600"/>
                    <a:chExt cx="32400" cy="65160"/>
                  </a:xfrm>
                </p:grpSpPr>
                <p:sp>
                  <p:nvSpPr>
                    <p:cNvPr id="3098" name=""/>
                    <p:cNvSpPr/>
                    <p:nvPr/>
                  </p:nvSpPr>
                  <p:spPr>
                    <a:xfrm>
                      <a:off x="3709440" y="3317760"/>
                      <a:ext cx="226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3" y="6"/>
                          </a:lnTo>
                          <a:lnTo>
                            <a:pt x="12" y="6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>
                      <a:off x="3709440" y="3325680"/>
                      <a:ext cx="2412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0" name=""/>
                    <p:cNvSpPr/>
                    <p:nvPr/>
                  </p:nvSpPr>
                  <p:spPr>
                    <a:xfrm>
                      <a:off x="3712680" y="3337200"/>
                      <a:ext cx="241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2" y="5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1" name=""/>
                    <p:cNvSpPr/>
                    <p:nvPr/>
                  </p:nvSpPr>
                  <p:spPr>
                    <a:xfrm>
                      <a:off x="3714480" y="3348720"/>
                      <a:ext cx="255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4"/>
                          </a:lnTo>
                          <a:lnTo>
                            <a:pt x="15" y="6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>
                      <a:off x="3720600" y="3363840"/>
                      <a:ext cx="212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4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3" name=""/>
                    <p:cNvSpPr/>
                    <p:nvPr/>
                  </p:nvSpPr>
                  <p:spPr>
                    <a:xfrm>
                      <a:off x="3711240" y="3306600"/>
                      <a:ext cx="194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8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10" y="3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6"/>
                          </a:lnTo>
                          <a:lnTo>
                            <a:pt x="11" y="7"/>
                          </a:lnTo>
                          <a:lnTo>
                            <a:pt x="10" y="6"/>
                          </a:lnTo>
                          <a:lnTo>
                            <a:pt x="9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04" name=""/>
                  <p:cNvSpPr/>
                  <p:nvPr/>
                </p:nvSpPr>
                <p:spPr>
                  <a:xfrm>
                    <a:off x="3702960" y="3362040"/>
                    <a:ext cx="162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3702960" y="3362040"/>
                    <a:ext cx="7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3659040" y="3301200"/>
                    <a:ext cx="115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6">
                        <a:moveTo>
                          <a:pt x="4" y="0"/>
                        </a:move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1" y="11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30"/>
                        </a:lnTo>
                        <a:lnTo>
                          <a:pt x="1" y="35"/>
                        </a:lnTo>
                        <a:lnTo>
                          <a:pt x="2" y="39"/>
                        </a:lnTo>
                        <a:lnTo>
                          <a:pt x="4" y="45"/>
                        </a:lnTo>
                        <a:lnTo>
                          <a:pt x="4" y="48"/>
                        </a:lnTo>
                        <a:lnTo>
                          <a:pt x="4" y="52"/>
                        </a:lnTo>
                        <a:lnTo>
                          <a:pt x="5" y="55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5" y="46"/>
                        </a:lnTo>
                        <a:lnTo>
                          <a:pt x="5" y="43"/>
                        </a:lnTo>
                        <a:lnTo>
                          <a:pt x="4" y="40"/>
                        </a:lnTo>
                        <a:lnTo>
                          <a:pt x="3" y="36"/>
                        </a:lnTo>
                        <a:lnTo>
                          <a:pt x="2" y="34"/>
                        </a:lnTo>
                        <a:lnTo>
                          <a:pt x="2" y="31"/>
                        </a:lnTo>
                        <a:lnTo>
                          <a:pt x="1" y="28"/>
                        </a:lnTo>
                        <a:lnTo>
                          <a:pt x="1" y="24"/>
                        </a:lnTo>
                        <a:lnTo>
                          <a:pt x="1" y="19"/>
                        </a:lnTo>
                        <a:lnTo>
                          <a:pt x="1" y="14"/>
                        </a:lnTo>
                        <a:lnTo>
                          <a:pt x="1" y="10"/>
                        </a:lnTo>
                        <a:lnTo>
                          <a:pt x="2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07" name=""/>
                  <p:cNvGrpSpPr/>
                  <p:nvPr/>
                </p:nvGrpSpPr>
                <p:grpSpPr>
                  <a:xfrm>
                    <a:off x="3660480" y="3281760"/>
                    <a:ext cx="9720" cy="9720"/>
                    <a:chOff x="3660480" y="3281760"/>
                    <a:chExt cx="9720" cy="9720"/>
                  </a:xfrm>
                </p:grpSpPr>
                <p:grpSp>
                  <p:nvGrpSpPr>
                    <p:cNvPr id="3108" name=""/>
                    <p:cNvGrpSpPr/>
                    <p:nvPr/>
                  </p:nvGrpSpPr>
                  <p:grpSpPr>
                    <a:xfrm>
                      <a:off x="3660480" y="3281760"/>
                      <a:ext cx="9720" cy="9720"/>
                      <a:chOff x="3660480" y="3281760"/>
                      <a:chExt cx="9720" cy="9720"/>
                    </a:xfrm>
                  </p:grpSpPr>
                  <p:sp>
                    <p:nvSpPr>
                      <p:cNvPr id="3109" name=""/>
                      <p:cNvSpPr/>
                      <p:nvPr/>
                    </p:nvSpPr>
                    <p:spPr>
                      <a:xfrm>
                        <a:off x="3660480" y="3283560"/>
                        <a:ext cx="97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1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0" name=""/>
                      <p:cNvSpPr/>
                      <p:nvPr/>
                    </p:nvSpPr>
                    <p:spPr>
                      <a:xfrm>
                        <a:off x="3661920" y="3289680"/>
                        <a:ext cx="32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1" name=""/>
                      <p:cNvSpPr/>
                      <p:nvPr/>
                    </p:nvSpPr>
                    <p:spPr>
                      <a:xfrm>
                        <a:off x="3663720" y="3281760"/>
                        <a:ext cx="6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3">
                            <a:moveTo>
                              <a:pt x="3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" y="2"/>
                            </a:lnTo>
                            <a:lnTo>
                              <a:pt x="3" y="2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12" name=""/>
                    <p:cNvSpPr/>
                    <p:nvPr/>
                  </p:nvSpPr>
                  <p:spPr>
                    <a:xfrm>
                      <a:off x="3660480" y="3283560"/>
                      <a:ext cx="97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4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3" name=""/>
                  <p:cNvSpPr/>
                  <p:nvPr/>
                </p:nvSpPr>
                <p:spPr>
                  <a:xfrm>
                    <a:off x="3668400" y="3326040"/>
                    <a:ext cx="507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7">
                        <a:moveTo>
                          <a:pt x="2" y="1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5" y="1"/>
                        </a:lnTo>
                        <a:lnTo>
                          <a:pt x="17" y="2"/>
                        </a:lnTo>
                        <a:lnTo>
                          <a:pt x="19" y="3"/>
                        </a:lnTo>
                        <a:lnTo>
                          <a:pt x="21" y="4"/>
                        </a:lnTo>
                        <a:lnTo>
                          <a:pt x="23" y="5"/>
                        </a:lnTo>
                        <a:lnTo>
                          <a:pt x="24" y="6"/>
                        </a:lnTo>
                        <a:lnTo>
                          <a:pt x="25" y="7"/>
                        </a:lnTo>
                        <a:lnTo>
                          <a:pt x="26" y="11"/>
                        </a:lnTo>
                        <a:lnTo>
                          <a:pt x="27" y="15"/>
                        </a:lnTo>
                        <a:lnTo>
                          <a:pt x="28" y="18"/>
                        </a:lnTo>
                        <a:lnTo>
                          <a:pt x="29" y="23"/>
                        </a:lnTo>
                        <a:lnTo>
                          <a:pt x="30" y="26"/>
                        </a:lnTo>
                        <a:lnTo>
                          <a:pt x="30" y="26"/>
                        </a:lnTo>
                        <a:lnTo>
                          <a:pt x="29" y="25"/>
                        </a:lnTo>
                        <a:lnTo>
                          <a:pt x="28" y="24"/>
                        </a:lnTo>
                        <a:lnTo>
                          <a:pt x="27" y="23"/>
                        </a:lnTo>
                        <a:lnTo>
                          <a:pt x="23" y="22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20"/>
                        </a:lnTo>
                        <a:lnTo>
                          <a:pt x="15" y="20"/>
                        </a:lnTo>
                        <a:lnTo>
                          <a:pt x="12" y="20"/>
                        </a:lnTo>
                        <a:lnTo>
                          <a:pt x="10" y="20"/>
                        </a:lnTo>
                        <a:lnTo>
                          <a:pt x="7" y="20"/>
                        </a:lnTo>
                        <a:lnTo>
                          <a:pt x="5" y="21"/>
                        </a:lnTo>
                        <a:lnTo>
                          <a:pt x="3" y="21"/>
                        </a:lnTo>
                        <a:lnTo>
                          <a:pt x="2" y="22"/>
                        </a:lnTo>
                        <a:lnTo>
                          <a:pt x="0" y="23"/>
                        </a:lnTo>
                        <a:lnTo>
                          <a:pt x="1" y="15"/>
                        </a:lnTo>
                        <a:lnTo>
                          <a:pt x="2" y="9"/>
                        </a:lnTo>
                        <a:lnTo>
                          <a:pt x="2" y="4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4" name=""/>
                  <p:cNvGrpSpPr/>
                  <p:nvPr/>
                </p:nvGrpSpPr>
                <p:grpSpPr>
                  <a:xfrm>
                    <a:off x="3668400" y="3319560"/>
                    <a:ext cx="48600" cy="43920"/>
                    <a:chOff x="3668400" y="3319560"/>
                    <a:chExt cx="48600" cy="43920"/>
                  </a:xfrm>
                </p:grpSpPr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3671640" y="3319560"/>
                      <a:ext cx="392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  <a:lnTo>
                            <a:pt x="8" y="0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lnTo>
                            <a:pt x="17" y="3"/>
                          </a:lnTo>
                          <a:lnTo>
                            <a:pt x="19" y="4"/>
                          </a:lnTo>
                          <a:lnTo>
                            <a:pt x="20" y="4"/>
                          </a:lnTo>
                          <a:lnTo>
                            <a:pt x="21" y="5"/>
                          </a:lnTo>
                          <a:lnTo>
                            <a:pt x="21" y="6"/>
                          </a:lnTo>
                          <a:lnTo>
                            <a:pt x="23" y="9"/>
                          </a:lnTo>
                          <a:lnTo>
                            <a:pt x="22" y="8"/>
                          </a:lnTo>
                          <a:lnTo>
                            <a:pt x="19" y="7"/>
                          </a:lnTo>
                          <a:lnTo>
                            <a:pt x="17" y="5"/>
                          </a:lnTo>
                          <a:lnTo>
                            <a:pt x="15" y="4"/>
                          </a:lnTo>
                          <a:lnTo>
                            <a:pt x="14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6" name=""/>
                    <p:cNvSpPr/>
                    <p:nvPr/>
                  </p:nvSpPr>
                  <p:spPr>
                    <a:xfrm>
                      <a:off x="3670200" y="3332520"/>
                      <a:ext cx="4392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1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5" y="2"/>
                          </a:lnTo>
                          <a:lnTo>
                            <a:pt x="17" y="3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3" y="5"/>
                          </a:lnTo>
                          <a:lnTo>
                            <a:pt x="24" y="6"/>
                          </a:lnTo>
                          <a:lnTo>
                            <a:pt x="25" y="7"/>
                          </a:lnTo>
                          <a:lnTo>
                            <a:pt x="26" y="10"/>
                          </a:lnTo>
                          <a:lnTo>
                            <a:pt x="24" y="9"/>
                          </a:lnTo>
                          <a:lnTo>
                            <a:pt x="22" y="8"/>
                          </a:lnTo>
                          <a:lnTo>
                            <a:pt x="20" y="7"/>
                          </a:lnTo>
                          <a:lnTo>
                            <a:pt x="19" y="6"/>
                          </a:lnTo>
                          <a:lnTo>
                            <a:pt x="17" y="5"/>
                          </a:lnTo>
                          <a:lnTo>
                            <a:pt x="13" y="4"/>
                          </a:lnTo>
                          <a:lnTo>
                            <a:pt x="10" y="3"/>
                          </a:lnTo>
                          <a:lnTo>
                            <a:pt x="7" y="3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7" name=""/>
                    <p:cNvSpPr/>
                    <p:nvPr/>
                  </p:nvSpPr>
                  <p:spPr>
                    <a:xfrm>
                      <a:off x="3668400" y="3345480"/>
                      <a:ext cx="4860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1">
                          <a:moveTo>
                            <a:pt x="0" y="1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20" y="3"/>
                          </a:lnTo>
                          <a:lnTo>
                            <a:pt x="23" y="4"/>
                          </a:lnTo>
                          <a:lnTo>
                            <a:pt x="26" y="5"/>
                          </a:lnTo>
                          <a:lnTo>
                            <a:pt x="28" y="6"/>
                          </a:lnTo>
                          <a:lnTo>
                            <a:pt x="29" y="10"/>
                          </a:lnTo>
                          <a:lnTo>
                            <a:pt x="27" y="9"/>
                          </a:lnTo>
                          <a:lnTo>
                            <a:pt x="25" y="8"/>
                          </a:lnTo>
                          <a:lnTo>
                            <a:pt x="23" y="7"/>
                          </a:lnTo>
                          <a:lnTo>
                            <a:pt x="21" y="6"/>
                          </a:lnTo>
                          <a:lnTo>
                            <a:pt x="19" y="5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3"/>
                          </a:lnTo>
                          <a:lnTo>
                            <a:pt x="6" y="3"/>
                          </a:lnTo>
                          <a:lnTo>
                            <a:pt x="3" y="4"/>
                          </a:lnTo>
                          <a:lnTo>
                            <a:pt x="0" y="5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8" name=""/>
                  <p:cNvSpPr/>
                  <p:nvPr/>
                </p:nvSpPr>
                <p:spPr>
                  <a:xfrm>
                    <a:off x="3666960" y="3289680"/>
                    <a:ext cx="392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0" y="4"/>
                        </a:move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7" y="2"/>
                        </a:lnTo>
                        <a:lnTo>
                          <a:pt x="18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9" y="7"/>
                        </a:lnTo>
                        <a:lnTo>
                          <a:pt x="20" y="10"/>
                        </a:lnTo>
                        <a:lnTo>
                          <a:pt x="20" y="13"/>
                        </a:lnTo>
                        <a:lnTo>
                          <a:pt x="21" y="17"/>
                        </a:lnTo>
                        <a:lnTo>
                          <a:pt x="22" y="20"/>
                        </a:lnTo>
                        <a:lnTo>
                          <a:pt x="23" y="23"/>
                        </a:lnTo>
                        <a:lnTo>
                          <a:pt x="23" y="24"/>
                        </a:lnTo>
                        <a:lnTo>
                          <a:pt x="22" y="23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19"/>
                        </a:lnTo>
                        <a:lnTo>
                          <a:pt x="15" y="17"/>
                        </a:lnTo>
                        <a:lnTo>
                          <a:pt x="13" y="17"/>
                        </a:lnTo>
                        <a:lnTo>
                          <a:pt x="11" y="17"/>
                        </a:lnTo>
                        <a:lnTo>
                          <a:pt x="9" y="17"/>
                        </a:lnTo>
                        <a:lnTo>
                          <a:pt x="7" y="17"/>
                        </a:lnTo>
                        <a:lnTo>
                          <a:pt x="4" y="17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3" y="15"/>
                        </a:lnTo>
                        <a:lnTo>
                          <a:pt x="2" y="12"/>
                        </a:lnTo>
                        <a:lnTo>
                          <a:pt x="1" y="9"/>
                        </a:lnTo>
                        <a:lnTo>
                          <a:pt x="1" y="7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9" name=""/>
                  <p:cNvGrpSpPr/>
                  <p:nvPr/>
                </p:nvGrpSpPr>
                <p:grpSpPr>
                  <a:xfrm>
                    <a:off x="3668400" y="3289680"/>
                    <a:ext cx="35640" cy="32760"/>
                    <a:chOff x="3668400" y="3289680"/>
                    <a:chExt cx="35640" cy="32760"/>
                  </a:xfrm>
                </p:grpSpPr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3668400" y="3294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3673080" y="32914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"/>
                    <p:cNvSpPr/>
                    <p:nvPr/>
                  </p:nvSpPr>
                  <p:spPr>
                    <a:xfrm>
                      <a:off x="3668400" y="32994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"/>
                    <p:cNvSpPr/>
                    <p:nvPr/>
                  </p:nvSpPr>
                  <p:spPr>
                    <a:xfrm>
                      <a:off x="3679560" y="328968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"/>
                    <p:cNvSpPr/>
                    <p:nvPr/>
                  </p:nvSpPr>
                  <p:spPr>
                    <a:xfrm>
                      <a:off x="3668400" y="33044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5" name=""/>
                    <p:cNvSpPr/>
                    <p:nvPr/>
                  </p:nvSpPr>
                  <p:spPr>
                    <a:xfrm>
                      <a:off x="3673080" y="33030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6" name=""/>
                    <p:cNvSpPr/>
                    <p:nvPr/>
                  </p:nvSpPr>
                  <p:spPr>
                    <a:xfrm>
                      <a:off x="3684600" y="328968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7" name=""/>
                    <p:cNvSpPr/>
                    <p:nvPr/>
                  </p:nvSpPr>
                  <p:spPr>
                    <a:xfrm>
                      <a:off x="3679560" y="32947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"/>
                    <p:cNvSpPr/>
                    <p:nvPr/>
                  </p:nvSpPr>
                  <p:spPr>
                    <a:xfrm>
                      <a:off x="3681360" y="330120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"/>
                    <p:cNvSpPr/>
                    <p:nvPr/>
                  </p:nvSpPr>
                  <p:spPr>
                    <a:xfrm>
                      <a:off x="3684600" y="329472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"/>
                    <p:cNvSpPr/>
                    <p:nvPr/>
                  </p:nvSpPr>
                  <p:spPr>
                    <a:xfrm>
                      <a:off x="3691080" y="32914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1" name=""/>
                    <p:cNvSpPr/>
                    <p:nvPr/>
                  </p:nvSpPr>
                  <p:spPr>
                    <a:xfrm>
                      <a:off x="3691080" y="32961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2" name=""/>
                    <p:cNvSpPr/>
                    <p:nvPr/>
                  </p:nvSpPr>
                  <p:spPr>
                    <a:xfrm>
                      <a:off x="3686400" y="33030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3" name=""/>
                    <p:cNvSpPr/>
                    <p:nvPr/>
                  </p:nvSpPr>
                  <p:spPr>
                    <a:xfrm>
                      <a:off x="3692880" y="330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4" name=""/>
                    <p:cNvSpPr/>
                    <p:nvPr/>
                  </p:nvSpPr>
                  <p:spPr>
                    <a:xfrm>
                      <a:off x="3670200" y="330912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5" name=""/>
                    <p:cNvSpPr/>
                    <p:nvPr/>
                  </p:nvSpPr>
                  <p:spPr>
                    <a:xfrm>
                      <a:off x="3671640" y="331596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6" name=""/>
                    <p:cNvSpPr/>
                    <p:nvPr/>
                  </p:nvSpPr>
                  <p:spPr>
                    <a:xfrm>
                      <a:off x="3676320" y="33145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7" name=""/>
                    <p:cNvSpPr/>
                    <p:nvPr/>
                  </p:nvSpPr>
                  <p:spPr>
                    <a:xfrm>
                      <a:off x="3674880" y="330624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8" name=""/>
                    <p:cNvSpPr/>
                    <p:nvPr/>
                  </p:nvSpPr>
                  <p:spPr>
                    <a:xfrm>
                      <a:off x="3683160" y="33062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9" name=""/>
                    <p:cNvSpPr/>
                    <p:nvPr/>
                  </p:nvSpPr>
                  <p:spPr>
                    <a:xfrm>
                      <a:off x="3683160" y="33145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0" name=""/>
                    <p:cNvSpPr/>
                    <p:nvPr/>
                  </p:nvSpPr>
                  <p:spPr>
                    <a:xfrm>
                      <a:off x="3687840" y="33076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1" name=""/>
                    <p:cNvSpPr/>
                    <p:nvPr/>
                  </p:nvSpPr>
                  <p:spPr>
                    <a:xfrm>
                      <a:off x="3687840" y="331452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2" name=""/>
                    <p:cNvSpPr/>
                    <p:nvPr/>
                  </p:nvSpPr>
                  <p:spPr>
                    <a:xfrm>
                      <a:off x="3692880" y="330768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3" name=""/>
                    <p:cNvSpPr/>
                    <p:nvPr/>
                  </p:nvSpPr>
                  <p:spPr>
                    <a:xfrm>
                      <a:off x="3694680" y="331740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4" name=""/>
                    <p:cNvSpPr/>
                    <p:nvPr/>
                  </p:nvSpPr>
                  <p:spPr>
                    <a:xfrm>
                      <a:off x="3702600" y="33206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5" name=""/>
                    <p:cNvSpPr/>
                    <p:nvPr/>
                  </p:nvSpPr>
                  <p:spPr>
                    <a:xfrm>
                      <a:off x="3697560" y="32929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6" name=""/>
                    <p:cNvSpPr/>
                    <p:nvPr/>
                  </p:nvSpPr>
                  <p:spPr>
                    <a:xfrm>
                      <a:off x="3697560" y="32994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7" name=""/>
                    <p:cNvSpPr/>
                    <p:nvPr/>
                  </p:nvSpPr>
                  <p:spPr>
                    <a:xfrm>
                      <a:off x="3697560" y="33044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8" name=""/>
                    <p:cNvSpPr/>
                    <p:nvPr/>
                  </p:nvSpPr>
                  <p:spPr>
                    <a:xfrm>
                      <a:off x="3697560" y="33109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9" name=""/>
                    <p:cNvSpPr/>
                    <p:nvPr/>
                  </p:nvSpPr>
                  <p:spPr>
                    <a:xfrm>
                      <a:off x="3697560" y="33174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0" name=""/>
                    <p:cNvSpPr/>
                    <p:nvPr/>
                  </p:nvSpPr>
                  <p:spPr>
                    <a:xfrm>
                      <a:off x="3673080" y="329616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51" name=""/>
                  <p:cNvGrpSpPr/>
                  <p:nvPr/>
                </p:nvGrpSpPr>
                <p:grpSpPr>
                  <a:xfrm>
                    <a:off x="3661920" y="3295080"/>
                    <a:ext cx="8280" cy="69840"/>
                    <a:chOff x="3661920" y="3295080"/>
                    <a:chExt cx="8280" cy="69840"/>
                  </a:xfrm>
                </p:grpSpPr>
                <p:sp>
                  <p:nvSpPr>
                    <p:cNvPr id="3152" name=""/>
                    <p:cNvSpPr/>
                    <p:nvPr/>
                  </p:nvSpPr>
                  <p:spPr>
                    <a:xfrm>
                      <a:off x="3661920" y="3296520"/>
                      <a:ext cx="82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2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3" y="4"/>
                          </a:lnTo>
                          <a:lnTo>
                            <a:pt x="3" y="6"/>
                          </a:lnTo>
                          <a:lnTo>
                            <a:pt x="4" y="7"/>
                          </a:lnTo>
                          <a:lnTo>
                            <a:pt x="4" y="11"/>
                          </a:lnTo>
                          <a:lnTo>
                            <a:pt x="4" y="15"/>
                          </a:lnTo>
                          <a:lnTo>
                            <a:pt x="4" y="20"/>
                          </a:lnTo>
                          <a:lnTo>
                            <a:pt x="4" y="24"/>
                          </a:lnTo>
                          <a:lnTo>
                            <a:pt x="4" y="28"/>
                          </a:lnTo>
                          <a:lnTo>
                            <a:pt x="3" y="32"/>
                          </a:lnTo>
                          <a:lnTo>
                            <a:pt x="3" y="38"/>
                          </a:lnTo>
                          <a:lnTo>
                            <a:pt x="2" y="40"/>
                          </a:lnTo>
                          <a:lnTo>
                            <a:pt x="0" y="41"/>
                          </a:lnTo>
                          <a:lnTo>
                            <a:pt x="1" y="36"/>
                          </a:lnTo>
                          <a:lnTo>
                            <a:pt x="2" y="31"/>
                          </a:lnTo>
                          <a:lnTo>
                            <a:pt x="3" y="26"/>
                          </a:lnTo>
                          <a:lnTo>
                            <a:pt x="3" y="23"/>
                          </a:lnTo>
                          <a:lnTo>
                            <a:pt x="3" y="19"/>
                          </a:lnTo>
                          <a:lnTo>
                            <a:pt x="3" y="14"/>
                          </a:lnTo>
                          <a:lnTo>
                            <a:pt x="3" y="9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3" name=""/>
                    <p:cNvSpPr/>
                    <p:nvPr/>
                  </p:nvSpPr>
                  <p:spPr>
                    <a:xfrm>
                      <a:off x="3663720" y="3295080"/>
                      <a:ext cx="144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4" name=""/>
                    <p:cNvSpPr/>
                    <p:nvPr/>
                  </p:nvSpPr>
                  <p:spPr>
                    <a:xfrm>
                      <a:off x="3661920" y="3358800"/>
                      <a:ext cx="180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55" name=""/>
                  <p:cNvGrpSpPr/>
                  <p:nvPr/>
                </p:nvGrpSpPr>
                <p:grpSpPr>
                  <a:xfrm>
                    <a:off x="3661920" y="3293280"/>
                    <a:ext cx="3240" cy="115920"/>
                    <a:chOff x="3661920" y="3293280"/>
                    <a:chExt cx="3240" cy="115920"/>
                  </a:xfrm>
                </p:grpSpPr>
                <p:sp>
                  <p:nvSpPr>
                    <p:cNvPr id="3156" name=""/>
                    <p:cNvSpPr/>
                    <p:nvPr/>
                  </p:nvSpPr>
                  <p:spPr>
                    <a:xfrm>
                      <a:off x="3661920" y="3293280"/>
                      <a:ext cx="180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7" name=""/>
                    <p:cNvSpPr/>
                    <p:nvPr/>
                  </p:nvSpPr>
                  <p:spPr>
                    <a:xfrm>
                      <a:off x="3661920" y="3293280"/>
                      <a:ext cx="324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">
                          <a:moveTo>
                            <a:pt x="0" y="0"/>
                          </a:move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58" name=""/>
                <p:cNvGrpSpPr/>
                <p:nvPr/>
              </p:nvGrpSpPr>
              <p:grpSpPr>
                <a:xfrm>
                  <a:off x="3721320" y="3392280"/>
                  <a:ext cx="43920" cy="20880"/>
                  <a:chOff x="3721320" y="3392280"/>
                  <a:chExt cx="43920" cy="20880"/>
                </a:xfrm>
              </p:grpSpPr>
              <p:sp>
                <p:nvSpPr>
                  <p:cNvPr id="3159" name=""/>
                  <p:cNvSpPr/>
                  <p:nvPr/>
                </p:nvSpPr>
                <p:spPr>
                  <a:xfrm>
                    <a:off x="3739320" y="3392280"/>
                    <a:ext cx="7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3">
                        <a:moveTo>
                          <a:pt x="3" y="0"/>
                        </a:move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3" y="12"/>
                        </a:lnTo>
                        <a:lnTo>
                          <a:pt x="1" y="12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3721320" y="3392280"/>
                    <a:ext cx="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3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5" y="10"/>
                        </a:lnTo>
                        <a:lnTo>
                          <a:pt x="2" y="10"/>
                        </a:ln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3757320" y="339228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1">
                        <a:moveTo>
                          <a:pt x="2" y="1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62" name=""/>
            <p:cNvSpPr/>
            <p:nvPr/>
          </p:nvSpPr>
          <p:spPr>
            <a:xfrm>
              <a:off x="2580480" y="3087720"/>
              <a:ext cx="1193400" cy="86940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585520" y="3040200"/>
              <a:ext cx="1241280" cy="8971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4" name=""/>
          <p:cNvSpPr/>
          <p:nvPr/>
        </p:nvSpPr>
        <p:spPr>
          <a:xfrm>
            <a:off x="384120" y="4321080"/>
            <a:ext cx="2847960" cy="2087640"/>
          </a:xfrm>
          <a:custGeom>
            <a:avLst/>
            <a:gdLst/>
            <a:ahLst/>
            <a:rect l="l" t="t" r="r" b="b"/>
            <a:pathLst>
              <a:path w="1731" h="1269">
                <a:moveTo>
                  <a:pt x="0" y="414"/>
                </a:moveTo>
                <a:lnTo>
                  <a:pt x="594" y="0"/>
                </a:lnTo>
                <a:lnTo>
                  <a:pt x="1167" y="0"/>
                </a:lnTo>
                <a:lnTo>
                  <a:pt x="1167" y="700"/>
                </a:lnTo>
                <a:lnTo>
                  <a:pt x="1448" y="700"/>
                </a:lnTo>
                <a:lnTo>
                  <a:pt x="1730" y="1268"/>
                </a:lnTo>
                <a:lnTo>
                  <a:pt x="616" y="1268"/>
                </a:lnTo>
                <a:lnTo>
                  <a:pt x="0" y="652"/>
                </a:lnTo>
                <a:lnTo>
                  <a:pt x="0" y="414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509920" y="4659480"/>
            <a:ext cx="18252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2970360" y="4933800"/>
            <a:ext cx="180720" cy="1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004840" y="4659480"/>
            <a:ext cx="18108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2184120" y="476244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741760" y="4797360"/>
            <a:ext cx="204480" cy="16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025720" y="5567400"/>
            <a:ext cx="1778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984400" y="5362560"/>
            <a:ext cx="176400" cy="17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109960" y="4871880"/>
            <a:ext cx="0" cy="20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2762280" y="5478120"/>
            <a:ext cx="218880" cy="214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V="1">
            <a:off x="3075120" y="5086080"/>
            <a:ext cx="0" cy="29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538360" y="5567400"/>
            <a:ext cx="17928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2016000" y="5110200"/>
            <a:ext cx="179640" cy="177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2109960" y="5349960"/>
            <a:ext cx="0" cy="18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246400" y="5661000"/>
            <a:ext cx="258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361320" y="527688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863000" y="57801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2542320" y="57801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2614680" y="4871880"/>
            <a:ext cx="0" cy="20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2519280" y="5110200"/>
            <a:ext cx="181080" cy="177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614680" y="5349960"/>
            <a:ext cx="0" cy="18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336120" y="481824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616760" y="456552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616760" y="5011560"/>
            <a:ext cx="171360" cy="332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3248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258200" y="455760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258200" y="501480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1873440" y="609444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548800" y="609444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670560" y="48229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670560" y="52387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327400" y="5024520"/>
            <a:ext cx="2170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21240" bIns="212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590400" y="5010120"/>
            <a:ext cx="4395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254400" y="4140360"/>
            <a:ext cx="408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724120" y="4467240"/>
            <a:ext cx="1028160" cy="128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016"/>
              </a:path>
            </a:pathLst>
          </a:custGeom>
          <a:noFill/>
          <a:ln cap="rnd" w="1260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4159080" y="4694400"/>
            <a:ext cx="4654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This example was not concave; Z adds 0 to X, but adds 2 to its superset Y (all blue nodes)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967-14EB-49F1-BD69-5A6D626A222D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53920" y="476280"/>
            <a:ext cx="7253280" cy="116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the Mechanis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470400" cy="2732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835520" y="5708520"/>
            <a:ext cx="1273680" cy="846720"/>
            <a:chOff x="4835520" y="5708520"/>
            <a:chExt cx="1273680" cy="846720"/>
          </a:xfrm>
        </p:grpSpPr>
        <p:grpSp>
          <p:nvGrpSpPr>
            <p:cNvPr id="673" name=""/>
            <p:cNvGrpSpPr/>
            <p:nvPr/>
          </p:nvGrpSpPr>
          <p:grpSpPr>
            <a:xfrm>
              <a:off x="6014160" y="6401520"/>
              <a:ext cx="91080" cy="153720"/>
              <a:chOff x="6014160" y="6401520"/>
              <a:chExt cx="91080" cy="15372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6014160" y="6513120"/>
                <a:ext cx="73440" cy="42120"/>
                <a:chOff x="6014160" y="6513120"/>
                <a:chExt cx="73440" cy="421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041880" y="6527880"/>
                  <a:ext cx="4572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5" y="2"/>
                      </a:move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7" y="14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7" y="15"/>
                      </a:lnTo>
                      <a:lnTo>
                        <a:pt x="20" y="14"/>
                      </a:lnTo>
                      <a:lnTo>
                        <a:pt x="23" y="13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4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20" y="5"/>
                      </a:lnTo>
                      <a:lnTo>
                        <a:pt x="20" y="8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9" y="3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014160" y="6513120"/>
                  <a:ext cx="48960" cy="4212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15" y="0"/>
                      </a:move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8" y="24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4"/>
                      </a:lnTo>
                      <a:lnTo>
                        <a:pt x="25" y="21"/>
                      </a:lnTo>
                      <a:lnTo>
                        <a:pt x="29" y="18"/>
                      </a:lnTo>
                      <a:lnTo>
                        <a:pt x="23" y="15"/>
                      </a:lnTo>
                      <a:lnTo>
                        <a:pt x="21" y="18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8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017400" y="6531120"/>
                  <a:ext cx="47160" cy="241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9"/>
                      </a:moveTo>
                      <a:lnTo>
                        <a:pt x="5" y="9"/>
                      </a:lnTo>
                      <a:lnTo>
                        <a:pt x="12" y="9"/>
                      </a:lnTo>
                      <a:lnTo>
                        <a:pt x="17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8" y="9"/>
                      </a:lnTo>
                      <a:lnTo>
                        <a:pt x="26" y="12"/>
                      </a:lnTo>
                      <a:lnTo>
                        <a:pt x="23" y="13"/>
                      </a:lnTo>
                      <a:lnTo>
                        <a:pt x="18" y="14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3" y="1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069600" y="6401520"/>
                <a:ext cx="27360" cy="45720"/>
                <a:chOff x="6069600" y="6401520"/>
                <a:chExt cx="27360" cy="457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074640" y="642924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069600" y="6401520"/>
                  <a:ext cx="27360" cy="4572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7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4"/>
                      </a:lnTo>
                      <a:lnTo>
                        <a:pt x="8" y="3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10" y="26"/>
                      </a:lnTo>
                      <a:lnTo>
                        <a:pt x="13" y="27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066360" y="6433920"/>
                <a:ext cx="27360" cy="43920"/>
                <a:chOff x="6066360" y="6433920"/>
                <a:chExt cx="27360" cy="439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071400" y="6460200"/>
                  <a:ext cx="1620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0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066360" y="64339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077880" y="6496560"/>
                <a:ext cx="27360" cy="45360"/>
                <a:chOff x="6077880" y="6496560"/>
                <a:chExt cx="27360" cy="453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084360" y="6498000"/>
                  <a:ext cx="16200" cy="16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077880" y="6496560"/>
                  <a:ext cx="27360" cy="453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3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6" y="7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5" y="19"/>
                      </a:lnTo>
                      <a:lnTo>
                        <a:pt x="14" y="20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8" y="24"/>
                      </a:lnTo>
                      <a:lnTo>
                        <a:pt x="5" y="26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6066360" y="6463800"/>
                <a:ext cx="27360" cy="43920"/>
                <a:chOff x="6066360" y="6463800"/>
                <a:chExt cx="27360" cy="43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71400" y="649152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066360" y="646380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0" name=""/>
            <p:cNvGrpSpPr/>
            <p:nvPr/>
          </p:nvGrpSpPr>
          <p:grpSpPr>
            <a:xfrm>
              <a:off x="4835520" y="5708520"/>
              <a:ext cx="1273680" cy="825840"/>
              <a:chOff x="4835520" y="5708520"/>
              <a:chExt cx="1273680" cy="8258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4835520" y="5708520"/>
                <a:ext cx="1273680" cy="825840"/>
                <a:chOff x="4835520" y="5708520"/>
                <a:chExt cx="1273680" cy="82584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4835520" y="5721840"/>
                  <a:ext cx="1273680" cy="812520"/>
                  <a:chOff x="4835520" y="5721840"/>
                  <a:chExt cx="1273680" cy="81252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4835520" y="5721840"/>
                    <a:ext cx="1273680" cy="812520"/>
                    <a:chOff x="4835520" y="5721840"/>
                    <a:chExt cx="1273680" cy="812520"/>
                  </a:xfrm>
                </p:grpSpPr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4835520" y="5721840"/>
                      <a:ext cx="1273680" cy="812520"/>
                      <a:chOff x="4835520" y="5721840"/>
                      <a:chExt cx="1273680" cy="812520"/>
                    </a:xfrm>
                  </p:grpSpPr>
                  <p:grpSp>
                    <p:nvGrpSpPr>
                      <p:cNvPr id="695" name=""/>
                      <p:cNvGrpSpPr/>
                      <p:nvPr/>
                    </p:nvGrpSpPr>
                    <p:grpSpPr>
                      <a:xfrm>
                        <a:off x="4835520" y="5721840"/>
                        <a:ext cx="1273680" cy="812520"/>
                        <a:chOff x="4835520" y="5721840"/>
                        <a:chExt cx="1273680" cy="812520"/>
                      </a:xfrm>
                    </p:grpSpPr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835520" y="5765760"/>
                          <a:ext cx="1244160" cy="76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8" h="469">
                              <a:moveTo>
                                <a:pt x="757" y="386"/>
                              </a:moveTo>
                              <a:lnTo>
                                <a:pt x="743" y="404"/>
                              </a:lnTo>
                              <a:lnTo>
                                <a:pt x="186" y="468"/>
                              </a:lnTo>
                              <a:lnTo>
                                <a:pt x="0" y="95"/>
                              </a:lnTo>
                              <a:lnTo>
                                <a:pt x="11" y="0"/>
                              </a:lnTo>
                              <a:lnTo>
                                <a:pt x="194" y="437"/>
                              </a:lnTo>
                              <a:lnTo>
                                <a:pt x="757" y="386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4835520" y="5721840"/>
                          <a:ext cx="334440" cy="78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78">
                              <a:moveTo>
                                <a:pt x="10" y="0"/>
                              </a:moveTo>
                              <a:lnTo>
                                <a:pt x="0" y="17"/>
                              </a:lnTo>
                              <a:lnTo>
                                <a:pt x="194" y="477"/>
                              </a:lnTo>
                              <a:lnTo>
                                <a:pt x="203" y="459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851720" y="5721840"/>
                          <a:ext cx="1257480" cy="75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6" h="460">
                              <a:moveTo>
                                <a:pt x="765" y="399"/>
                              </a:moveTo>
                              <a:lnTo>
                                <a:pt x="194" y="459"/>
                              </a:lnTo>
                              <a:lnTo>
                                <a:pt x="0" y="0"/>
                              </a:lnTo>
                              <a:lnTo>
                                <a:pt x="410" y="0"/>
                              </a:lnTo>
                              <a:lnTo>
                                <a:pt x="422" y="13"/>
                              </a:lnTo>
                              <a:lnTo>
                                <a:pt x="550" y="12"/>
                              </a:lnTo>
                              <a:lnTo>
                                <a:pt x="765" y="39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5152320" y="6375600"/>
                          <a:ext cx="956880" cy="13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3" h="80">
                              <a:moveTo>
                                <a:pt x="582" y="0"/>
                              </a:moveTo>
                              <a:lnTo>
                                <a:pt x="574" y="17"/>
                              </a:lnTo>
                              <a:lnTo>
                                <a:pt x="0" y="79"/>
                              </a:lnTo>
                              <a:lnTo>
                                <a:pt x="11" y="59"/>
                              </a:lnTo>
                              <a:lnTo>
                                <a:pt x="582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00" name=""/>
                        <p:cNvGrpSpPr/>
                        <p:nvPr/>
                      </p:nvGrpSpPr>
                      <p:grpSpPr>
                        <a:xfrm>
                          <a:off x="4910400" y="5739480"/>
                          <a:ext cx="927360" cy="692640"/>
                          <a:chOff x="4910400" y="5739480"/>
                          <a:chExt cx="927360" cy="692640"/>
                        </a:xfrm>
                      </p:grpSpPr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4910400" y="5739480"/>
                            <a:ext cx="668160" cy="13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7" h="83">
                                <a:moveTo>
                                  <a:pt x="372" y="0"/>
                                </a:moveTo>
                                <a:lnTo>
                                  <a:pt x="0" y="0"/>
                                </a:lnTo>
                                <a:lnTo>
                                  <a:pt x="38" y="82"/>
                                </a:lnTo>
                                <a:lnTo>
                                  <a:pt x="406" y="75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02" name=""/>
                          <p:cNvGrpSpPr/>
                          <p:nvPr/>
                        </p:nvGrpSpPr>
                        <p:grpSpPr>
                          <a:xfrm>
                            <a:off x="5013720" y="5765760"/>
                            <a:ext cx="472320" cy="63360"/>
                            <a:chOff x="5013720" y="5765760"/>
                            <a:chExt cx="472320" cy="63360"/>
                          </a:xfrm>
                        </p:grpSpPr>
                        <p:sp>
                          <p:nvSpPr>
                            <p:cNvPr id="703" name=""/>
                            <p:cNvSpPr/>
                            <p:nvPr/>
                          </p:nvSpPr>
                          <p:spPr>
                            <a:xfrm>
                              <a:off x="5013720" y="5765760"/>
                              <a:ext cx="444600" cy="17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1" h="11">
                                  <a:moveTo>
                                    <a:pt x="270" y="0"/>
                                  </a:moveTo>
                                  <a:lnTo>
                                    <a:pt x="261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7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160" bIns="-291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4" name=""/>
                            <p:cNvSpPr/>
                            <p:nvPr/>
                          </p:nvSpPr>
                          <p:spPr>
                            <a:xfrm>
                              <a:off x="5440320" y="5765760"/>
                              <a:ext cx="4572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37">
                                  <a:moveTo>
                                    <a:pt x="10" y="0"/>
                                  </a:moveTo>
                                  <a:lnTo>
                                    <a:pt x="27" y="36"/>
                                  </a:lnTo>
                                  <a:lnTo>
                                    <a:pt x="8" y="27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10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5" name=""/>
                            <p:cNvSpPr/>
                            <p:nvPr/>
                          </p:nvSpPr>
                          <p:spPr>
                            <a:xfrm>
                              <a:off x="5036760" y="5809680"/>
                              <a:ext cx="449280" cy="1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4" h="12">
                                  <a:moveTo>
                                    <a:pt x="273" y="10"/>
                                  </a:moveTo>
                                  <a:lnTo>
                                    <a:pt x="253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273" y="1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360" bIns="-27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6" name=""/>
                            <p:cNvSpPr/>
                            <p:nvPr/>
                          </p:nvSpPr>
                          <p:spPr>
                            <a:xfrm>
                              <a:off x="5021640" y="5781960"/>
                              <a:ext cx="43308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4" h="18">
                                  <a:moveTo>
                                    <a:pt x="0" y="0"/>
                                  </a:moveTo>
                                  <a:lnTo>
                                    <a:pt x="256" y="0"/>
                                  </a:lnTo>
                                  <a:lnTo>
                                    <a:pt x="263" y="17"/>
                                  </a:lnTo>
                                  <a:lnTo>
                                    <a:pt x="9" y="1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4976280" y="5895000"/>
                            <a:ext cx="861480" cy="537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328">
                                <a:moveTo>
                                  <a:pt x="372" y="0"/>
                                </a:moveTo>
                                <a:lnTo>
                                  <a:pt x="0" y="12"/>
                                </a:lnTo>
                                <a:lnTo>
                                  <a:pt x="139" y="327"/>
                                </a:lnTo>
                                <a:lnTo>
                                  <a:pt x="524" y="292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8" name=""/>
                        <p:cNvGrpSpPr/>
                        <p:nvPr/>
                      </p:nvGrpSpPr>
                      <p:grpSpPr>
                        <a:xfrm>
                          <a:off x="5542560" y="5741280"/>
                          <a:ext cx="296640" cy="633600"/>
                          <a:chOff x="5542560" y="5741280"/>
                          <a:chExt cx="296640" cy="633600"/>
                        </a:xfrm>
                      </p:grpSpPr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5586840" y="5870520"/>
                            <a:ext cx="252360" cy="50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4" h="308">
                                <a:moveTo>
                                  <a:pt x="12" y="0"/>
                                </a:moveTo>
                                <a:lnTo>
                                  <a:pt x="0" y="15"/>
                                </a:lnTo>
                                <a:lnTo>
                                  <a:pt x="153" y="307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>
                            <a:off x="5542560" y="5741280"/>
                            <a:ext cx="65520" cy="13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80">
                                <a:moveTo>
                                  <a:pt x="0" y="0"/>
                                </a:moveTo>
                                <a:lnTo>
                                  <a:pt x="39" y="7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11" name=""/>
                      <p:cNvGrpSpPr/>
                      <p:nvPr/>
                    </p:nvGrpSpPr>
                    <p:grpSpPr>
                      <a:xfrm>
                        <a:off x="5042160" y="5949720"/>
                        <a:ext cx="403920" cy="421200"/>
                        <a:chOff x="5042160" y="5949720"/>
                        <a:chExt cx="403920" cy="421200"/>
                      </a:xfrm>
                    </p:grpSpPr>
                    <p:grpSp>
                      <p:nvGrpSpPr>
                        <p:cNvPr id="712" name=""/>
                        <p:cNvGrpSpPr/>
                        <p:nvPr/>
                      </p:nvGrpSpPr>
                      <p:grpSpPr>
                        <a:xfrm>
                          <a:off x="5153760" y="5949720"/>
                          <a:ext cx="292320" cy="413280"/>
                          <a:chOff x="5153760" y="5949720"/>
                          <a:chExt cx="292320" cy="413280"/>
                        </a:xfrm>
                      </p:grpSpPr>
                      <p:grpSp>
                        <p:nvGrpSpPr>
                          <p:cNvPr id="713" name=""/>
                          <p:cNvGrpSpPr/>
                          <p:nvPr/>
                        </p:nvGrpSpPr>
                        <p:grpSpPr>
                          <a:xfrm>
                            <a:off x="5153760" y="5949720"/>
                            <a:ext cx="127080" cy="56160"/>
                            <a:chOff x="5153760" y="5949720"/>
                            <a:chExt cx="127080" cy="56160"/>
                          </a:xfrm>
                        </p:grpSpPr>
                        <p:grpSp>
                          <p:nvGrpSpPr>
                            <p:cNvPr id="714" name=""/>
                            <p:cNvGrpSpPr/>
                            <p:nvPr/>
                          </p:nvGrpSpPr>
                          <p:grpSpPr>
                            <a:xfrm>
                              <a:off x="5153760" y="5949720"/>
                              <a:ext cx="127080" cy="56160"/>
                              <a:chOff x="5153760" y="5949720"/>
                              <a:chExt cx="127080" cy="56160"/>
                            </a:xfrm>
                          </p:grpSpPr>
                          <p:sp>
                            <p:nvSpPr>
                              <p:cNvPr id="715" name=""/>
                              <p:cNvSpPr/>
                              <p:nvPr/>
                            </p:nvSpPr>
                            <p:spPr>
                              <a:xfrm>
                                <a:off x="5160240" y="59497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6" name=""/>
                              <p:cNvSpPr/>
                              <p:nvPr/>
                            </p:nvSpPr>
                            <p:spPr>
                              <a:xfrm>
                                <a:off x="5173200" y="59900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7" name=""/>
                              <p:cNvSpPr/>
                              <p:nvPr/>
                            </p:nvSpPr>
                            <p:spPr>
                              <a:xfrm>
                                <a:off x="5153760" y="59544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18" name=""/>
                            <p:cNvSpPr/>
                            <p:nvPr/>
                          </p:nvSpPr>
                          <p:spPr>
                            <a:xfrm>
                              <a:off x="5237280" y="59511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9" name=""/>
                            <p:cNvSpPr/>
                            <p:nvPr/>
                          </p:nvSpPr>
                          <p:spPr>
                            <a:xfrm>
                              <a:off x="5253480" y="5959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0" name=""/>
                            <p:cNvSpPr/>
                            <p:nvPr/>
                          </p:nvSpPr>
                          <p:spPr>
                            <a:xfrm>
                              <a:off x="5261760" y="597528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21" name=""/>
                          <p:cNvGrpSpPr/>
                          <p:nvPr/>
                        </p:nvGrpSpPr>
                        <p:grpSpPr>
                          <a:xfrm>
                            <a:off x="5176800" y="6000120"/>
                            <a:ext cx="127080" cy="56880"/>
                            <a:chOff x="5176800" y="6000120"/>
                            <a:chExt cx="127080" cy="56880"/>
                          </a:xfrm>
                        </p:grpSpPr>
                        <p:grpSp>
                          <p:nvGrpSpPr>
                            <p:cNvPr id="722" name=""/>
                            <p:cNvGrpSpPr/>
                            <p:nvPr/>
                          </p:nvGrpSpPr>
                          <p:grpSpPr>
                            <a:xfrm>
                              <a:off x="5176800" y="6000120"/>
                              <a:ext cx="127080" cy="56880"/>
                              <a:chOff x="5176800" y="6000120"/>
                              <a:chExt cx="127080" cy="56880"/>
                            </a:xfrm>
                          </p:grpSpPr>
                          <p:sp>
                            <p:nvSpPr>
                              <p:cNvPr id="723" name=""/>
                              <p:cNvSpPr/>
                              <p:nvPr/>
                            </p:nvSpPr>
                            <p:spPr>
                              <a:xfrm>
                                <a:off x="5182920" y="600012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" name=""/>
                              <p:cNvSpPr/>
                              <p:nvPr/>
                            </p:nvSpPr>
                            <p:spPr>
                              <a:xfrm>
                                <a:off x="5196240" y="60390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"/>
                              <p:cNvSpPr/>
                              <p:nvPr/>
                            </p:nvSpPr>
                            <p:spPr>
                              <a:xfrm>
                                <a:off x="5176800" y="60033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26" name=""/>
                            <p:cNvSpPr/>
                            <p:nvPr/>
                          </p:nvSpPr>
                          <p:spPr>
                            <a:xfrm>
                              <a:off x="5261760" y="6001920"/>
                              <a:ext cx="2088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7" name=""/>
                            <p:cNvSpPr/>
                            <p:nvPr/>
                          </p:nvSpPr>
                          <p:spPr>
                            <a:xfrm>
                              <a:off x="5276520" y="60098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8" name=""/>
                            <p:cNvSpPr/>
                            <p:nvPr/>
                          </p:nvSpPr>
                          <p:spPr>
                            <a:xfrm>
                              <a:off x="5286240" y="602460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29" name=""/>
                          <p:cNvGrpSpPr/>
                          <p:nvPr/>
                        </p:nvGrpSpPr>
                        <p:grpSpPr>
                          <a:xfrm>
                            <a:off x="5201280" y="6050880"/>
                            <a:ext cx="127080" cy="58320"/>
                            <a:chOff x="5201280" y="6050880"/>
                            <a:chExt cx="127080" cy="58320"/>
                          </a:xfrm>
                        </p:grpSpPr>
                        <p:grpSp>
                          <p:nvGrpSpPr>
                            <p:cNvPr id="730" name=""/>
                            <p:cNvGrpSpPr/>
                            <p:nvPr/>
                          </p:nvGrpSpPr>
                          <p:grpSpPr>
                            <a:xfrm>
                              <a:off x="5201280" y="6050880"/>
                              <a:ext cx="127080" cy="58320"/>
                              <a:chOff x="5201280" y="6050880"/>
                              <a:chExt cx="127080" cy="58320"/>
                            </a:xfrm>
                          </p:grpSpPr>
                          <p:sp>
                            <p:nvSpPr>
                              <p:cNvPr id="731" name=""/>
                              <p:cNvSpPr/>
                              <p:nvPr/>
                            </p:nvSpPr>
                            <p:spPr>
                              <a:xfrm>
                                <a:off x="5207760" y="60508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" name=""/>
                              <p:cNvSpPr/>
                              <p:nvPr/>
                            </p:nvSpPr>
                            <p:spPr>
                              <a:xfrm>
                                <a:off x="5220720" y="6091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3" name=""/>
                              <p:cNvSpPr/>
                              <p:nvPr/>
                            </p:nvSpPr>
                            <p:spPr>
                              <a:xfrm>
                                <a:off x="5201280" y="6055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34" name=""/>
                            <p:cNvSpPr/>
                            <p:nvPr/>
                          </p:nvSpPr>
                          <p:spPr>
                            <a:xfrm>
                              <a:off x="5286240" y="605232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5" name=""/>
                            <p:cNvSpPr/>
                            <p:nvPr/>
                          </p:nvSpPr>
                          <p:spPr>
                            <a:xfrm>
                              <a:off x="5301000" y="6062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6" name=""/>
                            <p:cNvSpPr/>
                            <p:nvPr/>
                          </p:nvSpPr>
                          <p:spPr>
                            <a:xfrm>
                              <a:off x="5310720" y="60771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7" name=""/>
                          <p:cNvGrpSpPr/>
                          <p:nvPr/>
                        </p:nvGrpSpPr>
                        <p:grpSpPr>
                          <a:xfrm>
                            <a:off x="5224320" y="6102000"/>
                            <a:ext cx="128520" cy="56160"/>
                            <a:chOff x="5224320" y="6102000"/>
                            <a:chExt cx="128520" cy="56160"/>
                          </a:xfrm>
                        </p:grpSpPr>
                        <p:grpSp>
                          <p:nvGrpSpPr>
                            <p:cNvPr id="738" name=""/>
                            <p:cNvGrpSpPr/>
                            <p:nvPr/>
                          </p:nvGrpSpPr>
                          <p:grpSpPr>
                            <a:xfrm>
                              <a:off x="5224320" y="6102000"/>
                              <a:ext cx="128520" cy="56160"/>
                              <a:chOff x="5224320" y="6102000"/>
                              <a:chExt cx="128520" cy="56160"/>
                            </a:xfrm>
                          </p:grpSpPr>
                          <p:sp>
                            <p:nvSpPr>
                              <p:cNvPr id="739" name=""/>
                              <p:cNvSpPr/>
                              <p:nvPr/>
                            </p:nvSpPr>
                            <p:spPr>
                              <a:xfrm>
                                <a:off x="5230440" y="61020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0" name=""/>
                              <p:cNvSpPr/>
                              <p:nvPr/>
                            </p:nvSpPr>
                            <p:spPr>
                              <a:xfrm>
                                <a:off x="5245200" y="614052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"/>
                              <p:cNvSpPr/>
                              <p:nvPr/>
                            </p:nvSpPr>
                            <p:spPr>
                              <a:xfrm>
                                <a:off x="5224320" y="61066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42" name=""/>
                            <p:cNvSpPr/>
                            <p:nvPr/>
                          </p:nvSpPr>
                          <p:spPr>
                            <a:xfrm>
                              <a:off x="5309280" y="6103440"/>
                              <a:ext cx="208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3" name=""/>
                            <p:cNvSpPr/>
                            <p:nvPr/>
                          </p:nvSpPr>
                          <p:spPr>
                            <a:xfrm>
                              <a:off x="5325480" y="61113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4" name=""/>
                            <p:cNvSpPr/>
                            <p:nvPr/>
                          </p:nvSpPr>
                          <p:spPr>
                            <a:xfrm>
                              <a:off x="5333760" y="6127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45" name=""/>
                          <p:cNvGrpSpPr/>
                          <p:nvPr/>
                        </p:nvGrpSpPr>
                        <p:grpSpPr>
                          <a:xfrm>
                            <a:off x="5247000" y="6152400"/>
                            <a:ext cx="128880" cy="56880"/>
                            <a:chOff x="5247000" y="6152400"/>
                            <a:chExt cx="128880" cy="56880"/>
                          </a:xfrm>
                        </p:grpSpPr>
                        <p:grpSp>
                          <p:nvGrpSpPr>
                            <p:cNvPr id="746" name=""/>
                            <p:cNvGrpSpPr/>
                            <p:nvPr/>
                          </p:nvGrpSpPr>
                          <p:grpSpPr>
                            <a:xfrm>
                              <a:off x="5247000" y="6152400"/>
                              <a:ext cx="128880" cy="56880"/>
                              <a:chOff x="5247000" y="6152400"/>
                              <a:chExt cx="128880" cy="56880"/>
                            </a:xfrm>
                          </p:grpSpPr>
                          <p:sp>
                            <p:nvSpPr>
                              <p:cNvPr id="747" name=""/>
                              <p:cNvSpPr/>
                              <p:nvPr/>
                            </p:nvSpPr>
                            <p:spPr>
                              <a:xfrm>
                                <a:off x="5254920" y="615240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8" name=""/>
                              <p:cNvSpPr/>
                              <p:nvPr/>
                            </p:nvSpPr>
                            <p:spPr>
                              <a:xfrm>
                                <a:off x="5268240" y="619128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5247000" y="615564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0" name=""/>
                            <p:cNvSpPr/>
                            <p:nvPr/>
                          </p:nvSpPr>
                          <p:spPr>
                            <a:xfrm>
                              <a:off x="5332320" y="615240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1" name=""/>
                            <p:cNvSpPr/>
                            <p:nvPr/>
                          </p:nvSpPr>
                          <p:spPr>
                            <a:xfrm>
                              <a:off x="5348520" y="61621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2" name=""/>
                            <p:cNvSpPr/>
                            <p:nvPr/>
                          </p:nvSpPr>
                          <p:spPr>
                            <a:xfrm>
                              <a:off x="5356800" y="6177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3" name=""/>
                          <p:cNvGrpSpPr/>
                          <p:nvPr/>
                        </p:nvGrpSpPr>
                        <p:grpSpPr>
                          <a:xfrm>
                            <a:off x="5271840" y="6203520"/>
                            <a:ext cx="127080" cy="56160"/>
                            <a:chOff x="5271840" y="6203520"/>
                            <a:chExt cx="127080" cy="56160"/>
                          </a:xfrm>
                        </p:grpSpPr>
                        <p:grpSp>
                          <p:nvGrpSpPr>
                            <p:cNvPr id="754" name=""/>
                            <p:cNvGrpSpPr/>
                            <p:nvPr/>
                          </p:nvGrpSpPr>
                          <p:grpSpPr>
                            <a:xfrm>
                              <a:off x="5271840" y="6203520"/>
                              <a:ext cx="127080" cy="56160"/>
                              <a:chOff x="5271840" y="6203520"/>
                              <a:chExt cx="127080" cy="56160"/>
                            </a:xfrm>
                          </p:grpSpPr>
                          <p:sp>
                            <p:nvSpPr>
                              <p:cNvPr id="755" name=""/>
                              <p:cNvSpPr/>
                              <p:nvPr/>
                            </p:nvSpPr>
                            <p:spPr>
                              <a:xfrm>
                                <a:off x="5277960" y="6203520"/>
                                <a:ext cx="12096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"/>
                              <p:cNvSpPr/>
                              <p:nvPr/>
                            </p:nvSpPr>
                            <p:spPr>
                              <a:xfrm>
                                <a:off x="5290920" y="6243840"/>
                                <a:ext cx="10800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" name=""/>
                              <p:cNvSpPr/>
                              <p:nvPr/>
                            </p:nvSpPr>
                            <p:spPr>
                              <a:xfrm>
                                <a:off x="5271840" y="62082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8" name=""/>
                            <p:cNvSpPr/>
                            <p:nvPr/>
                          </p:nvSpPr>
                          <p:spPr>
                            <a:xfrm>
                              <a:off x="5355000" y="6204960"/>
                              <a:ext cx="226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9" name=""/>
                            <p:cNvSpPr/>
                            <p:nvPr/>
                          </p:nvSpPr>
                          <p:spPr>
                            <a:xfrm>
                              <a:off x="5371560" y="6213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0" name=""/>
                            <p:cNvSpPr/>
                            <p:nvPr/>
                          </p:nvSpPr>
                          <p:spPr>
                            <a:xfrm>
                              <a:off x="5379840" y="62294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1" name=""/>
                          <p:cNvGrpSpPr/>
                          <p:nvPr/>
                        </p:nvGrpSpPr>
                        <p:grpSpPr>
                          <a:xfrm>
                            <a:off x="5296320" y="6254280"/>
                            <a:ext cx="127080" cy="56160"/>
                            <a:chOff x="5296320" y="6254280"/>
                            <a:chExt cx="127080" cy="56160"/>
                          </a:xfrm>
                        </p:grpSpPr>
                        <p:grpSp>
                          <p:nvGrpSpPr>
                            <p:cNvPr id="762" name=""/>
                            <p:cNvGrpSpPr/>
                            <p:nvPr/>
                          </p:nvGrpSpPr>
                          <p:grpSpPr>
                            <a:xfrm>
                              <a:off x="5296320" y="6254280"/>
                              <a:ext cx="127080" cy="56160"/>
                              <a:chOff x="5296320" y="6254280"/>
                              <a:chExt cx="127080" cy="56160"/>
                            </a:xfrm>
                          </p:grpSpPr>
                          <p:sp>
                            <p:nvSpPr>
                              <p:cNvPr id="763" name=""/>
                              <p:cNvSpPr/>
                              <p:nvPr/>
                            </p:nvSpPr>
                            <p:spPr>
                              <a:xfrm>
                                <a:off x="5302440" y="6254280"/>
                                <a:ext cx="12096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4" name=""/>
                              <p:cNvSpPr/>
                              <p:nvPr/>
                            </p:nvSpPr>
                            <p:spPr>
                              <a:xfrm>
                                <a:off x="5315760" y="629316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5" name=""/>
                              <p:cNvSpPr/>
                              <p:nvPr/>
                            </p:nvSpPr>
                            <p:spPr>
                              <a:xfrm>
                                <a:off x="5296320" y="6257520"/>
                                <a:ext cx="291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66" name=""/>
                            <p:cNvSpPr/>
                            <p:nvPr/>
                          </p:nvSpPr>
                          <p:spPr>
                            <a:xfrm>
                              <a:off x="5379840" y="6255720"/>
                              <a:ext cx="2232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4">
                                  <a:moveTo>
                                    <a:pt x="0" y="0"/>
                                  </a:moveTo>
                                  <a:lnTo>
                                    <a:pt x="13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7" name=""/>
                            <p:cNvSpPr/>
                            <p:nvPr/>
                          </p:nvSpPr>
                          <p:spPr>
                            <a:xfrm>
                              <a:off x="5396040" y="62636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8" name=""/>
                            <p:cNvSpPr/>
                            <p:nvPr/>
                          </p:nvSpPr>
                          <p:spPr>
                            <a:xfrm>
                              <a:off x="5404320" y="627840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9" name=""/>
                          <p:cNvGrpSpPr/>
                          <p:nvPr/>
                        </p:nvGrpSpPr>
                        <p:grpSpPr>
                          <a:xfrm>
                            <a:off x="5319000" y="6304680"/>
                            <a:ext cx="127080" cy="58320"/>
                            <a:chOff x="5319000" y="6304680"/>
                            <a:chExt cx="127080" cy="58320"/>
                          </a:xfrm>
                        </p:grpSpPr>
                        <p:grpSp>
                          <p:nvGrpSpPr>
                            <p:cNvPr id="770" name=""/>
                            <p:cNvGrpSpPr/>
                            <p:nvPr/>
                          </p:nvGrpSpPr>
                          <p:grpSpPr>
                            <a:xfrm>
                              <a:off x="5319000" y="6304680"/>
                              <a:ext cx="127080" cy="58320"/>
                              <a:chOff x="5319000" y="6304680"/>
                              <a:chExt cx="127080" cy="58320"/>
                            </a:xfrm>
                          </p:grpSpPr>
                          <p:sp>
                            <p:nvSpPr>
                              <p:cNvPr id="771" name=""/>
                              <p:cNvSpPr/>
                              <p:nvPr/>
                            </p:nvSpPr>
                            <p:spPr>
                              <a:xfrm>
                                <a:off x="5325480" y="63046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2" name=""/>
                              <p:cNvSpPr/>
                              <p:nvPr/>
                            </p:nvSpPr>
                            <p:spPr>
                              <a:xfrm>
                                <a:off x="5338440" y="63453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3" name=""/>
                              <p:cNvSpPr/>
                              <p:nvPr/>
                            </p:nvSpPr>
                            <p:spPr>
                              <a:xfrm>
                                <a:off x="5319000" y="63097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74" name=""/>
                            <p:cNvSpPr/>
                            <p:nvPr/>
                          </p:nvSpPr>
                          <p:spPr>
                            <a:xfrm>
                              <a:off x="5404320" y="63064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5" name=""/>
                            <p:cNvSpPr/>
                            <p:nvPr/>
                          </p:nvSpPr>
                          <p:spPr>
                            <a:xfrm>
                              <a:off x="5418720" y="631584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6" name=""/>
                            <p:cNvSpPr/>
                            <p:nvPr/>
                          </p:nvSpPr>
                          <p:spPr>
                            <a:xfrm>
                              <a:off x="5428800" y="63309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77" name=""/>
                        <p:cNvGrpSpPr/>
                        <p:nvPr/>
                      </p:nvGrpSpPr>
                      <p:grpSpPr>
                        <a:xfrm>
                          <a:off x="5042160" y="5957640"/>
                          <a:ext cx="294120" cy="413280"/>
                          <a:chOff x="5042160" y="5957640"/>
                          <a:chExt cx="294120" cy="413280"/>
                        </a:xfrm>
                      </p:grpSpPr>
                      <p:grpSp>
                        <p:nvGrpSpPr>
                          <p:cNvPr id="778" name=""/>
                          <p:cNvGrpSpPr/>
                          <p:nvPr/>
                        </p:nvGrpSpPr>
                        <p:grpSpPr>
                          <a:xfrm>
                            <a:off x="5042160" y="5957640"/>
                            <a:ext cx="128880" cy="57960"/>
                            <a:chOff x="5042160" y="5957640"/>
                            <a:chExt cx="128880" cy="57960"/>
                          </a:xfrm>
                        </p:grpSpPr>
                        <p:grpSp>
                          <p:nvGrpSpPr>
                            <p:cNvPr id="779" name=""/>
                            <p:cNvGrpSpPr/>
                            <p:nvPr/>
                          </p:nvGrpSpPr>
                          <p:grpSpPr>
                            <a:xfrm>
                              <a:off x="5042160" y="5957640"/>
                              <a:ext cx="128880" cy="57960"/>
                              <a:chOff x="5042160" y="5957640"/>
                              <a:chExt cx="128880" cy="57960"/>
                            </a:xfrm>
                          </p:grpSpPr>
                          <p:sp>
                            <p:nvSpPr>
                              <p:cNvPr id="780" name=""/>
                              <p:cNvSpPr/>
                              <p:nvPr/>
                            </p:nvSpPr>
                            <p:spPr>
                              <a:xfrm>
                                <a:off x="5048640" y="5957640"/>
                                <a:ext cx="122400" cy="4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1" name=""/>
                              <p:cNvSpPr/>
                              <p:nvPr/>
                            </p:nvSpPr>
                            <p:spPr>
                              <a:xfrm>
                                <a:off x="5063400" y="59979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2" name=""/>
                              <p:cNvSpPr/>
                              <p:nvPr/>
                            </p:nvSpPr>
                            <p:spPr>
                              <a:xfrm>
                                <a:off x="5042160" y="59623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83" name=""/>
                            <p:cNvSpPr/>
                            <p:nvPr/>
                          </p:nvSpPr>
                          <p:spPr>
                            <a:xfrm>
                              <a:off x="5127480" y="59590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4" name=""/>
                            <p:cNvSpPr/>
                            <p:nvPr/>
                          </p:nvSpPr>
                          <p:spPr>
                            <a:xfrm>
                              <a:off x="5143680" y="5968440"/>
                              <a:ext cx="28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5" name=""/>
                            <p:cNvSpPr/>
                            <p:nvPr/>
                          </p:nvSpPr>
                          <p:spPr>
                            <a:xfrm>
                              <a:off x="5151960" y="5983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86" name=""/>
                          <p:cNvGrpSpPr/>
                          <p:nvPr/>
                        </p:nvGrpSpPr>
                        <p:grpSpPr>
                          <a:xfrm>
                            <a:off x="5065200" y="6008040"/>
                            <a:ext cx="128520" cy="56880"/>
                            <a:chOff x="5065200" y="6008040"/>
                            <a:chExt cx="128520" cy="56880"/>
                          </a:xfrm>
                        </p:grpSpPr>
                        <p:grpSp>
                          <p:nvGrpSpPr>
                            <p:cNvPr id="787" name=""/>
                            <p:cNvGrpSpPr/>
                            <p:nvPr/>
                          </p:nvGrpSpPr>
                          <p:grpSpPr>
                            <a:xfrm>
                              <a:off x="5065200" y="6008040"/>
                              <a:ext cx="128520" cy="56880"/>
                              <a:chOff x="5065200" y="6008040"/>
                              <a:chExt cx="128520" cy="56880"/>
                            </a:xfrm>
                          </p:grpSpPr>
                          <p:sp>
                            <p:nvSpPr>
                              <p:cNvPr id="788" name=""/>
                              <p:cNvSpPr/>
                              <p:nvPr/>
                            </p:nvSpPr>
                            <p:spPr>
                              <a:xfrm>
                                <a:off x="5073120" y="60080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9" name=""/>
                              <p:cNvSpPr/>
                              <p:nvPr/>
                            </p:nvSpPr>
                            <p:spPr>
                              <a:xfrm>
                                <a:off x="5086080" y="6048720"/>
                                <a:ext cx="107640" cy="1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0" name=""/>
                              <p:cNvSpPr/>
                              <p:nvPr/>
                            </p:nvSpPr>
                            <p:spPr>
                              <a:xfrm>
                                <a:off x="5065200" y="6013080"/>
                                <a:ext cx="30960" cy="51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2">
                                    <a:moveTo>
                                      <a:pt x="18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040" bIns="5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91" name=""/>
                            <p:cNvSpPr/>
                            <p:nvPr/>
                          </p:nvSpPr>
                          <p:spPr>
                            <a:xfrm>
                              <a:off x="5150160" y="60098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2" name=""/>
                            <p:cNvSpPr/>
                            <p:nvPr/>
                          </p:nvSpPr>
                          <p:spPr>
                            <a:xfrm>
                              <a:off x="5166360" y="601776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3" name=""/>
                            <p:cNvSpPr/>
                            <p:nvPr/>
                          </p:nvSpPr>
                          <p:spPr>
                            <a:xfrm>
                              <a:off x="5174640" y="603432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94" name=""/>
                          <p:cNvGrpSpPr/>
                          <p:nvPr/>
                        </p:nvGrpSpPr>
                        <p:grpSpPr>
                          <a:xfrm>
                            <a:off x="5089680" y="6060240"/>
                            <a:ext cx="128520" cy="56880"/>
                            <a:chOff x="5089680" y="6060240"/>
                            <a:chExt cx="128520" cy="56880"/>
                          </a:xfrm>
                        </p:grpSpPr>
                        <p:grpSp>
                          <p:nvGrpSpPr>
                            <p:cNvPr id="795" name=""/>
                            <p:cNvGrpSpPr/>
                            <p:nvPr/>
                          </p:nvGrpSpPr>
                          <p:grpSpPr>
                            <a:xfrm>
                              <a:off x="5089680" y="6060240"/>
                              <a:ext cx="128520" cy="56880"/>
                              <a:chOff x="5089680" y="6060240"/>
                              <a:chExt cx="128520" cy="56880"/>
                            </a:xfrm>
                          </p:grpSpPr>
                          <p:sp>
                            <p:nvSpPr>
                              <p:cNvPr id="796" name=""/>
                              <p:cNvSpPr/>
                              <p:nvPr/>
                            </p:nvSpPr>
                            <p:spPr>
                              <a:xfrm>
                                <a:off x="5097600" y="60602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7" name=""/>
                              <p:cNvSpPr/>
                              <p:nvPr/>
                            </p:nvSpPr>
                            <p:spPr>
                              <a:xfrm>
                                <a:off x="5110560" y="609912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8" name=""/>
                              <p:cNvSpPr/>
                              <p:nvPr/>
                            </p:nvSpPr>
                            <p:spPr>
                              <a:xfrm>
                                <a:off x="5089680" y="606348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99" name=""/>
                            <p:cNvSpPr/>
                            <p:nvPr/>
                          </p:nvSpPr>
                          <p:spPr>
                            <a:xfrm>
                              <a:off x="5174640" y="606024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0" name=""/>
                            <p:cNvSpPr/>
                            <p:nvPr/>
                          </p:nvSpPr>
                          <p:spPr>
                            <a:xfrm>
                              <a:off x="5190840" y="606996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1" name=""/>
                            <p:cNvSpPr/>
                            <p:nvPr/>
                          </p:nvSpPr>
                          <p:spPr>
                            <a:xfrm>
                              <a:off x="5199480" y="6085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2" name=""/>
                          <p:cNvGrpSpPr/>
                          <p:nvPr/>
                        </p:nvGrpSpPr>
                        <p:grpSpPr>
                          <a:xfrm>
                            <a:off x="5114160" y="6109920"/>
                            <a:ext cx="127080" cy="56160"/>
                            <a:chOff x="5114160" y="6109920"/>
                            <a:chExt cx="127080" cy="56160"/>
                          </a:xfrm>
                        </p:grpSpPr>
                        <p:grpSp>
                          <p:nvGrpSpPr>
                            <p:cNvPr id="803" name=""/>
                            <p:cNvGrpSpPr/>
                            <p:nvPr/>
                          </p:nvGrpSpPr>
                          <p:grpSpPr>
                            <a:xfrm>
                              <a:off x="5114160" y="6109920"/>
                              <a:ext cx="127080" cy="56160"/>
                              <a:chOff x="5114160" y="6109920"/>
                              <a:chExt cx="127080" cy="56160"/>
                            </a:xfrm>
                          </p:grpSpPr>
                          <p:sp>
                            <p:nvSpPr>
                              <p:cNvPr id="804" name=""/>
                              <p:cNvSpPr/>
                              <p:nvPr/>
                            </p:nvSpPr>
                            <p:spPr>
                              <a:xfrm>
                                <a:off x="5120640" y="61099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5" name=""/>
                              <p:cNvSpPr/>
                              <p:nvPr/>
                            </p:nvSpPr>
                            <p:spPr>
                              <a:xfrm>
                                <a:off x="5133600" y="61502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06" name=""/>
                              <p:cNvSpPr/>
                              <p:nvPr/>
                            </p:nvSpPr>
                            <p:spPr>
                              <a:xfrm>
                                <a:off x="5114160" y="61146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07" name=""/>
                            <p:cNvSpPr/>
                            <p:nvPr/>
                          </p:nvSpPr>
                          <p:spPr>
                            <a:xfrm>
                              <a:off x="5197680" y="61113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8" name=""/>
                            <p:cNvSpPr/>
                            <p:nvPr/>
                          </p:nvSpPr>
                          <p:spPr>
                            <a:xfrm>
                              <a:off x="5213880" y="6121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"/>
                            <p:cNvSpPr/>
                            <p:nvPr/>
                          </p:nvSpPr>
                          <p:spPr>
                            <a:xfrm>
                              <a:off x="5222160" y="61354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0" name=""/>
                          <p:cNvGrpSpPr/>
                          <p:nvPr/>
                        </p:nvGrpSpPr>
                        <p:grpSpPr>
                          <a:xfrm>
                            <a:off x="5137200" y="6160320"/>
                            <a:ext cx="127080" cy="56880"/>
                            <a:chOff x="5137200" y="6160320"/>
                            <a:chExt cx="127080" cy="56880"/>
                          </a:xfrm>
                        </p:grpSpPr>
                        <p:grpSp>
                          <p:nvGrpSpPr>
                            <p:cNvPr id="811" name=""/>
                            <p:cNvGrpSpPr/>
                            <p:nvPr/>
                          </p:nvGrpSpPr>
                          <p:grpSpPr>
                            <a:xfrm>
                              <a:off x="5137200" y="6160320"/>
                              <a:ext cx="127080" cy="56880"/>
                              <a:chOff x="5137200" y="6160320"/>
                              <a:chExt cx="127080" cy="56880"/>
                            </a:xfrm>
                          </p:grpSpPr>
                          <p:sp>
                            <p:nvSpPr>
                              <p:cNvPr id="812" name=""/>
                              <p:cNvSpPr/>
                              <p:nvPr/>
                            </p:nvSpPr>
                            <p:spPr>
                              <a:xfrm>
                                <a:off x="5143680" y="61603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3" name=""/>
                              <p:cNvSpPr/>
                              <p:nvPr/>
                            </p:nvSpPr>
                            <p:spPr>
                              <a:xfrm>
                                <a:off x="5156640" y="6199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4" name=""/>
                              <p:cNvSpPr/>
                              <p:nvPr/>
                            </p:nvSpPr>
                            <p:spPr>
                              <a:xfrm>
                                <a:off x="5137200" y="6163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15" name=""/>
                            <p:cNvSpPr/>
                            <p:nvPr/>
                          </p:nvSpPr>
                          <p:spPr>
                            <a:xfrm>
                              <a:off x="5222160" y="61621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6" name=""/>
                            <p:cNvSpPr/>
                            <p:nvPr/>
                          </p:nvSpPr>
                          <p:spPr>
                            <a:xfrm>
                              <a:off x="5236920" y="6170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"/>
                            <p:cNvSpPr/>
                            <p:nvPr/>
                          </p:nvSpPr>
                          <p:spPr>
                            <a:xfrm>
                              <a:off x="5246640" y="61851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8" name=""/>
                          <p:cNvGrpSpPr/>
                          <p:nvPr/>
                        </p:nvGrpSpPr>
                        <p:grpSpPr>
                          <a:xfrm>
                            <a:off x="5160240" y="6211440"/>
                            <a:ext cx="128520" cy="58320"/>
                            <a:chOff x="5160240" y="6211440"/>
                            <a:chExt cx="128520" cy="58320"/>
                          </a:xfrm>
                        </p:grpSpPr>
                        <p:grpSp>
                          <p:nvGrpSpPr>
                            <p:cNvPr id="819" name=""/>
                            <p:cNvGrpSpPr/>
                            <p:nvPr/>
                          </p:nvGrpSpPr>
                          <p:grpSpPr>
                            <a:xfrm>
                              <a:off x="5160240" y="6211440"/>
                              <a:ext cx="128520" cy="58320"/>
                              <a:chOff x="5160240" y="6211440"/>
                              <a:chExt cx="128520" cy="58320"/>
                            </a:xfrm>
                          </p:grpSpPr>
                          <p:sp>
                            <p:nvSpPr>
                              <p:cNvPr id="820" name=""/>
                              <p:cNvSpPr/>
                              <p:nvPr/>
                            </p:nvSpPr>
                            <p:spPr>
                              <a:xfrm>
                                <a:off x="5166360" y="6211440"/>
                                <a:ext cx="1224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1" name=""/>
                              <p:cNvSpPr/>
                              <p:nvPr/>
                            </p:nvSpPr>
                            <p:spPr>
                              <a:xfrm>
                                <a:off x="5181120" y="625176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5160240" y="621612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3" name=""/>
                            <p:cNvSpPr/>
                            <p:nvPr/>
                          </p:nvSpPr>
                          <p:spPr>
                            <a:xfrm>
                              <a:off x="5245200" y="621324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4" name=""/>
                            <p:cNvSpPr/>
                            <p:nvPr/>
                          </p:nvSpPr>
                          <p:spPr>
                            <a:xfrm>
                              <a:off x="5261400" y="622260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5" name=""/>
                            <p:cNvSpPr/>
                            <p:nvPr/>
                          </p:nvSpPr>
                          <p:spPr>
                            <a:xfrm>
                              <a:off x="5269680" y="62377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6" name=""/>
                          <p:cNvGrpSpPr/>
                          <p:nvPr/>
                        </p:nvGrpSpPr>
                        <p:grpSpPr>
                          <a:xfrm>
                            <a:off x="5184720" y="6262200"/>
                            <a:ext cx="128520" cy="56160"/>
                            <a:chOff x="5184720" y="6262200"/>
                            <a:chExt cx="128520" cy="56160"/>
                          </a:xfrm>
                        </p:grpSpPr>
                        <p:grpSp>
                          <p:nvGrpSpPr>
                            <p:cNvPr id="827" name=""/>
                            <p:cNvGrpSpPr/>
                            <p:nvPr/>
                          </p:nvGrpSpPr>
                          <p:grpSpPr>
                            <a:xfrm>
                              <a:off x="5184720" y="6262200"/>
                              <a:ext cx="128520" cy="56160"/>
                              <a:chOff x="5184720" y="6262200"/>
                              <a:chExt cx="128520" cy="56160"/>
                            </a:xfrm>
                          </p:grpSpPr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5190840" y="62622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9" name=""/>
                              <p:cNvSpPr/>
                              <p:nvPr/>
                            </p:nvSpPr>
                            <p:spPr>
                              <a:xfrm>
                                <a:off x="5205600" y="630252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5184720" y="62668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31" name=""/>
                            <p:cNvSpPr/>
                            <p:nvPr/>
                          </p:nvSpPr>
                          <p:spPr>
                            <a:xfrm>
                              <a:off x="5269680" y="626364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2" name=""/>
                            <p:cNvSpPr/>
                            <p:nvPr/>
                          </p:nvSpPr>
                          <p:spPr>
                            <a:xfrm>
                              <a:off x="5285880" y="62715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3" name=""/>
                            <p:cNvSpPr/>
                            <p:nvPr/>
                          </p:nvSpPr>
                          <p:spPr>
                            <a:xfrm>
                              <a:off x="5294160" y="62877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34" name=""/>
                          <p:cNvGrpSpPr/>
                          <p:nvPr/>
                        </p:nvGrpSpPr>
                        <p:grpSpPr>
                          <a:xfrm>
                            <a:off x="5207760" y="6314760"/>
                            <a:ext cx="128520" cy="56160"/>
                            <a:chOff x="5207760" y="6314760"/>
                            <a:chExt cx="128520" cy="56160"/>
                          </a:xfrm>
                        </p:grpSpPr>
                        <p:grpSp>
                          <p:nvGrpSpPr>
                            <p:cNvPr id="835" name=""/>
                            <p:cNvGrpSpPr/>
                            <p:nvPr/>
                          </p:nvGrpSpPr>
                          <p:grpSpPr>
                            <a:xfrm>
                              <a:off x="5207760" y="6314760"/>
                              <a:ext cx="128520" cy="56160"/>
                              <a:chOff x="5207760" y="6314760"/>
                              <a:chExt cx="128520" cy="56160"/>
                            </a:xfrm>
                          </p:grpSpPr>
                          <p:sp>
                            <p:nvSpPr>
                              <p:cNvPr id="836" name=""/>
                              <p:cNvSpPr/>
                              <p:nvPr/>
                            </p:nvSpPr>
                            <p:spPr>
                              <a:xfrm>
                                <a:off x="5215680" y="631476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5228640" y="635364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5207760" y="6318000"/>
                                <a:ext cx="3060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39" name=""/>
                            <p:cNvSpPr/>
                            <p:nvPr/>
                          </p:nvSpPr>
                          <p:spPr>
                            <a:xfrm>
                              <a:off x="5292720" y="631476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0" name=""/>
                            <p:cNvSpPr/>
                            <p:nvPr/>
                          </p:nvSpPr>
                          <p:spPr>
                            <a:xfrm>
                              <a:off x="5308920" y="632412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1" name=""/>
                            <p:cNvSpPr/>
                            <p:nvPr/>
                          </p:nvSpPr>
                          <p:spPr>
                            <a:xfrm>
                              <a:off x="5317200" y="63388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5449320" y="6028200"/>
                        <a:ext cx="284400" cy="228600"/>
                        <a:chOff x="5449320" y="6028200"/>
                        <a:chExt cx="284400" cy="22860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5573880" y="6028200"/>
                          <a:ext cx="159840" cy="223560"/>
                          <a:chOff x="5573880" y="6028200"/>
                          <a:chExt cx="159840" cy="22356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5573880" y="6028200"/>
                            <a:ext cx="74880" cy="53640"/>
                            <a:chOff x="5573880" y="6028200"/>
                            <a:chExt cx="74880" cy="53640"/>
                          </a:xfrm>
                        </p:grpSpPr>
                        <p:sp>
                          <p:nvSpPr>
                            <p:cNvPr id="845" name=""/>
                            <p:cNvSpPr/>
                            <p:nvPr/>
                          </p:nvSpPr>
                          <p:spPr>
                            <a:xfrm>
                              <a:off x="5577120" y="602820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6" name=""/>
                            <p:cNvSpPr/>
                            <p:nvPr/>
                          </p:nvSpPr>
                          <p:spPr>
                            <a:xfrm>
                              <a:off x="5598000" y="607536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7" name=""/>
                            <p:cNvSpPr/>
                            <p:nvPr/>
                          </p:nvSpPr>
                          <p:spPr>
                            <a:xfrm>
                              <a:off x="5573880" y="603144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48" name=""/>
                          <p:cNvGrpSpPr/>
                          <p:nvPr/>
                        </p:nvGrpSpPr>
                        <p:grpSpPr>
                          <a:xfrm>
                            <a:off x="5601600" y="6083640"/>
                            <a:ext cx="76320" cy="53640"/>
                            <a:chOff x="5601600" y="6083640"/>
                            <a:chExt cx="76320" cy="53640"/>
                          </a:xfrm>
                        </p:grpSpPr>
                        <p:sp>
                          <p:nvSpPr>
                            <p:cNvPr id="849" name=""/>
                            <p:cNvSpPr/>
                            <p:nvPr/>
                          </p:nvSpPr>
                          <p:spPr>
                            <a:xfrm>
                              <a:off x="5606280" y="608364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0" name=""/>
                            <p:cNvSpPr/>
                            <p:nvPr/>
                          </p:nvSpPr>
                          <p:spPr>
                            <a:xfrm>
                              <a:off x="5625720" y="61322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1" name=""/>
                            <p:cNvSpPr/>
                            <p:nvPr/>
                          </p:nvSpPr>
                          <p:spPr>
                            <a:xfrm>
                              <a:off x="5601600" y="608688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52" name=""/>
                          <p:cNvGrpSpPr/>
                          <p:nvPr/>
                        </p:nvGrpSpPr>
                        <p:grpSpPr>
                          <a:xfrm>
                            <a:off x="5630760" y="6140880"/>
                            <a:ext cx="74880" cy="53640"/>
                            <a:chOff x="5630760" y="6140880"/>
                            <a:chExt cx="74880" cy="53640"/>
                          </a:xfrm>
                        </p:grpSpPr>
                        <p:sp>
                          <p:nvSpPr>
                            <p:cNvPr id="853" name=""/>
                            <p:cNvSpPr/>
                            <p:nvPr/>
                          </p:nvSpPr>
                          <p:spPr>
                            <a:xfrm>
                              <a:off x="5634000" y="614088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4" name=""/>
                            <p:cNvSpPr/>
                            <p:nvPr/>
                          </p:nvSpPr>
                          <p:spPr>
                            <a:xfrm>
                              <a:off x="5653440" y="61898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5" name=""/>
                            <p:cNvSpPr/>
                            <p:nvPr/>
                          </p:nvSpPr>
                          <p:spPr>
                            <a:xfrm>
                              <a:off x="5630760" y="6144120"/>
                              <a:ext cx="2124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658840" y="6198480"/>
                            <a:ext cx="74880" cy="53280"/>
                            <a:chOff x="5658840" y="6198480"/>
                            <a:chExt cx="74880" cy="53280"/>
                          </a:xfrm>
                        </p:grpSpPr>
                        <p:sp>
                          <p:nvSpPr>
                            <p:cNvPr id="857" name=""/>
                            <p:cNvSpPr/>
                            <p:nvPr/>
                          </p:nvSpPr>
                          <p:spPr>
                            <a:xfrm>
                              <a:off x="5662080" y="61984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8" name=""/>
                            <p:cNvSpPr/>
                            <p:nvPr/>
                          </p:nvSpPr>
                          <p:spPr>
                            <a:xfrm>
                              <a:off x="5681520" y="62456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59" name=""/>
                            <p:cNvSpPr/>
                            <p:nvPr/>
                          </p:nvSpPr>
                          <p:spPr>
                            <a:xfrm>
                              <a:off x="5658840" y="620172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60" name=""/>
                        <p:cNvGrpSpPr/>
                        <p:nvPr/>
                      </p:nvGrpSpPr>
                      <p:grpSpPr>
                        <a:xfrm>
                          <a:off x="5513040" y="6030000"/>
                          <a:ext cx="159840" cy="223560"/>
                          <a:chOff x="5513040" y="6030000"/>
                          <a:chExt cx="159840" cy="223560"/>
                        </a:xfrm>
                      </p:grpSpPr>
                      <p:grpSp>
                        <p:nvGrpSpPr>
                          <p:cNvPr id="861" name=""/>
                          <p:cNvGrpSpPr/>
                          <p:nvPr/>
                        </p:nvGrpSpPr>
                        <p:grpSpPr>
                          <a:xfrm>
                            <a:off x="5513040" y="6030000"/>
                            <a:ext cx="74880" cy="53280"/>
                            <a:chOff x="5513040" y="6030000"/>
                            <a:chExt cx="74880" cy="53280"/>
                          </a:xfrm>
                        </p:grpSpPr>
                        <p:sp>
                          <p:nvSpPr>
                            <p:cNvPr id="862" name=""/>
                            <p:cNvSpPr/>
                            <p:nvPr/>
                          </p:nvSpPr>
                          <p:spPr>
                            <a:xfrm>
                              <a:off x="5516280" y="603000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3" name=""/>
                            <p:cNvSpPr/>
                            <p:nvPr/>
                          </p:nvSpPr>
                          <p:spPr>
                            <a:xfrm>
                              <a:off x="5535720" y="607860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4" name=""/>
                            <p:cNvSpPr/>
                            <p:nvPr/>
                          </p:nvSpPr>
                          <p:spPr>
                            <a:xfrm>
                              <a:off x="5513040" y="6032880"/>
                              <a:ext cx="208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5" name=""/>
                          <p:cNvGrpSpPr/>
                          <p:nvPr/>
                        </p:nvGrpSpPr>
                        <p:grpSpPr>
                          <a:xfrm>
                            <a:off x="5540760" y="6086880"/>
                            <a:ext cx="74880" cy="51840"/>
                            <a:chOff x="5540760" y="6086880"/>
                            <a:chExt cx="74880" cy="51840"/>
                          </a:xfrm>
                        </p:grpSpPr>
                        <p:sp>
                          <p:nvSpPr>
                            <p:cNvPr id="866" name=""/>
                            <p:cNvSpPr/>
                            <p:nvPr/>
                          </p:nvSpPr>
                          <p:spPr>
                            <a:xfrm>
                              <a:off x="5544000" y="60868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7" name=""/>
                            <p:cNvSpPr/>
                            <p:nvPr/>
                          </p:nvSpPr>
                          <p:spPr>
                            <a:xfrm>
                              <a:off x="5563440" y="61340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68" name=""/>
                            <p:cNvSpPr/>
                            <p:nvPr/>
                          </p:nvSpPr>
                          <p:spPr>
                            <a:xfrm>
                              <a:off x="5540760" y="6090120"/>
                              <a:ext cx="2268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0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9" name=""/>
                          <p:cNvGrpSpPr/>
                          <p:nvPr/>
                        </p:nvGrpSpPr>
                        <p:grpSpPr>
                          <a:xfrm>
                            <a:off x="5568480" y="6144120"/>
                            <a:ext cx="74880" cy="53640"/>
                            <a:chOff x="5568480" y="6144120"/>
                            <a:chExt cx="74880" cy="53640"/>
                          </a:xfrm>
                        </p:grpSpPr>
                        <p:sp>
                          <p:nvSpPr>
                            <p:cNvPr id="870" name=""/>
                            <p:cNvSpPr/>
                            <p:nvPr/>
                          </p:nvSpPr>
                          <p:spPr>
                            <a:xfrm>
                              <a:off x="5571720" y="614412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1" name=""/>
                            <p:cNvSpPr/>
                            <p:nvPr/>
                          </p:nvSpPr>
                          <p:spPr>
                            <a:xfrm>
                              <a:off x="5592600" y="619128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2" name=""/>
                            <p:cNvSpPr/>
                            <p:nvPr/>
                          </p:nvSpPr>
                          <p:spPr>
                            <a:xfrm>
                              <a:off x="5568480" y="614736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73" name=""/>
                          <p:cNvGrpSpPr/>
                          <p:nvPr/>
                        </p:nvGrpSpPr>
                        <p:grpSpPr>
                          <a:xfrm>
                            <a:off x="5596560" y="6199920"/>
                            <a:ext cx="76320" cy="53640"/>
                            <a:chOff x="5596560" y="6199920"/>
                            <a:chExt cx="76320" cy="53640"/>
                          </a:xfrm>
                        </p:grpSpPr>
                        <p:sp>
                          <p:nvSpPr>
                            <p:cNvPr id="874" name=""/>
                            <p:cNvSpPr/>
                            <p:nvPr/>
                          </p:nvSpPr>
                          <p:spPr>
                            <a:xfrm>
                              <a:off x="5601240" y="6199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5" name=""/>
                            <p:cNvSpPr/>
                            <p:nvPr/>
                          </p:nvSpPr>
                          <p:spPr>
                            <a:xfrm>
                              <a:off x="5620680" y="624888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6" name=""/>
                            <p:cNvSpPr/>
                            <p:nvPr/>
                          </p:nvSpPr>
                          <p:spPr>
                            <a:xfrm>
                              <a:off x="5596560" y="620316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77" name=""/>
                        <p:cNvGrpSpPr/>
                        <p:nvPr/>
                      </p:nvGrpSpPr>
                      <p:grpSpPr>
                        <a:xfrm>
                          <a:off x="5449320" y="6032880"/>
                          <a:ext cx="159840" cy="223920"/>
                          <a:chOff x="5449320" y="6032880"/>
                          <a:chExt cx="159840" cy="223920"/>
                        </a:xfrm>
                      </p:grpSpPr>
                      <p:grpSp>
                        <p:nvGrpSpPr>
                          <p:cNvPr id="878" name=""/>
                          <p:cNvGrpSpPr/>
                          <p:nvPr/>
                        </p:nvGrpSpPr>
                        <p:grpSpPr>
                          <a:xfrm>
                            <a:off x="5449320" y="6032880"/>
                            <a:ext cx="74880" cy="53640"/>
                            <a:chOff x="5449320" y="6032880"/>
                            <a:chExt cx="74880" cy="53640"/>
                          </a:xfrm>
                        </p:grpSpPr>
                        <p:sp>
                          <p:nvSpPr>
                            <p:cNvPr id="879" name=""/>
                            <p:cNvSpPr/>
                            <p:nvPr/>
                          </p:nvSpPr>
                          <p:spPr>
                            <a:xfrm>
                              <a:off x="5452560" y="603288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0" name=""/>
                            <p:cNvSpPr/>
                            <p:nvPr/>
                          </p:nvSpPr>
                          <p:spPr>
                            <a:xfrm>
                              <a:off x="5472000" y="60800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1" name=""/>
                            <p:cNvSpPr/>
                            <p:nvPr/>
                          </p:nvSpPr>
                          <p:spPr>
                            <a:xfrm>
                              <a:off x="5449320" y="603612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82" name=""/>
                          <p:cNvGrpSpPr/>
                          <p:nvPr/>
                        </p:nvGrpSpPr>
                        <p:grpSpPr>
                          <a:xfrm>
                            <a:off x="5477040" y="6088320"/>
                            <a:ext cx="74880" cy="53640"/>
                            <a:chOff x="5477040" y="6088320"/>
                            <a:chExt cx="74880" cy="53640"/>
                          </a:xfrm>
                        </p:grpSpPr>
                        <p:sp>
                          <p:nvSpPr>
                            <p:cNvPr id="883" name=""/>
                            <p:cNvSpPr/>
                            <p:nvPr/>
                          </p:nvSpPr>
                          <p:spPr>
                            <a:xfrm>
                              <a:off x="5480280" y="60883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4" name=""/>
                            <p:cNvSpPr/>
                            <p:nvPr/>
                          </p:nvSpPr>
                          <p:spPr>
                            <a:xfrm>
                              <a:off x="5499720" y="6135480"/>
                              <a:ext cx="522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4">
                                  <a:moveTo>
                                    <a:pt x="31" y="0"/>
                                  </a:moveTo>
                                  <a:lnTo>
                                    <a:pt x="28" y="2"/>
                                  </a:lnTo>
                                  <a:lnTo>
                                    <a:pt x="0" y="3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5" name=""/>
                            <p:cNvSpPr/>
                            <p:nvPr/>
                          </p:nvSpPr>
                          <p:spPr>
                            <a:xfrm>
                              <a:off x="5477040" y="60915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86" name=""/>
                          <p:cNvGrpSpPr/>
                          <p:nvPr/>
                        </p:nvGrpSpPr>
                        <p:grpSpPr>
                          <a:xfrm>
                            <a:off x="5504760" y="6145920"/>
                            <a:ext cx="74880" cy="53280"/>
                            <a:chOff x="5504760" y="6145920"/>
                            <a:chExt cx="74880" cy="53280"/>
                          </a:xfrm>
                        </p:grpSpPr>
                        <p:sp>
                          <p:nvSpPr>
                            <p:cNvPr id="887" name=""/>
                            <p:cNvSpPr/>
                            <p:nvPr/>
                          </p:nvSpPr>
                          <p:spPr>
                            <a:xfrm>
                              <a:off x="5508000" y="6145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8" name=""/>
                            <p:cNvSpPr/>
                            <p:nvPr/>
                          </p:nvSpPr>
                          <p:spPr>
                            <a:xfrm>
                              <a:off x="5528880" y="619452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89" name=""/>
                            <p:cNvSpPr/>
                            <p:nvPr/>
                          </p:nvSpPr>
                          <p:spPr>
                            <a:xfrm>
                              <a:off x="5504760" y="6149160"/>
                              <a:ext cx="2232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90" name=""/>
                          <p:cNvGrpSpPr/>
                          <p:nvPr/>
                        </p:nvGrpSpPr>
                        <p:grpSpPr>
                          <a:xfrm>
                            <a:off x="5532840" y="6203160"/>
                            <a:ext cx="76320" cy="53640"/>
                            <a:chOff x="5532840" y="6203160"/>
                            <a:chExt cx="76320" cy="53640"/>
                          </a:xfrm>
                        </p:grpSpPr>
                        <p:sp>
                          <p:nvSpPr>
                            <p:cNvPr id="891" name=""/>
                            <p:cNvSpPr/>
                            <p:nvPr/>
                          </p:nvSpPr>
                          <p:spPr>
                            <a:xfrm>
                              <a:off x="5537520" y="620316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2" name=""/>
                            <p:cNvSpPr/>
                            <p:nvPr/>
                          </p:nvSpPr>
                          <p:spPr>
                            <a:xfrm>
                              <a:off x="5556960" y="625032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3" name=""/>
                            <p:cNvSpPr/>
                            <p:nvPr/>
                          </p:nvSpPr>
                          <p:spPr>
                            <a:xfrm>
                              <a:off x="5532840" y="6206400"/>
                              <a:ext cx="223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022800" y="6307200"/>
                      <a:ext cx="244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5">
                          <a:moveTo>
                            <a:pt x="7" y="0"/>
                          </a:moveTo>
                          <a:lnTo>
                            <a:pt x="13" y="10"/>
                          </a:lnTo>
                          <a:lnTo>
                            <a:pt x="14" y="13"/>
                          </a:lnTo>
                          <a:lnTo>
                            <a:pt x="13" y="16"/>
                          </a:lnTo>
                          <a:lnTo>
                            <a:pt x="13" y="18"/>
                          </a:lnTo>
                          <a:lnTo>
                            <a:pt x="11" y="20"/>
                          </a:lnTo>
                          <a:lnTo>
                            <a:pt x="9" y="22"/>
                          </a:lnTo>
                          <a:lnTo>
                            <a:pt x="7" y="23"/>
                          </a:lnTo>
                          <a:lnTo>
                            <a:pt x="4" y="24"/>
                          </a:lnTo>
                          <a:lnTo>
                            <a:pt x="0" y="24"/>
                          </a:lnTo>
                          <a:lnTo>
                            <a:pt x="2" y="23"/>
                          </a:lnTo>
                          <a:lnTo>
                            <a:pt x="5" y="18"/>
                          </a:lnTo>
                          <a:lnTo>
                            <a:pt x="5" y="16"/>
                          </a:lnTo>
                          <a:lnTo>
                            <a:pt x="5" y="14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5781960" y="6166440"/>
                    <a:ext cx="22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13" y="0"/>
                        </a:move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9" y="2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5581440" y="5708520"/>
                  <a:ext cx="466200" cy="652680"/>
                  <a:chOff x="5581440" y="5708520"/>
                  <a:chExt cx="466200" cy="65268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>
                    <a:off x="5796360" y="6154920"/>
                    <a:ext cx="2383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26">
                        <a:moveTo>
                          <a:pt x="140" y="117"/>
                        </a:moveTo>
                        <a:lnTo>
                          <a:pt x="142" y="112"/>
                        </a:lnTo>
                        <a:lnTo>
                          <a:pt x="143" y="108"/>
                        </a:lnTo>
                        <a:lnTo>
                          <a:pt x="144" y="104"/>
                        </a:lnTo>
                        <a:lnTo>
                          <a:pt x="144" y="101"/>
                        </a:lnTo>
                        <a:lnTo>
                          <a:pt x="144" y="96"/>
                        </a:lnTo>
                        <a:lnTo>
                          <a:pt x="144" y="93"/>
                        </a:lnTo>
                        <a:lnTo>
                          <a:pt x="141" y="98"/>
                        </a:lnTo>
                        <a:lnTo>
                          <a:pt x="139" y="101"/>
                        </a:lnTo>
                        <a:lnTo>
                          <a:pt x="135" y="103"/>
                        </a:lnTo>
                        <a:lnTo>
                          <a:pt x="87" y="108"/>
                        </a:lnTo>
                        <a:lnTo>
                          <a:pt x="80" y="108"/>
                        </a:lnTo>
                        <a:lnTo>
                          <a:pt x="76" y="107"/>
                        </a:lnTo>
                        <a:lnTo>
                          <a:pt x="72" y="107"/>
                        </a:lnTo>
                        <a:lnTo>
                          <a:pt x="67" y="105"/>
                        </a:lnTo>
                        <a:lnTo>
                          <a:pt x="63" y="103"/>
                        </a:lnTo>
                        <a:lnTo>
                          <a:pt x="59" y="101"/>
                        </a:lnTo>
                        <a:lnTo>
                          <a:pt x="55" y="98"/>
                        </a:lnTo>
                        <a:lnTo>
                          <a:pt x="52" y="94"/>
                        </a:lnTo>
                        <a:lnTo>
                          <a:pt x="48" y="89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10" y="2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9"/>
                        </a:lnTo>
                        <a:lnTo>
                          <a:pt x="0" y="32"/>
                        </a:lnTo>
                        <a:lnTo>
                          <a:pt x="40" y="122"/>
                        </a:lnTo>
                        <a:lnTo>
                          <a:pt x="44" y="124"/>
                        </a:lnTo>
                        <a:lnTo>
                          <a:pt x="48" y="125"/>
                        </a:lnTo>
                        <a:lnTo>
                          <a:pt x="52" y="125"/>
                        </a:lnTo>
                        <a:lnTo>
                          <a:pt x="140" y="11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581440" y="5710320"/>
                    <a:ext cx="466200" cy="62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380">
                        <a:moveTo>
                          <a:pt x="276" y="365"/>
                        </a:moveTo>
                        <a:lnTo>
                          <a:pt x="278" y="359"/>
                        </a:lnTo>
                        <a:lnTo>
                          <a:pt x="280" y="352"/>
                        </a:lnTo>
                        <a:lnTo>
                          <a:pt x="281" y="346"/>
                        </a:lnTo>
                        <a:lnTo>
                          <a:pt x="282" y="339"/>
                        </a:lnTo>
                        <a:lnTo>
                          <a:pt x="283" y="330"/>
                        </a:lnTo>
                        <a:lnTo>
                          <a:pt x="283" y="320"/>
                        </a:lnTo>
                        <a:lnTo>
                          <a:pt x="283" y="313"/>
                        </a:lnTo>
                        <a:lnTo>
                          <a:pt x="232" y="313"/>
                        </a:lnTo>
                        <a:lnTo>
                          <a:pt x="222" y="281"/>
                        </a:lnTo>
                        <a:lnTo>
                          <a:pt x="204" y="238"/>
                        </a:lnTo>
                        <a:lnTo>
                          <a:pt x="169" y="159"/>
                        </a:lnTo>
                        <a:lnTo>
                          <a:pt x="153" y="127"/>
                        </a:lnTo>
                        <a:lnTo>
                          <a:pt x="132" y="95"/>
                        </a:lnTo>
                        <a:lnTo>
                          <a:pt x="94" y="50"/>
                        </a:lnTo>
                        <a:lnTo>
                          <a:pt x="68" y="21"/>
                        </a:lnTo>
                        <a:lnTo>
                          <a:pt x="46" y="0"/>
                        </a:lnTo>
                        <a:lnTo>
                          <a:pt x="18" y="18"/>
                        </a:lnTo>
                        <a:lnTo>
                          <a:pt x="6" y="25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1" y="38"/>
                        </a:lnTo>
                        <a:lnTo>
                          <a:pt x="4" y="42"/>
                        </a:lnTo>
                        <a:lnTo>
                          <a:pt x="25" y="61"/>
                        </a:lnTo>
                        <a:lnTo>
                          <a:pt x="37" y="74"/>
                        </a:lnTo>
                        <a:lnTo>
                          <a:pt x="58" y="97"/>
                        </a:lnTo>
                        <a:lnTo>
                          <a:pt x="61" y="98"/>
                        </a:lnTo>
                        <a:lnTo>
                          <a:pt x="65" y="98"/>
                        </a:lnTo>
                        <a:lnTo>
                          <a:pt x="81" y="97"/>
                        </a:lnTo>
                        <a:lnTo>
                          <a:pt x="86" y="96"/>
                        </a:lnTo>
                        <a:lnTo>
                          <a:pt x="91" y="97"/>
                        </a:lnTo>
                        <a:lnTo>
                          <a:pt x="96" y="98"/>
                        </a:lnTo>
                        <a:lnTo>
                          <a:pt x="100" y="100"/>
                        </a:lnTo>
                        <a:lnTo>
                          <a:pt x="104" y="103"/>
                        </a:lnTo>
                        <a:lnTo>
                          <a:pt x="113" y="114"/>
                        </a:lnTo>
                        <a:lnTo>
                          <a:pt x="129" y="143"/>
                        </a:lnTo>
                        <a:lnTo>
                          <a:pt x="139" y="163"/>
                        </a:lnTo>
                        <a:lnTo>
                          <a:pt x="149" y="185"/>
                        </a:lnTo>
                        <a:lnTo>
                          <a:pt x="157" y="203"/>
                        </a:lnTo>
                        <a:lnTo>
                          <a:pt x="163" y="219"/>
                        </a:lnTo>
                        <a:lnTo>
                          <a:pt x="147" y="271"/>
                        </a:lnTo>
                        <a:lnTo>
                          <a:pt x="180" y="360"/>
                        </a:lnTo>
                        <a:lnTo>
                          <a:pt x="183" y="366"/>
                        </a:lnTo>
                        <a:lnTo>
                          <a:pt x="188" y="371"/>
                        </a:lnTo>
                        <a:lnTo>
                          <a:pt x="198" y="377"/>
                        </a:lnTo>
                        <a:lnTo>
                          <a:pt x="207" y="379"/>
                        </a:lnTo>
                        <a:lnTo>
                          <a:pt x="219" y="379"/>
                        </a:lnTo>
                        <a:lnTo>
                          <a:pt x="268" y="374"/>
                        </a:lnTo>
                        <a:lnTo>
                          <a:pt x="271" y="371"/>
                        </a:lnTo>
                        <a:lnTo>
                          <a:pt x="273" y="368"/>
                        </a:lnTo>
                        <a:lnTo>
                          <a:pt x="276" y="3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587560" y="5779080"/>
                    <a:ext cx="2628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87">
                        <a:moveTo>
                          <a:pt x="159" y="177"/>
                        </a:moveTo>
                        <a:lnTo>
                          <a:pt x="153" y="160"/>
                        </a:lnTo>
                        <a:lnTo>
                          <a:pt x="143" y="138"/>
                        </a:lnTo>
                        <a:lnTo>
                          <a:pt x="130" y="110"/>
                        </a:lnTo>
                        <a:lnTo>
                          <a:pt x="125" y="100"/>
                        </a:lnTo>
                        <a:lnTo>
                          <a:pt x="109" y="72"/>
                        </a:lnTo>
                        <a:lnTo>
                          <a:pt x="100" y="61"/>
                        </a:lnTo>
                        <a:lnTo>
                          <a:pt x="95" y="57"/>
                        </a:lnTo>
                        <a:lnTo>
                          <a:pt x="91" y="55"/>
                        </a:lnTo>
                        <a:lnTo>
                          <a:pt x="88" y="54"/>
                        </a:lnTo>
                        <a:lnTo>
                          <a:pt x="83" y="54"/>
                        </a:lnTo>
                        <a:lnTo>
                          <a:pt x="67" y="55"/>
                        </a:lnTo>
                        <a:lnTo>
                          <a:pt x="61" y="56"/>
                        </a:lnTo>
                        <a:lnTo>
                          <a:pt x="57" y="56"/>
                        </a:lnTo>
                        <a:lnTo>
                          <a:pt x="56" y="55"/>
                        </a:lnTo>
                        <a:lnTo>
                          <a:pt x="54" y="54"/>
                        </a:lnTo>
                        <a:lnTo>
                          <a:pt x="36" y="35"/>
                        </a:lnTo>
                        <a:lnTo>
                          <a:pt x="22" y="18"/>
                        </a:lnTo>
                        <a:lnTo>
                          <a:pt x="0" y="0"/>
                        </a:lnTo>
                        <a:lnTo>
                          <a:pt x="39" y="67"/>
                        </a:lnTo>
                        <a:lnTo>
                          <a:pt x="41" y="69"/>
                        </a:lnTo>
                        <a:lnTo>
                          <a:pt x="43" y="71"/>
                        </a:lnTo>
                        <a:lnTo>
                          <a:pt x="45" y="73"/>
                        </a:lnTo>
                        <a:lnTo>
                          <a:pt x="52" y="73"/>
                        </a:lnTo>
                        <a:lnTo>
                          <a:pt x="62" y="75"/>
                        </a:lnTo>
                        <a:lnTo>
                          <a:pt x="70" y="75"/>
                        </a:lnTo>
                        <a:lnTo>
                          <a:pt x="79" y="75"/>
                        </a:lnTo>
                        <a:lnTo>
                          <a:pt x="86" y="75"/>
                        </a:lnTo>
                        <a:lnTo>
                          <a:pt x="91" y="75"/>
                        </a:lnTo>
                        <a:lnTo>
                          <a:pt x="98" y="74"/>
                        </a:lnTo>
                        <a:lnTo>
                          <a:pt x="101" y="76"/>
                        </a:lnTo>
                        <a:lnTo>
                          <a:pt x="103" y="78"/>
                        </a:lnTo>
                        <a:lnTo>
                          <a:pt x="104" y="81"/>
                        </a:lnTo>
                        <a:lnTo>
                          <a:pt x="117" y="105"/>
                        </a:lnTo>
                        <a:lnTo>
                          <a:pt x="131" y="132"/>
                        </a:lnTo>
                        <a:lnTo>
                          <a:pt x="140" y="152"/>
                        </a:lnTo>
                        <a:lnTo>
                          <a:pt x="156" y="186"/>
                        </a:lnTo>
                        <a:lnTo>
                          <a:pt x="159" y="17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54880" y="5708520"/>
                    <a:ext cx="392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4">
                        <a:moveTo>
                          <a:pt x="238" y="313"/>
                        </a:moveTo>
                        <a:lnTo>
                          <a:pt x="237" y="304"/>
                        </a:lnTo>
                        <a:lnTo>
                          <a:pt x="235" y="295"/>
                        </a:lnTo>
                        <a:lnTo>
                          <a:pt x="233" y="288"/>
                        </a:lnTo>
                        <a:lnTo>
                          <a:pt x="230" y="279"/>
                        </a:lnTo>
                        <a:lnTo>
                          <a:pt x="221" y="257"/>
                        </a:lnTo>
                        <a:lnTo>
                          <a:pt x="214" y="239"/>
                        </a:lnTo>
                        <a:lnTo>
                          <a:pt x="201" y="210"/>
                        </a:lnTo>
                        <a:lnTo>
                          <a:pt x="185" y="180"/>
                        </a:lnTo>
                        <a:lnTo>
                          <a:pt x="169" y="146"/>
                        </a:lnTo>
                        <a:lnTo>
                          <a:pt x="145" y="107"/>
                        </a:lnTo>
                        <a:lnTo>
                          <a:pt x="138" y="96"/>
                        </a:lnTo>
                        <a:lnTo>
                          <a:pt x="129" y="84"/>
                        </a:lnTo>
                        <a:lnTo>
                          <a:pt x="117" y="67"/>
                        </a:lnTo>
                        <a:lnTo>
                          <a:pt x="105" y="53"/>
                        </a:lnTo>
                        <a:lnTo>
                          <a:pt x="90" y="36"/>
                        </a:lnTo>
                        <a:lnTo>
                          <a:pt x="55" y="1"/>
                        </a:lnTo>
                        <a:lnTo>
                          <a:pt x="0" y="0"/>
                        </a:lnTo>
                        <a:lnTo>
                          <a:pt x="23" y="22"/>
                        </a:lnTo>
                        <a:lnTo>
                          <a:pt x="39" y="39"/>
                        </a:lnTo>
                        <a:lnTo>
                          <a:pt x="70" y="75"/>
                        </a:lnTo>
                        <a:lnTo>
                          <a:pt x="87" y="95"/>
                        </a:lnTo>
                        <a:lnTo>
                          <a:pt x="107" y="127"/>
                        </a:lnTo>
                        <a:lnTo>
                          <a:pt x="125" y="161"/>
                        </a:lnTo>
                        <a:lnTo>
                          <a:pt x="159" y="239"/>
                        </a:lnTo>
                        <a:lnTo>
                          <a:pt x="176" y="280"/>
                        </a:lnTo>
                        <a:lnTo>
                          <a:pt x="187" y="313"/>
                        </a:lnTo>
                        <a:lnTo>
                          <a:pt x="238" y="3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5712840" y="5979240"/>
                  <a:ext cx="129600" cy="111240"/>
                  <a:chOff x="5712840" y="5979240"/>
                  <a:chExt cx="129600" cy="11124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5712840" y="5979240"/>
                    <a:ext cx="83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">
                        <a:moveTo>
                          <a:pt x="50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5722560" y="5995440"/>
                    <a:ext cx="80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">
                        <a:moveTo>
                          <a:pt x="48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732280" y="6011640"/>
                    <a:ext cx="78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">
                        <a:moveTo>
                          <a:pt x="47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5742360" y="6030000"/>
                    <a:ext cx="7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">
                        <a:moveTo>
                          <a:pt x="46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752080" y="6048000"/>
                    <a:ext cx="75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5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5760360" y="6064200"/>
                    <a:ext cx="7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">
                        <a:moveTo>
                          <a:pt x="44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770440" y="6082560"/>
                    <a:ext cx="72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3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9" name=""/>
              <p:cNvGrpSpPr/>
              <p:nvPr/>
            </p:nvGrpSpPr>
            <p:grpSpPr>
              <a:xfrm>
                <a:off x="5981040" y="6255360"/>
                <a:ext cx="37440" cy="24120"/>
                <a:chOff x="5981040" y="6255360"/>
                <a:chExt cx="37440" cy="241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5981040" y="6255360"/>
                  <a:ext cx="37440" cy="2412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2" y="0"/>
                      </a:move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9" y="1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981040" y="6261480"/>
                  <a:ext cx="32400" cy="1476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9" y="0"/>
                      </a:move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2" name=""/>
            <p:cNvGrpSpPr/>
            <p:nvPr/>
          </p:nvGrpSpPr>
          <p:grpSpPr>
            <a:xfrm>
              <a:off x="5974920" y="6261840"/>
              <a:ext cx="65880" cy="268560"/>
              <a:chOff x="5974920" y="6261840"/>
              <a:chExt cx="65880" cy="26856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5992560" y="6386760"/>
                <a:ext cx="48240" cy="143640"/>
                <a:chOff x="5992560" y="6386760"/>
                <a:chExt cx="48240" cy="14364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6003720" y="6469920"/>
                  <a:ext cx="37080" cy="60480"/>
                  <a:chOff x="6003720" y="6469920"/>
                  <a:chExt cx="37080" cy="604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6010200" y="6471720"/>
                    <a:ext cx="2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003720" y="6469920"/>
                    <a:ext cx="3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6000480" y="6428880"/>
                  <a:ext cx="35280" cy="60120"/>
                  <a:chOff x="6000480" y="6428880"/>
                  <a:chExt cx="35280" cy="6012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6005160" y="642888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000480" y="6428880"/>
                    <a:ext cx="352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3"/>
                        </a:lnTo>
                        <a:lnTo>
                          <a:pt x="3" y="10"/>
                        </a:ln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2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5992560" y="6386760"/>
                  <a:ext cx="37080" cy="60120"/>
                  <a:chOff x="5992560" y="6386760"/>
                  <a:chExt cx="37080" cy="6012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5999040" y="6388200"/>
                    <a:ext cx="20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12" y="0"/>
                        </a:moveTo>
                        <a:lnTo>
                          <a:pt x="12" y="7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992560" y="6386760"/>
                    <a:ext cx="37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10" y="18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3" name=""/>
              <p:cNvGrpSpPr/>
              <p:nvPr/>
            </p:nvGrpSpPr>
            <p:grpSpPr>
              <a:xfrm>
                <a:off x="5974920" y="6261840"/>
                <a:ext cx="48240" cy="143640"/>
                <a:chOff x="5974920" y="6261840"/>
                <a:chExt cx="48240" cy="14364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5985720" y="6345360"/>
                  <a:ext cx="37440" cy="60120"/>
                  <a:chOff x="5985720" y="6345360"/>
                  <a:chExt cx="37440" cy="6012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5992200" y="6347160"/>
                    <a:ext cx="2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985720" y="634536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5981040" y="6304320"/>
                  <a:ext cx="37440" cy="60120"/>
                  <a:chOff x="5981040" y="6304320"/>
                  <a:chExt cx="37440" cy="6012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5987520" y="630432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981040" y="630432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2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19"/>
                        </a:lnTo>
                        <a:lnTo>
                          <a:pt x="10" y="18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0" name=""/>
                <p:cNvGrpSpPr/>
                <p:nvPr/>
              </p:nvGrpSpPr>
              <p:grpSpPr>
                <a:xfrm>
                  <a:off x="5974920" y="6261840"/>
                  <a:ext cx="35280" cy="60480"/>
                  <a:chOff x="5974920" y="6261840"/>
                  <a:chExt cx="35280" cy="6048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5979600" y="626184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974920" y="6261840"/>
                    <a:ext cx="35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33" name=""/>
          <p:cNvSpPr/>
          <p:nvPr/>
        </p:nvSpPr>
        <p:spPr>
          <a:xfrm>
            <a:off x="5014440" y="4675320"/>
            <a:ext cx="101232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91160" y="4921200"/>
            <a:ext cx="74736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74600" y="4921200"/>
            <a:ext cx="96048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02280" y="5484960"/>
            <a:ext cx="50292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86320" y="5246640"/>
            <a:ext cx="0" cy="3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917680" y="5445000"/>
            <a:ext cx="938520" cy="18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50040" y="513396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80160" y="56134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651720" y="55576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7720" y="2217600"/>
            <a:ext cx="322920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355680" indent="-355680" rtl="1">
              <a:lnSpc>
                <a:spcPct val="90000"/>
              </a:lnSpc>
              <a:spcBef>
                <a:spcPts val="108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arriers have an incentive to invest effort in strategic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309680" y="4862520"/>
            <a:ext cx="2329560" cy="1658520"/>
            <a:chOff x="1309680" y="4862520"/>
            <a:chExt cx="2329560" cy="1658520"/>
          </a:xfrm>
        </p:grpSpPr>
        <p:sp>
          <p:nvSpPr>
            <p:cNvPr id="944" name=""/>
            <p:cNvSpPr/>
            <p:nvPr/>
          </p:nvSpPr>
          <p:spPr>
            <a:xfrm>
              <a:off x="1309680" y="5066640"/>
              <a:ext cx="1979640" cy="1454400"/>
            </a:xfrm>
            <a:custGeom>
              <a:avLst/>
              <a:gdLst/>
              <a:ahLst/>
              <a:rect l="l" t="t" r="r" b="b"/>
              <a:pathLst>
                <a:path w="1204" h="884">
                  <a:moveTo>
                    <a:pt x="1012" y="674"/>
                  </a:moveTo>
                  <a:lnTo>
                    <a:pt x="1002" y="698"/>
                  </a:lnTo>
                  <a:lnTo>
                    <a:pt x="987" y="724"/>
                  </a:lnTo>
                  <a:lnTo>
                    <a:pt x="963" y="743"/>
                  </a:lnTo>
                  <a:lnTo>
                    <a:pt x="933" y="759"/>
                  </a:lnTo>
                  <a:lnTo>
                    <a:pt x="908" y="768"/>
                  </a:lnTo>
                  <a:lnTo>
                    <a:pt x="877" y="777"/>
                  </a:lnTo>
                  <a:lnTo>
                    <a:pt x="831" y="781"/>
                  </a:lnTo>
                  <a:lnTo>
                    <a:pt x="786" y="777"/>
                  </a:lnTo>
                  <a:lnTo>
                    <a:pt x="744" y="767"/>
                  </a:lnTo>
                  <a:lnTo>
                    <a:pt x="713" y="755"/>
                  </a:lnTo>
                  <a:lnTo>
                    <a:pt x="695" y="795"/>
                  </a:lnTo>
                  <a:lnTo>
                    <a:pt x="672" y="826"/>
                  </a:lnTo>
                  <a:lnTo>
                    <a:pt x="640" y="851"/>
                  </a:lnTo>
                  <a:lnTo>
                    <a:pt x="598" y="869"/>
                  </a:lnTo>
                  <a:lnTo>
                    <a:pt x="547" y="882"/>
                  </a:lnTo>
                  <a:lnTo>
                    <a:pt x="497" y="883"/>
                  </a:lnTo>
                  <a:lnTo>
                    <a:pt x="452" y="876"/>
                  </a:lnTo>
                  <a:lnTo>
                    <a:pt x="401" y="860"/>
                  </a:lnTo>
                  <a:lnTo>
                    <a:pt x="363" y="833"/>
                  </a:lnTo>
                  <a:lnTo>
                    <a:pt x="335" y="806"/>
                  </a:lnTo>
                  <a:lnTo>
                    <a:pt x="317" y="780"/>
                  </a:lnTo>
                  <a:lnTo>
                    <a:pt x="314" y="746"/>
                  </a:lnTo>
                  <a:lnTo>
                    <a:pt x="278" y="757"/>
                  </a:lnTo>
                  <a:lnTo>
                    <a:pt x="237" y="753"/>
                  </a:lnTo>
                  <a:lnTo>
                    <a:pt x="202" y="743"/>
                  </a:lnTo>
                  <a:lnTo>
                    <a:pt x="172" y="719"/>
                  </a:lnTo>
                  <a:lnTo>
                    <a:pt x="151" y="688"/>
                  </a:lnTo>
                  <a:lnTo>
                    <a:pt x="143" y="654"/>
                  </a:lnTo>
                  <a:lnTo>
                    <a:pt x="144" y="629"/>
                  </a:lnTo>
                  <a:lnTo>
                    <a:pt x="124" y="631"/>
                  </a:lnTo>
                  <a:lnTo>
                    <a:pt x="99" y="625"/>
                  </a:lnTo>
                  <a:lnTo>
                    <a:pt x="74" y="613"/>
                  </a:lnTo>
                  <a:lnTo>
                    <a:pt x="53" y="600"/>
                  </a:lnTo>
                  <a:lnTo>
                    <a:pt x="40" y="588"/>
                  </a:lnTo>
                  <a:lnTo>
                    <a:pt x="29" y="573"/>
                  </a:lnTo>
                  <a:lnTo>
                    <a:pt x="15" y="554"/>
                  </a:lnTo>
                  <a:lnTo>
                    <a:pt x="8" y="530"/>
                  </a:lnTo>
                  <a:lnTo>
                    <a:pt x="7" y="512"/>
                  </a:lnTo>
                  <a:lnTo>
                    <a:pt x="11" y="493"/>
                  </a:lnTo>
                  <a:lnTo>
                    <a:pt x="19" y="469"/>
                  </a:lnTo>
                  <a:lnTo>
                    <a:pt x="8" y="444"/>
                  </a:lnTo>
                  <a:lnTo>
                    <a:pt x="4" y="423"/>
                  </a:lnTo>
                  <a:lnTo>
                    <a:pt x="1" y="398"/>
                  </a:lnTo>
                  <a:lnTo>
                    <a:pt x="7" y="368"/>
                  </a:lnTo>
                  <a:lnTo>
                    <a:pt x="12" y="351"/>
                  </a:lnTo>
                  <a:lnTo>
                    <a:pt x="25" y="329"/>
                  </a:lnTo>
                  <a:lnTo>
                    <a:pt x="7" y="299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4" y="225"/>
                  </a:lnTo>
                  <a:lnTo>
                    <a:pt x="14" y="194"/>
                  </a:lnTo>
                  <a:lnTo>
                    <a:pt x="29" y="172"/>
                  </a:lnTo>
                  <a:lnTo>
                    <a:pt x="50" y="152"/>
                  </a:lnTo>
                  <a:lnTo>
                    <a:pt x="86" y="132"/>
                  </a:lnTo>
                  <a:lnTo>
                    <a:pt x="124" y="125"/>
                  </a:lnTo>
                  <a:lnTo>
                    <a:pt x="158" y="131"/>
                  </a:lnTo>
                  <a:lnTo>
                    <a:pt x="181" y="141"/>
                  </a:lnTo>
                  <a:lnTo>
                    <a:pt x="196" y="120"/>
                  </a:lnTo>
                  <a:lnTo>
                    <a:pt x="213" y="103"/>
                  </a:lnTo>
                  <a:lnTo>
                    <a:pt x="227" y="93"/>
                  </a:lnTo>
                  <a:lnTo>
                    <a:pt x="254" y="78"/>
                  </a:lnTo>
                  <a:lnTo>
                    <a:pt x="278" y="69"/>
                  </a:lnTo>
                  <a:lnTo>
                    <a:pt x="314" y="62"/>
                  </a:lnTo>
                  <a:lnTo>
                    <a:pt x="348" y="63"/>
                  </a:lnTo>
                  <a:lnTo>
                    <a:pt x="383" y="72"/>
                  </a:lnTo>
                  <a:lnTo>
                    <a:pt x="414" y="89"/>
                  </a:lnTo>
                  <a:lnTo>
                    <a:pt x="432" y="61"/>
                  </a:lnTo>
                  <a:lnTo>
                    <a:pt x="448" y="44"/>
                  </a:lnTo>
                  <a:lnTo>
                    <a:pt x="470" y="30"/>
                  </a:lnTo>
                  <a:lnTo>
                    <a:pt x="495" y="18"/>
                  </a:lnTo>
                  <a:lnTo>
                    <a:pt x="523" y="13"/>
                  </a:lnTo>
                  <a:lnTo>
                    <a:pt x="549" y="13"/>
                  </a:lnTo>
                  <a:lnTo>
                    <a:pt x="574" y="18"/>
                  </a:lnTo>
                  <a:lnTo>
                    <a:pt x="605" y="33"/>
                  </a:lnTo>
                  <a:lnTo>
                    <a:pt x="623" y="48"/>
                  </a:lnTo>
                  <a:lnTo>
                    <a:pt x="640" y="30"/>
                  </a:lnTo>
                  <a:lnTo>
                    <a:pt x="657" y="18"/>
                  </a:lnTo>
                  <a:lnTo>
                    <a:pt x="679" y="8"/>
                  </a:lnTo>
                  <a:lnTo>
                    <a:pt x="710" y="0"/>
                  </a:lnTo>
                  <a:lnTo>
                    <a:pt x="742" y="2"/>
                  </a:lnTo>
                  <a:lnTo>
                    <a:pt x="775" y="11"/>
                  </a:lnTo>
                  <a:lnTo>
                    <a:pt x="800" y="25"/>
                  </a:lnTo>
                  <a:lnTo>
                    <a:pt x="824" y="49"/>
                  </a:lnTo>
                  <a:lnTo>
                    <a:pt x="838" y="72"/>
                  </a:lnTo>
                  <a:lnTo>
                    <a:pt x="863" y="64"/>
                  </a:lnTo>
                  <a:lnTo>
                    <a:pt x="892" y="58"/>
                  </a:lnTo>
                  <a:lnTo>
                    <a:pt x="926" y="61"/>
                  </a:lnTo>
                  <a:lnTo>
                    <a:pt x="956" y="71"/>
                  </a:lnTo>
                  <a:lnTo>
                    <a:pt x="978" y="87"/>
                  </a:lnTo>
                  <a:lnTo>
                    <a:pt x="997" y="103"/>
                  </a:lnTo>
                  <a:lnTo>
                    <a:pt x="1013" y="127"/>
                  </a:lnTo>
                  <a:lnTo>
                    <a:pt x="1016" y="152"/>
                  </a:lnTo>
                  <a:lnTo>
                    <a:pt x="1033" y="146"/>
                  </a:lnTo>
                  <a:lnTo>
                    <a:pt x="1060" y="145"/>
                  </a:lnTo>
                  <a:lnTo>
                    <a:pt x="1091" y="152"/>
                  </a:lnTo>
                  <a:lnTo>
                    <a:pt x="1122" y="169"/>
                  </a:lnTo>
                  <a:lnTo>
                    <a:pt x="1144" y="191"/>
                  </a:lnTo>
                  <a:lnTo>
                    <a:pt x="1161" y="221"/>
                  </a:lnTo>
                  <a:lnTo>
                    <a:pt x="1172" y="252"/>
                  </a:lnTo>
                  <a:lnTo>
                    <a:pt x="1176" y="295"/>
                  </a:lnTo>
                  <a:lnTo>
                    <a:pt x="1174" y="323"/>
                  </a:lnTo>
                  <a:lnTo>
                    <a:pt x="1165" y="365"/>
                  </a:lnTo>
                  <a:lnTo>
                    <a:pt x="1186" y="389"/>
                  </a:lnTo>
                  <a:lnTo>
                    <a:pt x="1197" y="420"/>
                  </a:lnTo>
                  <a:lnTo>
                    <a:pt x="1203" y="453"/>
                  </a:lnTo>
                  <a:lnTo>
                    <a:pt x="1203" y="487"/>
                  </a:lnTo>
                  <a:lnTo>
                    <a:pt x="1196" y="524"/>
                  </a:lnTo>
                  <a:lnTo>
                    <a:pt x="1182" y="551"/>
                  </a:lnTo>
                  <a:lnTo>
                    <a:pt x="1158" y="581"/>
                  </a:lnTo>
                  <a:lnTo>
                    <a:pt x="1133" y="604"/>
                  </a:lnTo>
                  <a:lnTo>
                    <a:pt x="1103" y="625"/>
                  </a:lnTo>
                  <a:lnTo>
                    <a:pt x="1065" y="639"/>
                  </a:lnTo>
                  <a:lnTo>
                    <a:pt x="1029" y="648"/>
                  </a:lnTo>
                  <a:lnTo>
                    <a:pt x="1013" y="651"/>
                  </a:lnTo>
                  <a:lnTo>
                    <a:pt x="1012" y="6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26280" bIns="26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116520" y="4862520"/>
              <a:ext cx="522720" cy="450360"/>
              <a:chOff x="3116520" y="4862520"/>
              <a:chExt cx="522720" cy="450360"/>
            </a:xfrm>
          </p:grpSpPr>
          <p:sp>
            <p:nvSpPr>
              <p:cNvPr id="946" name=""/>
              <p:cNvSpPr/>
              <p:nvPr/>
            </p:nvSpPr>
            <p:spPr>
              <a:xfrm>
                <a:off x="3116520" y="5027040"/>
                <a:ext cx="199080" cy="28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371400" y="4896720"/>
                <a:ext cx="129600" cy="218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39160" y="4862520"/>
                <a:ext cx="100080" cy="123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533240" y="5324760"/>
              <a:ext cx="168516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ybe I can bid as high as $0.21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.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DD2-9812-4252-AC5A-98AE7B7579DB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380000" cy="151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ree-Dimensional Incentive Compatible Mechanism 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041920" y="424008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03500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360360" y="5046840"/>
            <a:ext cx="660240" cy="483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03500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238428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360360" y="5543640"/>
            <a:ext cx="6602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035000" y="554364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384280" y="5543640"/>
            <a:ext cx="133668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360360" y="604188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035000" y="604188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384280" y="6041880"/>
            <a:ext cx="1336680" cy="4842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8428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 flipV="1">
            <a:off x="3468600" y="561312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3735360" y="504684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735360" y="5543640"/>
            <a:ext cx="1336680" cy="4856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735360" y="604188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735360" y="465444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789440" y="572760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3444840" y="5276880"/>
            <a:ext cx="69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86600" y="1989000"/>
            <a:ext cx="1333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n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482436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4149720" y="2795760"/>
            <a:ext cx="660240" cy="483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82436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617364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149720" y="3292560"/>
            <a:ext cx="6602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82436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17364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149720" y="379080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4824360" y="3790800"/>
            <a:ext cx="133668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173640" y="3790800"/>
            <a:ext cx="133668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17364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ant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524720" y="2795760"/>
            <a:ext cx="1336680" cy="4838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524720" y="3292560"/>
            <a:ext cx="133668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524720" y="3790800"/>
            <a:ext cx="133668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524720" y="2403360"/>
            <a:ext cx="1336680" cy="3794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co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H="1">
            <a:off x="4820760" y="3989520"/>
            <a:ext cx="50796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 flipH="1">
            <a:off x="7340760" y="4111560"/>
            <a:ext cx="72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 flipH="1">
            <a:off x="4820760" y="3003480"/>
            <a:ext cx="50796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4815000" y="3463560"/>
            <a:ext cx="48096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1841040" y="61023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1855800" y="5576400"/>
            <a:ext cx="47952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1841040" y="5114880"/>
            <a:ext cx="506520" cy="25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11040" y="1900080"/>
            <a:ext cx="3587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Book Antiqua"/>
              </a:rPr>
              <a:t>Theorem</a:t>
            </a: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: For all encounters in all concave TODs, when using a PMM over all-or-nothing deals, no agent has any incentive to lie</a:t>
            </a:r>
            <a:r>
              <a:rPr b="1" lang="en-US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H="1">
            <a:off x="6203520" y="29829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H="1">
            <a:off x="7544880" y="2982960"/>
            <a:ext cx="50652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835520" y="3317760"/>
            <a:ext cx="4013280" cy="4399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7257960" y="34020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8580600" y="34020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3179880" y="2803320"/>
            <a:ext cx="3222360" cy="8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c00c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DDE-AAC4-4C8E-BC56-D73E4BF94E9D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2301480" y="549000"/>
            <a:ext cx="44751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973080" y="2395440"/>
            <a:ext cx="7197840" cy="2200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 &lt;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for all finite sets of tasks X, Y in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919160" y="4734000"/>
            <a:ext cx="530568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Modularity implies concavity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73C-2D9F-482A-A1AA-A787D2A528FF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2867040" y="514080"/>
            <a:ext cx="337176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1663560" y="5100120"/>
            <a:ext cx="6112080" cy="77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2790720" y="2281320"/>
            <a:ext cx="2227320" cy="2173320"/>
          </a:xfrm>
          <a:prstGeom prst="ellipse">
            <a:avLst/>
          </a:prstGeom>
          <a:solidFill>
            <a:srgbClr val="99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3933720" y="2295360"/>
            <a:ext cx="2229120" cy="2173320"/>
          </a:xfrm>
          <a:prstGeom prst="ellipse">
            <a:avLst/>
          </a:prstGeom>
          <a:solidFill>
            <a:srgbClr val="df1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3952800" y="2433600"/>
            <a:ext cx="1041480" cy="833400"/>
          </a:xfrm>
          <a:custGeom>
            <a:avLst/>
            <a:gdLst/>
            <a:ahLst/>
            <a:rect l="l" t="t" r="r" b="b"/>
            <a:pathLst>
              <a:path w="633" h="507">
                <a:moveTo>
                  <a:pt x="321" y="0"/>
                </a:moveTo>
                <a:lnTo>
                  <a:pt x="303" y="11"/>
                </a:lnTo>
                <a:lnTo>
                  <a:pt x="283" y="24"/>
                </a:lnTo>
                <a:lnTo>
                  <a:pt x="261" y="41"/>
                </a:lnTo>
                <a:lnTo>
                  <a:pt x="242" y="55"/>
                </a:lnTo>
                <a:lnTo>
                  <a:pt x="222" y="71"/>
                </a:lnTo>
                <a:lnTo>
                  <a:pt x="207" y="85"/>
                </a:lnTo>
                <a:lnTo>
                  <a:pt x="188" y="102"/>
                </a:lnTo>
                <a:lnTo>
                  <a:pt x="171" y="118"/>
                </a:lnTo>
                <a:lnTo>
                  <a:pt x="151" y="140"/>
                </a:lnTo>
                <a:lnTo>
                  <a:pt x="132" y="162"/>
                </a:lnTo>
                <a:lnTo>
                  <a:pt x="116" y="180"/>
                </a:lnTo>
                <a:lnTo>
                  <a:pt x="97" y="206"/>
                </a:lnTo>
                <a:lnTo>
                  <a:pt x="82" y="227"/>
                </a:lnTo>
                <a:lnTo>
                  <a:pt x="68" y="250"/>
                </a:lnTo>
                <a:lnTo>
                  <a:pt x="54" y="274"/>
                </a:lnTo>
                <a:lnTo>
                  <a:pt x="42" y="297"/>
                </a:lnTo>
                <a:lnTo>
                  <a:pt x="29" y="328"/>
                </a:lnTo>
                <a:lnTo>
                  <a:pt x="19" y="357"/>
                </a:lnTo>
                <a:lnTo>
                  <a:pt x="10" y="386"/>
                </a:lnTo>
                <a:lnTo>
                  <a:pt x="5" y="409"/>
                </a:lnTo>
                <a:lnTo>
                  <a:pt x="0" y="428"/>
                </a:lnTo>
                <a:lnTo>
                  <a:pt x="22" y="442"/>
                </a:lnTo>
                <a:lnTo>
                  <a:pt x="49" y="452"/>
                </a:lnTo>
                <a:lnTo>
                  <a:pt x="81" y="464"/>
                </a:lnTo>
                <a:lnTo>
                  <a:pt x="115" y="475"/>
                </a:lnTo>
                <a:lnTo>
                  <a:pt x="155" y="487"/>
                </a:lnTo>
                <a:lnTo>
                  <a:pt x="193" y="494"/>
                </a:lnTo>
                <a:lnTo>
                  <a:pt x="223" y="499"/>
                </a:lnTo>
                <a:lnTo>
                  <a:pt x="256" y="503"/>
                </a:lnTo>
                <a:lnTo>
                  <a:pt x="288" y="505"/>
                </a:lnTo>
                <a:lnTo>
                  <a:pt x="316" y="506"/>
                </a:lnTo>
                <a:lnTo>
                  <a:pt x="352" y="505"/>
                </a:lnTo>
                <a:lnTo>
                  <a:pt x="389" y="500"/>
                </a:lnTo>
                <a:lnTo>
                  <a:pt x="431" y="495"/>
                </a:lnTo>
                <a:lnTo>
                  <a:pt x="466" y="488"/>
                </a:lnTo>
                <a:lnTo>
                  <a:pt x="496" y="482"/>
                </a:lnTo>
                <a:lnTo>
                  <a:pt x="527" y="472"/>
                </a:lnTo>
                <a:lnTo>
                  <a:pt x="549" y="463"/>
                </a:lnTo>
                <a:lnTo>
                  <a:pt x="574" y="454"/>
                </a:lnTo>
                <a:lnTo>
                  <a:pt x="596" y="446"/>
                </a:lnTo>
                <a:lnTo>
                  <a:pt x="620" y="434"/>
                </a:lnTo>
                <a:lnTo>
                  <a:pt x="632" y="427"/>
                </a:lnTo>
                <a:lnTo>
                  <a:pt x="628" y="403"/>
                </a:lnTo>
                <a:lnTo>
                  <a:pt x="621" y="377"/>
                </a:lnTo>
                <a:lnTo>
                  <a:pt x="613" y="352"/>
                </a:lnTo>
                <a:lnTo>
                  <a:pt x="600" y="319"/>
                </a:lnTo>
                <a:lnTo>
                  <a:pt x="583" y="285"/>
                </a:lnTo>
                <a:lnTo>
                  <a:pt x="563" y="248"/>
                </a:lnTo>
                <a:lnTo>
                  <a:pt x="545" y="221"/>
                </a:lnTo>
                <a:lnTo>
                  <a:pt x="527" y="193"/>
                </a:lnTo>
                <a:lnTo>
                  <a:pt x="512" y="172"/>
                </a:lnTo>
                <a:lnTo>
                  <a:pt x="488" y="143"/>
                </a:lnTo>
                <a:lnTo>
                  <a:pt x="470" y="122"/>
                </a:lnTo>
                <a:lnTo>
                  <a:pt x="450" y="102"/>
                </a:lnTo>
                <a:lnTo>
                  <a:pt x="423" y="77"/>
                </a:lnTo>
                <a:lnTo>
                  <a:pt x="404" y="60"/>
                </a:lnTo>
                <a:lnTo>
                  <a:pt x="380" y="42"/>
                </a:lnTo>
                <a:lnTo>
                  <a:pt x="351" y="19"/>
                </a:lnTo>
                <a:lnTo>
                  <a:pt x="321" y="0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911760" y="3138480"/>
            <a:ext cx="1106280" cy="1209600"/>
          </a:xfrm>
          <a:custGeom>
            <a:avLst/>
            <a:gdLst/>
            <a:ahLst/>
            <a:rect l="l" t="t" r="r" b="b"/>
            <a:pathLst>
              <a:path w="673" h="736">
                <a:moveTo>
                  <a:pt x="15" y="1"/>
                </a:moveTo>
                <a:lnTo>
                  <a:pt x="34" y="13"/>
                </a:lnTo>
                <a:lnTo>
                  <a:pt x="54" y="22"/>
                </a:lnTo>
                <a:lnTo>
                  <a:pt x="73" y="29"/>
                </a:lnTo>
                <a:lnTo>
                  <a:pt x="101" y="40"/>
                </a:lnTo>
                <a:lnTo>
                  <a:pt x="126" y="47"/>
                </a:lnTo>
                <a:lnTo>
                  <a:pt x="153" y="55"/>
                </a:lnTo>
                <a:lnTo>
                  <a:pt x="182" y="61"/>
                </a:lnTo>
                <a:lnTo>
                  <a:pt x="211" y="68"/>
                </a:lnTo>
                <a:lnTo>
                  <a:pt x="242" y="73"/>
                </a:lnTo>
                <a:lnTo>
                  <a:pt x="278" y="77"/>
                </a:lnTo>
                <a:lnTo>
                  <a:pt x="312" y="80"/>
                </a:lnTo>
                <a:lnTo>
                  <a:pt x="344" y="80"/>
                </a:lnTo>
                <a:lnTo>
                  <a:pt x="383" y="80"/>
                </a:lnTo>
                <a:lnTo>
                  <a:pt x="426" y="73"/>
                </a:lnTo>
                <a:lnTo>
                  <a:pt x="459" y="69"/>
                </a:lnTo>
                <a:lnTo>
                  <a:pt x="482" y="64"/>
                </a:lnTo>
                <a:lnTo>
                  <a:pt x="512" y="57"/>
                </a:lnTo>
                <a:lnTo>
                  <a:pt x="537" y="50"/>
                </a:lnTo>
                <a:lnTo>
                  <a:pt x="559" y="42"/>
                </a:lnTo>
                <a:lnTo>
                  <a:pt x="587" y="31"/>
                </a:lnTo>
                <a:lnTo>
                  <a:pt x="607" y="23"/>
                </a:lnTo>
                <a:lnTo>
                  <a:pt x="627" y="14"/>
                </a:lnTo>
                <a:lnTo>
                  <a:pt x="643" y="8"/>
                </a:lnTo>
                <a:lnTo>
                  <a:pt x="656" y="0"/>
                </a:lnTo>
                <a:lnTo>
                  <a:pt x="661" y="20"/>
                </a:lnTo>
                <a:lnTo>
                  <a:pt x="664" y="40"/>
                </a:lnTo>
                <a:lnTo>
                  <a:pt x="665" y="57"/>
                </a:lnTo>
                <a:lnTo>
                  <a:pt x="669" y="89"/>
                </a:lnTo>
                <a:lnTo>
                  <a:pt x="670" y="113"/>
                </a:lnTo>
                <a:lnTo>
                  <a:pt x="672" y="135"/>
                </a:lnTo>
                <a:lnTo>
                  <a:pt x="672" y="154"/>
                </a:lnTo>
                <a:lnTo>
                  <a:pt x="669" y="185"/>
                </a:lnTo>
                <a:lnTo>
                  <a:pt x="668" y="208"/>
                </a:lnTo>
                <a:lnTo>
                  <a:pt x="665" y="235"/>
                </a:lnTo>
                <a:lnTo>
                  <a:pt x="660" y="266"/>
                </a:lnTo>
                <a:lnTo>
                  <a:pt x="656" y="293"/>
                </a:lnTo>
                <a:lnTo>
                  <a:pt x="645" y="333"/>
                </a:lnTo>
                <a:lnTo>
                  <a:pt x="636" y="363"/>
                </a:lnTo>
                <a:lnTo>
                  <a:pt x="625" y="391"/>
                </a:lnTo>
                <a:lnTo>
                  <a:pt x="615" y="416"/>
                </a:lnTo>
                <a:lnTo>
                  <a:pt x="600" y="446"/>
                </a:lnTo>
                <a:lnTo>
                  <a:pt x="586" y="475"/>
                </a:lnTo>
                <a:lnTo>
                  <a:pt x="572" y="498"/>
                </a:lnTo>
                <a:lnTo>
                  <a:pt x="555" y="522"/>
                </a:lnTo>
                <a:lnTo>
                  <a:pt x="536" y="551"/>
                </a:lnTo>
                <a:lnTo>
                  <a:pt x="512" y="581"/>
                </a:lnTo>
                <a:lnTo>
                  <a:pt x="491" y="604"/>
                </a:lnTo>
                <a:lnTo>
                  <a:pt x="467" y="629"/>
                </a:lnTo>
                <a:lnTo>
                  <a:pt x="440" y="653"/>
                </a:lnTo>
                <a:lnTo>
                  <a:pt x="413" y="676"/>
                </a:lnTo>
                <a:lnTo>
                  <a:pt x="392" y="693"/>
                </a:lnTo>
                <a:lnTo>
                  <a:pt x="373" y="708"/>
                </a:lnTo>
                <a:lnTo>
                  <a:pt x="349" y="722"/>
                </a:lnTo>
                <a:lnTo>
                  <a:pt x="331" y="735"/>
                </a:lnTo>
                <a:lnTo>
                  <a:pt x="311" y="723"/>
                </a:lnTo>
                <a:lnTo>
                  <a:pt x="294" y="712"/>
                </a:lnTo>
                <a:lnTo>
                  <a:pt x="269" y="694"/>
                </a:lnTo>
                <a:lnTo>
                  <a:pt x="250" y="679"/>
                </a:lnTo>
                <a:lnTo>
                  <a:pt x="229" y="661"/>
                </a:lnTo>
                <a:lnTo>
                  <a:pt x="211" y="644"/>
                </a:lnTo>
                <a:lnTo>
                  <a:pt x="188" y="622"/>
                </a:lnTo>
                <a:lnTo>
                  <a:pt x="168" y="597"/>
                </a:lnTo>
                <a:lnTo>
                  <a:pt x="139" y="563"/>
                </a:lnTo>
                <a:lnTo>
                  <a:pt x="120" y="537"/>
                </a:lnTo>
                <a:lnTo>
                  <a:pt x="103" y="514"/>
                </a:lnTo>
                <a:lnTo>
                  <a:pt x="86" y="484"/>
                </a:lnTo>
                <a:lnTo>
                  <a:pt x="73" y="460"/>
                </a:lnTo>
                <a:lnTo>
                  <a:pt x="58" y="428"/>
                </a:lnTo>
                <a:lnTo>
                  <a:pt x="46" y="400"/>
                </a:lnTo>
                <a:lnTo>
                  <a:pt x="37" y="376"/>
                </a:lnTo>
                <a:lnTo>
                  <a:pt x="26" y="339"/>
                </a:lnTo>
                <a:lnTo>
                  <a:pt x="17" y="312"/>
                </a:lnTo>
                <a:lnTo>
                  <a:pt x="10" y="275"/>
                </a:lnTo>
                <a:lnTo>
                  <a:pt x="6" y="249"/>
                </a:lnTo>
                <a:lnTo>
                  <a:pt x="1" y="208"/>
                </a:lnTo>
                <a:lnTo>
                  <a:pt x="0" y="177"/>
                </a:lnTo>
                <a:lnTo>
                  <a:pt x="0" y="141"/>
                </a:lnTo>
                <a:lnTo>
                  <a:pt x="1" y="104"/>
                </a:lnTo>
                <a:lnTo>
                  <a:pt x="3" y="74"/>
                </a:lnTo>
                <a:lnTo>
                  <a:pt x="7" y="43"/>
                </a:lnTo>
                <a:lnTo>
                  <a:pt x="11" y="19"/>
                </a:lnTo>
                <a:lnTo>
                  <a:pt x="15" y="1"/>
                </a:lnTo>
              </a:path>
            </a:pathLst>
          </a:custGeom>
          <a:solidFill>
            <a:srgbClr val="9f3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197520" y="3125880"/>
            <a:ext cx="39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303520" y="3125880"/>
            <a:ext cx="37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BB2-89C1-43EB-AF65-C976E69EEFDD}" type="slidenum">
              <a:t>132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2266560" y="514080"/>
            <a:ext cx="44737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ular T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618840" y="1784160"/>
            <a:ext cx="7886520" cy="13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x Domain is modular (not the Database Domain nor the Postmen Domain, unless restricted to a star topolog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968400" y="4888080"/>
            <a:ext cx="732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r" rtl="1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Even in modular TODs, hiding tasks can be beneficial in general mixed deals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2157480" y="3341520"/>
            <a:ext cx="4506480" cy="1037880"/>
            <a:chOff x="2157480" y="3341520"/>
            <a:chExt cx="4506480" cy="1037880"/>
          </a:xfrm>
        </p:grpSpPr>
        <p:grpSp>
          <p:nvGrpSpPr>
            <p:cNvPr id="3264" name=""/>
            <p:cNvGrpSpPr/>
            <p:nvPr/>
          </p:nvGrpSpPr>
          <p:grpSpPr>
            <a:xfrm>
              <a:off x="2168640" y="3619440"/>
              <a:ext cx="1308960" cy="537480"/>
              <a:chOff x="2168640" y="3619440"/>
              <a:chExt cx="1308960" cy="537480"/>
            </a:xfrm>
          </p:grpSpPr>
          <p:sp>
            <p:nvSpPr>
              <p:cNvPr id="3265" name=""/>
              <p:cNvSpPr/>
              <p:nvPr/>
            </p:nvSpPr>
            <p:spPr>
              <a:xfrm>
                <a:off x="2168640" y="3619440"/>
                <a:ext cx="1308960" cy="53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2199960" y="3632760"/>
                <a:ext cx="847800" cy="431280"/>
                <a:chOff x="2199960" y="3632760"/>
                <a:chExt cx="847800" cy="431280"/>
              </a:xfrm>
            </p:grpSpPr>
            <p:grpSp>
              <p:nvGrpSpPr>
                <p:cNvPr id="3267" name=""/>
                <p:cNvGrpSpPr/>
                <p:nvPr/>
              </p:nvGrpSpPr>
              <p:grpSpPr>
                <a:xfrm>
                  <a:off x="2199960" y="3632760"/>
                  <a:ext cx="252720" cy="130680"/>
                  <a:chOff x="2199960" y="3632760"/>
                  <a:chExt cx="252720" cy="1306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>
                    <a:off x="2199960" y="3632760"/>
                    <a:ext cx="2527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0">
                        <a:moveTo>
                          <a:pt x="0" y="0"/>
                        </a:moveTo>
                        <a:lnTo>
                          <a:pt x="153" y="0"/>
                        </a:lnTo>
                        <a:lnTo>
                          <a:pt x="15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2199960" y="3672000"/>
                    <a:ext cx="244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9">
                        <a:moveTo>
                          <a:pt x="0" y="0"/>
                        </a:moveTo>
                        <a:lnTo>
                          <a:pt x="148" y="0"/>
                        </a:lnTo>
                        <a:lnTo>
                          <a:pt x="148" y="8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2199960" y="3708000"/>
                    <a:ext cx="2070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0" y="0"/>
                        </a:moveTo>
                        <a:lnTo>
                          <a:pt x="125" y="0"/>
                        </a:lnTo>
                        <a:lnTo>
                          <a:pt x="125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2199960" y="3747240"/>
                    <a:ext cx="236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0">
                        <a:moveTo>
                          <a:pt x="0" y="0"/>
                        </a:moveTo>
                        <a:lnTo>
                          <a:pt x="143" y="0"/>
                        </a:lnTo>
                        <a:lnTo>
                          <a:pt x="143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2" name=""/>
                <p:cNvGrpSpPr/>
                <p:nvPr/>
              </p:nvGrpSpPr>
              <p:grpSpPr>
                <a:xfrm>
                  <a:off x="2665080" y="3850920"/>
                  <a:ext cx="382680" cy="213120"/>
                  <a:chOff x="2665080" y="3850920"/>
                  <a:chExt cx="382680" cy="213120"/>
                </a:xfrm>
              </p:grpSpPr>
              <p:sp>
                <p:nvSpPr>
                  <p:cNvPr id="3273" name=""/>
                  <p:cNvSpPr/>
                  <p:nvPr/>
                </p:nvSpPr>
                <p:spPr>
                  <a:xfrm>
                    <a:off x="2665080" y="3850920"/>
                    <a:ext cx="36324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6">
                        <a:moveTo>
                          <a:pt x="0" y="0"/>
                        </a:moveTo>
                        <a:lnTo>
                          <a:pt x="220" y="0"/>
                        </a:lnTo>
                        <a:lnTo>
                          <a:pt x="220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2665080" y="3898440"/>
                    <a:ext cx="3549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16">
                        <a:moveTo>
                          <a:pt x="0" y="0"/>
                        </a:moveTo>
                        <a:lnTo>
                          <a:pt x="215" y="0"/>
                        </a:lnTo>
                        <a:lnTo>
                          <a:pt x="215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2665080" y="3944520"/>
                    <a:ext cx="3826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17">
                        <a:moveTo>
                          <a:pt x="0" y="0"/>
                        </a:moveTo>
                        <a:lnTo>
                          <a:pt x="232" y="0"/>
                        </a:lnTo>
                        <a:lnTo>
                          <a:pt x="232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2665080" y="3993840"/>
                    <a:ext cx="325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">
                        <a:moveTo>
                          <a:pt x="0" y="0"/>
                        </a:moveTo>
                        <a:lnTo>
                          <a:pt x="197" y="0"/>
                        </a:lnTo>
                        <a:lnTo>
                          <a:pt x="197" y="13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2833920" y="4039560"/>
                    <a:ext cx="211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">
                        <a:moveTo>
                          <a:pt x="0" y="0"/>
                        </a:moveTo>
                        <a:lnTo>
                          <a:pt x="128" y="0"/>
                        </a:lnTo>
                        <a:lnTo>
                          <a:pt x="128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8" name=""/>
              <p:cNvGrpSpPr/>
              <p:nvPr/>
            </p:nvGrpSpPr>
            <p:grpSpPr>
              <a:xfrm>
                <a:off x="3308040" y="3632760"/>
                <a:ext cx="137520" cy="143640"/>
                <a:chOff x="3308040" y="3632760"/>
                <a:chExt cx="137520" cy="143640"/>
              </a:xfrm>
            </p:grpSpPr>
            <p:grpSp>
              <p:nvGrpSpPr>
                <p:cNvPr id="3279" name=""/>
                <p:cNvGrpSpPr/>
                <p:nvPr/>
              </p:nvGrpSpPr>
              <p:grpSpPr>
                <a:xfrm>
                  <a:off x="3308040" y="3632760"/>
                  <a:ext cx="137520" cy="143640"/>
                  <a:chOff x="3308040" y="3632760"/>
                  <a:chExt cx="137520" cy="143640"/>
                </a:xfrm>
              </p:grpSpPr>
              <p:sp>
                <p:nvSpPr>
                  <p:cNvPr id="3280" name=""/>
                  <p:cNvSpPr/>
                  <p:nvPr/>
                </p:nvSpPr>
                <p:spPr>
                  <a:xfrm>
                    <a:off x="3313080" y="3632760"/>
                    <a:ext cx="124200" cy="140400"/>
                  </a:xfrm>
                  <a:prstGeom prst="rect">
                    <a:avLst/>
                  </a:pr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3442320" y="3632760"/>
                    <a:ext cx="32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22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3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1" y="40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1" y="47"/>
                        </a:lnTo>
                        <a:lnTo>
                          <a:pt x="1" y="51"/>
                        </a:lnTo>
                        <a:lnTo>
                          <a:pt x="0" y="51"/>
                        </a:lnTo>
                        <a:lnTo>
                          <a:pt x="0" y="54"/>
                        </a:lnTo>
                        <a:lnTo>
                          <a:pt x="1" y="54"/>
                        </a:lnTo>
                        <a:lnTo>
                          <a:pt x="1" y="58"/>
                        </a:lnTo>
                        <a:lnTo>
                          <a:pt x="0" y="58"/>
                        </a:lnTo>
                        <a:lnTo>
                          <a:pt x="0" y="62"/>
                        </a:lnTo>
                        <a:lnTo>
                          <a:pt x="1" y="62"/>
                        </a:lnTo>
                        <a:lnTo>
                          <a:pt x="1" y="65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69"/>
                        </a:lnTo>
                        <a:lnTo>
                          <a:pt x="1" y="72"/>
                        </a:lnTo>
                        <a:lnTo>
                          <a:pt x="0" y="72"/>
                        </a:lnTo>
                        <a:lnTo>
                          <a:pt x="0" y="76"/>
                        </a:lnTo>
                        <a:lnTo>
                          <a:pt x="1" y="76"/>
                        </a:lnTo>
                        <a:lnTo>
                          <a:pt x="1" y="80"/>
                        </a:lnTo>
                        <a:lnTo>
                          <a:pt x="0" y="80"/>
                        </a:lnTo>
                        <a:lnTo>
                          <a:pt x="0" y="84"/>
                        </a:lnTo>
                        <a:lnTo>
                          <a:pt x="1" y="84"/>
                        </a:lnTo>
                        <a:lnTo>
                          <a:pt x="1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3308040" y="3632760"/>
                    <a:ext cx="32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88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1" y="22"/>
                        </a:lnTo>
                        <a:lnTo>
                          <a:pt x="1" y="25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29"/>
                        </a:lnTo>
                        <a:lnTo>
                          <a:pt x="1" y="33"/>
                        </a:lnTo>
                        <a:lnTo>
                          <a:pt x="0" y="33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0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1" y="44"/>
                        </a:lnTo>
                        <a:lnTo>
                          <a:pt x="1" y="47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1" y="51"/>
                        </a:lnTo>
                        <a:lnTo>
                          <a:pt x="1" y="54"/>
                        </a:lnTo>
                        <a:lnTo>
                          <a:pt x="0" y="54"/>
                        </a:lnTo>
                        <a:lnTo>
                          <a:pt x="0" y="58"/>
                        </a:lnTo>
                        <a:lnTo>
                          <a:pt x="1" y="58"/>
                        </a:lnTo>
                        <a:lnTo>
                          <a:pt x="1" y="62"/>
                        </a:lnTo>
                        <a:lnTo>
                          <a:pt x="0" y="62"/>
                        </a:lnTo>
                        <a:lnTo>
                          <a:pt x="0" y="65"/>
                        </a:lnTo>
                        <a:lnTo>
                          <a:pt x="1" y="65"/>
                        </a:lnTo>
                        <a:lnTo>
                          <a:pt x="1" y="69"/>
                        </a:lnTo>
                        <a:lnTo>
                          <a:pt x="0" y="69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76"/>
                        </a:lnTo>
                        <a:lnTo>
                          <a:pt x="0" y="76"/>
                        </a:lnTo>
                        <a:lnTo>
                          <a:pt x="0" y="80"/>
                        </a:lnTo>
                        <a:lnTo>
                          <a:pt x="1" y="80"/>
                        </a:lnTo>
                        <a:lnTo>
                          <a:pt x="1" y="84"/>
                        </a:lnTo>
                        <a:lnTo>
                          <a:pt x="0" y="84"/>
                        </a:lnTo>
                        <a:lnTo>
                          <a:pt x="0" y="87"/>
                        </a:lnTo>
                        <a:lnTo>
                          <a:pt x="1" y="87"/>
                        </a:lnTo>
                        <a:lnTo>
                          <a:pt x="1" y="87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3" name=""/>
                <p:cNvGrpSpPr/>
                <p:nvPr/>
              </p:nvGrpSpPr>
              <p:grpSpPr>
                <a:xfrm>
                  <a:off x="3327480" y="3638880"/>
                  <a:ext cx="99720" cy="128880"/>
                  <a:chOff x="3327480" y="3638880"/>
                  <a:chExt cx="99720" cy="128880"/>
                </a:xfrm>
              </p:grpSpPr>
              <p:sp>
                <p:nvSpPr>
                  <p:cNvPr id="3284" name=""/>
                  <p:cNvSpPr/>
                  <p:nvPr/>
                </p:nvSpPr>
                <p:spPr>
                  <a:xfrm>
                    <a:off x="3411000" y="3674880"/>
                    <a:ext cx="16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1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6" y="15"/>
                        </a:lnTo>
                        <a:lnTo>
                          <a:pt x="6" y="19"/>
                        </a:lnTo>
                        <a:lnTo>
                          <a:pt x="7" y="22"/>
                        </a:lnTo>
                        <a:lnTo>
                          <a:pt x="7" y="25"/>
                        </a:lnTo>
                        <a:lnTo>
                          <a:pt x="8" y="28"/>
                        </a:lnTo>
                        <a:lnTo>
                          <a:pt x="8" y="31"/>
                        </a:lnTo>
                        <a:lnTo>
                          <a:pt x="9" y="34"/>
                        </a:lnTo>
                        <a:lnTo>
                          <a:pt x="9" y="36"/>
                        </a:lnTo>
                        <a:lnTo>
                          <a:pt x="9" y="39"/>
                        </a:lnTo>
                        <a:lnTo>
                          <a:pt x="8" y="39"/>
                        </a:lnTo>
                        <a:lnTo>
                          <a:pt x="7" y="39"/>
                        </a:lnTo>
                        <a:lnTo>
                          <a:pt x="6" y="38"/>
                        </a:lnTo>
                        <a:lnTo>
                          <a:pt x="5" y="38"/>
                        </a:lnTo>
                        <a:lnTo>
                          <a:pt x="5" y="39"/>
                        </a:lnTo>
                        <a:lnTo>
                          <a:pt x="4" y="39"/>
                        </a:lnTo>
                        <a:lnTo>
                          <a:pt x="3" y="40"/>
                        </a:lnTo>
                        <a:lnTo>
                          <a:pt x="2" y="40"/>
                        </a:lnTo>
                        <a:lnTo>
                          <a:pt x="2" y="40"/>
                        </a:lnTo>
                        <a:lnTo>
                          <a:pt x="1" y="40"/>
                        </a:lnTo>
                        <a:lnTo>
                          <a:pt x="1" y="39"/>
                        </a:lnTo>
                        <a:lnTo>
                          <a:pt x="0" y="39"/>
                        </a:lnTo>
                        <a:lnTo>
                          <a:pt x="1" y="38"/>
                        </a:lnTo>
                        <a:lnTo>
                          <a:pt x="1" y="37"/>
                        </a:lnTo>
                        <a:lnTo>
                          <a:pt x="2" y="35"/>
                        </a:lnTo>
                        <a:lnTo>
                          <a:pt x="2" y="33"/>
                        </a:lnTo>
                        <a:lnTo>
                          <a:pt x="2" y="31"/>
                        </a:lnTo>
                        <a:lnTo>
                          <a:pt x="1" y="29"/>
                        </a:lnTo>
                        <a:lnTo>
                          <a:pt x="1" y="26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85" name=""/>
                  <p:cNvGrpSpPr/>
                  <p:nvPr/>
                </p:nvGrpSpPr>
                <p:grpSpPr>
                  <a:xfrm>
                    <a:off x="3411000" y="3678120"/>
                    <a:ext cx="15840" cy="55080"/>
                    <a:chOff x="3411000" y="3678120"/>
                    <a:chExt cx="15840" cy="55080"/>
                  </a:xfrm>
                </p:grpSpPr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3412800" y="3726720"/>
                      <a:ext cx="140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1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7" name=""/>
                    <p:cNvSpPr/>
                    <p:nvPr/>
                  </p:nvSpPr>
                  <p:spPr>
                    <a:xfrm>
                      <a:off x="3411000" y="3715560"/>
                      <a:ext cx="158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8" name=""/>
                    <p:cNvSpPr/>
                    <p:nvPr/>
                  </p:nvSpPr>
                  <p:spPr>
                    <a:xfrm>
                      <a:off x="3411000" y="3704040"/>
                      <a:ext cx="11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6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9" name=""/>
                    <p:cNvSpPr/>
                    <p:nvPr/>
                  </p:nvSpPr>
                  <p:spPr>
                    <a:xfrm>
                      <a:off x="3411000" y="3696120"/>
                      <a:ext cx="97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0" name=""/>
                    <p:cNvSpPr/>
                    <p:nvPr/>
                  </p:nvSpPr>
                  <p:spPr>
                    <a:xfrm>
                      <a:off x="3411000" y="36860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3411000" y="3678120"/>
                      <a:ext cx="97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4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2" name=""/>
                  <p:cNvGrpSpPr/>
                  <p:nvPr/>
                </p:nvGrpSpPr>
                <p:grpSpPr>
                  <a:xfrm>
                    <a:off x="3401280" y="3678120"/>
                    <a:ext cx="7920" cy="37440"/>
                    <a:chOff x="3401280" y="3678120"/>
                    <a:chExt cx="7920" cy="37440"/>
                  </a:xfrm>
                </p:grpSpPr>
                <p:sp>
                  <p:nvSpPr>
                    <p:cNvPr id="3293" name=""/>
                    <p:cNvSpPr/>
                    <p:nvPr/>
                  </p:nvSpPr>
                  <p:spPr>
                    <a:xfrm>
                      <a:off x="3401280" y="3678120"/>
                      <a:ext cx="79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23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5"/>
                          </a:lnTo>
                          <a:lnTo>
                            <a:pt x="4" y="7"/>
                          </a:lnTo>
                          <a:lnTo>
                            <a:pt x="4" y="10"/>
                          </a:lnTo>
                          <a:lnTo>
                            <a:pt x="4" y="11"/>
                          </a:lnTo>
                          <a:lnTo>
                            <a:pt x="4" y="14"/>
                          </a:lnTo>
                          <a:lnTo>
                            <a:pt x="4" y="16"/>
                          </a:lnTo>
                          <a:lnTo>
                            <a:pt x="4" y="18"/>
                          </a:lnTo>
                          <a:lnTo>
                            <a:pt x="4" y="19"/>
                          </a:lnTo>
                          <a:lnTo>
                            <a:pt x="4" y="21"/>
                          </a:lnTo>
                          <a:lnTo>
                            <a:pt x="4" y="22"/>
                          </a:lnTo>
                          <a:lnTo>
                            <a:pt x="4" y="20"/>
                          </a:lnTo>
                          <a:lnTo>
                            <a:pt x="3" y="17"/>
                          </a:lnTo>
                          <a:lnTo>
                            <a:pt x="2" y="15"/>
                          </a:lnTo>
                          <a:lnTo>
                            <a:pt x="2" y="12"/>
                          </a:lnTo>
                          <a:lnTo>
                            <a:pt x="1" y="9"/>
                          </a:lnTo>
                          <a:lnTo>
                            <a:pt x="1" y="7"/>
                          </a:lnTo>
                          <a:lnTo>
                            <a:pt x="0" y="5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3401280" y="3682800"/>
                      <a:ext cx="61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3404520" y="3687840"/>
                      <a:ext cx="28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"/>
                    <p:cNvSpPr/>
                    <p:nvPr/>
                  </p:nvSpPr>
                  <p:spPr>
                    <a:xfrm>
                      <a:off x="3404520" y="3694320"/>
                      <a:ext cx="2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3405960" y="36990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3407400" y="37058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9" name=""/>
                  <p:cNvGrpSpPr/>
                  <p:nvPr/>
                </p:nvGrpSpPr>
                <p:grpSpPr>
                  <a:xfrm>
                    <a:off x="3369960" y="3656880"/>
                    <a:ext cx="7920" cy="27360"/>
                    <a:chOff x="3369960" y="3656880"/>
                    <a:chExt cx="7920" cy="27360"/>
                  </a:xfrm>
                </p:grpSpPr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3371400" y="3656880"/>
                      <a:ext cx="64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7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5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3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2" y="16"/>
                          </a:lnTo>
                          <a:lnTo>
                            <a:pt x="2" y="13"/>
                          </a:lnTo>
                          <a:lnTo>
                            <a:pt x="1" y="10"/>
                          </a:lnTo>
                          <a:lnTo>
                            <a:pt x="1" y="7"/>
                          </a:lnTo>
                          <a:lnTo>
                            <a:pt x="1" y="7"/>
                          </a:lnTo>
                          <a:lnTo>
                            <a:pt x="1" y="6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01" name=""/>
                    <p:cNvGrpSpPr/>
                    <p:nvPr/>
                  </p:nvGrpSpPr>
                  <p:grpSpPr>
                    <a:xfrm>
                      <a:off x="3369960" y="3661560"/>
                      <a:ext cx="7920" cy="15840"/>
                      <a:chOff x="3369960" y="3661560"/>
                      <a:chExt cx="7920" cy="15840"/>
                    </a:xfrm>
                  </p:grpSpPr>
                  <p:sp>
                    <p:nvSpPr>
                      <p:cNvPr id="3302" name=""/>
                      <p:cNvSpPr/>
                      <p:nvPr/>
                    </p:nvSpPr>
                    <p:spPr>
                      <a:xfrm>
                        <a:off x="3369960" y="366156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3" name=""/>
                      <p:cNvSpPr/>
                      <p:nvPr/>
                    </p:nvSpPr>
                    <p:spPr>
                      <a:xfrm>
                        <a:off x="3374640" y="3661560"/>
                        <a:ext cx="32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4" name=""/>
                      <p:cNvSpPr/>
                      <p:nvPr/>
                    </p:nvSpPr>
                    <p:spPr>
                      <a:xfrm>
                        <a:off x="3369960" y="3666240"/>
                        <a:ext cx="32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5" name=""/>
                      <p:cNvSpPr/>
                      <p:nvPr/>
                    </p:nvSpPr>
                    <p:spPr>
                      <a:xfrm>
                        <a:off x="3373200" y="366804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0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6" name=""/>
                      <p:cNvSpPr/>
                      <p:nvPr/>
                    </p:nvSpPr>
                    <p:spPr>
                      <a:xfrm>
                        <a:off x="3371400" y="3675960"/>
                        <a:ext cx="5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307" name=""/>
                  <p:cNvSpPr/>
                  <p:nvPr/>
                </p:nvSpPr>
                <p:spPr>
                  <a:xfrm>
                    <a:off x="3409560" y="3735360"/>
                    <a:ext cx="1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3371400" y="3661560"/>
                    <a:ext cx="392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7">
                        <a:moveTo>
                          <a:pt x="5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7" y="5"/>
                        </a:lnTo>
                        <a:lnTo>
                          <a:pt x="17" y="7"/>
                        </a:lnTo>
                        <a:lnTo>
                          <a:pt x="17" y="10"/>
                        </a:lnTo>
                        <a:lnTo>
                          <a:pt x="17" y="12"/>
                        </a:lnTo>
                        <a:lnTo>
                          <a:pt x="17" y="16"/>
                        </a:lnTo>
                        <a:lnTo>
                          <a:pt x="18" y="20"/>
                        </a:lnTo>
                        <a:lnTo>
                          <a:pt x="20" y="24"/>
                        </a:lnTo>
                        <a:lnTo>
                          <a:pt x="21" y="27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3" y="41"/>
                        </a:lnTo>
                        <a:lnTo>
                          <a:pt x="23" y="44"/>
                        </a:lnTo>
                        <a:lnTo>
                          <a:pt x="23" y="45"/>
                        </a:lnTo>
                        <a:lnTo>
                          <a:pt x="23" y="46"/>
                        </a:lnTo>
                        <a:lnTo>
                          <a:pt x="23" y="45"/>
                        </a:lnTo>
                        <a:lnTo>
                          <a:pt x="22" y="44"/>
                        </a:lnTo>
                        <a:lnTo>
                          <a:pt x="22" y="44"/>
                        </a:lnTo>
                        <a:lnTo>
                          <a:pt x="21" y="43"/>
                        </a:lnTo>
                        <a:lnTo>
                          <a:pt x="20" y="43"/>
                        </a:lnTo>
                        <a:lnTo>
                          <a:pt x="18" y="43"/>
                        </a:lnTo>
                        <a:lnTo>
                          <a:pt x="16" y="42"/>
                        </a:lnTo>
                        <a:lnTo>
                          <a:pt x="15" y="43"/>
                        </a:lnTo>
                        <a:lnTo>
                          <a:pt x="12" y="44"/>
                        </a:lnTo>
                        <a:lnTo>
                          <a:pt x="10" y="44"/>
                        </a:lnTo>
                        <a:lnTo>
                          <a:pt x="8" y="45"/>
                        </a:lnTo>
                        <a:lnTo>
                          <a:pt x="7" y="45"/>
                        </a:lnTo>
                        <a:lnTo>
                          <a:pt x="6" y="45"/>
                        </a:lnTo>
                        <a:lnTo>
                          <a:pt x="5" y="45"/>
                        </a:lnTo>
                        <a:lnTo>
                          <a:pt x="4" y="45"/>
                        </a:lnTo>
                        <a:lnTo>
                          <a:pt x="3" y="45"/>
                        </a:lnTo>
                        <a:lnTo>
                          <a:pt x="2" y="44"/>
                        </a:lnTo>
                        <a:lnTo>
                          <a:pt x="1" y="44"/>
                        </a:lnTo>
                        <a:lnTo>
                          <a:pt x="1" y="44"/>
                        </a:lnTo>
                        <a:lnTo>
                          <a:pt x="0" y="43"/>
                        </a:lnTo>
                        <a:lnTo>
                          <a:pt x="0" y="42"/>
                        </a:lnTo>
                        <a:lnTo>
                          <a:pt x="1" y="41"/>
                        </a:lnTo>
                        <a:lnTo>
                          <a:pt x="3" y="41"/>
                        </a:lnTo>
                        <a:lnTo>
                          <a:pt x="5" y="41"/>
                        </a:lnTo>
                        <a:lnTo>
                          <a:pt x="7" y="41"/>
                        </a:lnTo>
                        <a:lnTo>
                          <a:pt x="9" y="41"/>
                        </a:lnTo>
                        <a:lnTo>
                          <a:pt x="10" y="41"/>
                        </a:lnTo>
                        <a:lnTo>
                          <a:pt x="10" y="39"/>
                        </a:lnTo>
                        <a:lnTo>
                          <a:pt x="10" y="37"/>
                        </a:lnTo>
                        <a:lnTo>
                          <a:pt x="9" y="33"/>
                        </a:lnTo>
                        <a:lnTo>
                          <a:pt x="8" y="30"/>
                        </a:lnTo>
                        <a:lnTo>
                          <a:pt x="7" y="24"/>
                        </a:lnTo>
                        <a:lnTo>
                          <a:pt x="6" y="21"/>
                        </a:lnTo>
                        <a:lnTo>
                          <a:pt x="4" y="17"/>
                        </a:lnTo>
                        <a:lnTo>
                          <a:pt x="3" y="15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09" name=""/>
                  <p:cNvGrpSpPr/>
                  <p:nvPr/>
                </p:nvGrpSpPr>
                <p:grpSpPr>
                  <a:xfrm>
                    <a:off x="3378240" y="3665160"/>
                    <a:ext cx="32040" cy="63360"/>
                    <a:chOff x="3378240" y="3665160"/>
                    <a:chExt cx="32040" cy="63360"/>
                  </a:xfrm>
                </p:grpSpPr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3378240" y="3674520"/>
                      <a:ext cx="226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9" y="2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3" y="6"/>
                          </a:lnTo>
                          <a:lnTo>
                            <a:pt x="12" y="6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3378240" y="3684600"/>
                      <a:ext cx="24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10" y="2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1" y="4"/>
                          </a:lnTo>
                          <a:lnTo>
                            <a:pt x="10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3381480" y="3696120"/>
                      <a:ext cx="24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6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2" y="4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3382920" y="3705840"/>
                      <a:ext cx="259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8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7" y="0"/>
                          </a:lnTo>
                          <a:lnTo>
                            <a:pt x="8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4"/>
                          </a:lnTo>
                          <a:lnTo>
                            <a:pt x="14" y="4"/>
                          </a:lnTo>
                          <a:lnTo>
                            <a:pt x="15" y="7"/>
                          </a:lnTo>
                          <a:lnTo>
                            <a:pt x="14" y="6"/>
                          </a:lnTo>
                          <a:lnTo>
                            <a:pt x="13" y="6"/>
                          </a:lnTo>
                          <a:lnTo>
                            <a:pt x="11" y="4"/>
                          </a:lnTo>
                          <a:lnTo>
                            <a:pt x="10" y="4"/>
                          </a:lnTo>
                          <a:lnTo>
                            <a:pt x="8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"/>
                    <p:cNvSpPr/>
                    <p:nvPr/>
                  </p:nvSpPr>
                  <p:spPr>
                    <a:xfrm>
                      <a:off x="3389400" y="3718800"/>
                      <a:ext cx="208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6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8" y="1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3"/>
                          </a:lnTo>
                          <a:lnTo>
                            <a:pt x="12" y="3"/>
                          </a:lnTo>
                          <a:lnTo>
                            <a:pt x="12" y="4"/>
                          </a:lnTo>
                          <a:lnTo>
                            <a:pt x="12" y="5"/>
                          </a:lnTo>
                          <a:lnTo>
                            <a:pt x="11" y="5"/>
                          </a:lnTo>
                          <a:lnTo>
                            <a:pt x="10" y="4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3379680" y="3665160"/>
                      <a:ext cx="194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7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7" y="1"/>
                          </a:lnTo>
                          <a:lnTo>
                            <a:pt x="8" y="2"/>
                          </a:lnTo>
                          <a:lnTo>
                            <a:pt x="10" y="3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5"/>
                          </a:lnTo>
                          <a:lnTo>
                            <a:pt x="11" y="6"/>
                          </a:lnTo>
                          <a:lnTo>
                            <a:pt x="10" y="5"/>
                          </a:lnTo>
                          <a:lnTo>
                            <a:pt x="9" y="5"/>
                          </a:lnTo>
                          <a:lnTo>
                            <a:pt x="7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3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16" name=""/>
                  <p:cNvSpPr/>
                  <p:nvPr/>
                </p:nvSpPr>
                <p:spPr>
                  <a:xfrm>
                    <a:off x="3371400" y="3718800"/>
                    <a:ext cx="162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6" y="3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8" y="7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6" y="7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3371400" y="37188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3327480" y="3660120"/>
                    <a:ext cx="115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5">
                        <a:moveTo>
                          <a:pt x="4" y="0"/>
                        </a:moveTo>
                        <a:lnTo>
                          <a:pt x="2" y="5"/>
                        </a:lnTo>
                        <a:lnTo>
                          <a:pt x="1" y="8"/>
                        </a:lnTo>
                        <a:lnTo>
                          <a:pt x="1" y="11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4"/>
                        </a:lnTo>
                        <a:lnTo>
                          <a:pt x="2" y="38"/>
                        </a:lnTo>
                        <a:lnTo>
                          <a:pt x="4" y="44"/>
                        </a:lnTo>
                        <a:lnTo>
                          <a:pt x="4" y="48"/>
                        </a:lnTo>
                        <a:lnTo>
                          <a:pt x="4" y="51"/>
                        </a:lnTo>
                        <a:lnTo>
                          <a:pt x="5" y="54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5" y="45"/>
                        </a:lnTo>
                        <a:lnTo>
                          <a:pt x="5" y="43"/>
                        </a:lnTo>
                        <a:lnTo>
                          <a:pt x="4" y="40"/>
                        </a:lnTo>
                        <a:lnTo>
                          <a:pt x="3" y="36"/>
                        </a:lnTo>
                        <a:lnTo>
                          <a:pt x="2" y="33"/>
                        </a:lnTo>
                        <a:lnTo>
                          <a:pt x="2" y="30"/>
                        </a:lnTo>
                        <a:lnTo>
                          <a:pt x="1" y="27"/>
                        </a:lnTo>
                        <a:lnTo>
                          <a:pt x="1" y="23"/>
                        </a:lnTo>
                        <a:lnTo>
                          <a:pt x="1" y="18"/>
                        </a:lnTo>
                        <a:lnTo>
                          <a:pt x="1" y="14"/>
                        </a:lnTo>
                        <a:lnTo>
                          <a:pt x="1" y="10"/>
                        </a:lnTo>
                        <a:lnTo>
                          <a:pt x="2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19" name=""/>
                  <p:cNvGrpSpPr/>
                  <p:nvPr/>
                </p:nvGrpSpPr>
                <p:grpSpPr>
                  <a:xfrm>
                    <a:off x="3329280" y="3638880"/>
                    <a:ext cx="9360" cy="11160"/>
                    <a:chOff x="3329280" y="3638880"/>
                    <a:chExt cx="9360" cy="11160"/>
                  </a:xfrm>
                </p:grpSpPr>
                <p:grpSp>
                  <p:nvGrpSpPr>
                    <p:cNvPr id="3320" name=""/>
                    <p:cNvGrpSpPr/>
                    <p:nvPr/>
                  </p:nvGrpSpPr>
                  <p:grpSpPr>
                    <a:xfrm>
                      <a:off x="3329280" y="3638880"/>
                      <a:ext cx="9360" cy="11160"/>
                      <a:chOff x="3329280" y="3638880"/>
                      <a:chExt cx="9360" cy="11160"/>
                    </a:xfrm>
                  </p:grpSpPr>
                  <p:sp>
                    <p:nvSpPr>
                      <p:cNvPr id="3321" name=""/>
                      <p:cNvSpPr/>
                      <p:nvPr/>
                    </p:nvSpPr>
                    <p:spPr>
                      <a:xfrm>
                        <a:off x="3329280" y="3642120"/>
                        <a:ext cx="93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2" name=""/>
                      <p:cNvSpPr/>
                      <p:nvPr/>
                    </p:nvSpPr>
                    <p:spPr>
                      <a:xfrm>
                        <a:off x="3330720" y="3646800"/>
                        <a:ext cx="32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2">
                            <a:moveTo>
                              <a:pt x="1" y="1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3" name=""/>
                      <p:cNvSpPr/>
                      <p:nvPr/>
                    </p:nvSpPr>
                    <p:spPr>
                      <a:xfrm>
                        <a:off x="3332520" y="3638880"/>
                        <a:ext cx="612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4">
                            <a:moveTo>
                              <a:pt x="3" y="0"/>
                            </a:move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3"/>
                            </a:lnTo>
                            <a:lnTo>
                              <a:pt x="3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3329280" y="3642120"/>
                      <a:ext cx="9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1"/>
                          </a:lnTo>
                          <a:lnTo>
                            <a:pt x="5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5" name=""/>
                  <p:cNvSpPr/>
                  <p:nvPr/>
                </p:nvSpPr>
                <p:spPr>
                  <a:xfrm>
                    <a:off x="3337200" y="3684600"/>
                    <a:ext cx="504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6">
                        <a:moveTo>
                          <a:pt x="2" y="1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5" y="1"/>
                        </a:lnTo>
                        <a:lnTo>
                          <a:pt x="17" y="2"/>
                        </a:lnTo>
                        <a:lnTo>
                          <a:pt x="19" y="3"/>
                        </a:lnTo>
                        <a:lnTo>
                          <a:pt x="21" y="4"/>
                        </a:lnTo>
                        <a:lnTo>
                          <a:pt x="23" y="5"/>
                        </a:lnTo>
                        <a:lnTo>
                          <a:pt x="24" y="6"/>
                        </a:lnTo>
                        <a:lnTo>
                          <a:pt x="25" y="7"/>
                        </a:lnTo>
                        <a:lnTo>
                          <a:pt x="26" y="11"/>
                        </a:lnTo>
                        <a:lnTo>
                          <a:pt x="27" y="14"/>
                        </a:lnTo>
                        <a:lnTo>
                          <a:pt x="28" y="17"/>
                        </a:lnTo>
                        <a:lnTo>
                          <a:pt x="29" y="22"/>
                        </a:lnTo>
                        <a:lnTo>
                          <a:pt x="30" y="25"/>
                        </a:lnTo>
                        <a:lnTo>
                          <a:pt x="30" y="25"/>
                        </a:lnTo>
                        <a:lnTo>
                          <a:pt x="29" y="24"/>
                        </a:lnTo>
                        <a:lnTo>
                          <a:pt x="28" y="23"/>
                        </a:lnTo>
                        <a:lnTo>
                          <a:pt x="27" y="22"/>
                        </a:lnTo>
                        <a:lnTo>
                          <a:pt x="23" y="21"/>
                        </a:lnTo>
                        <a:lnTo>
                          <a:pt x="21" y="20"/>
                        </a:lnTo>
                        <a:lnTo>
                          <a:pt x="19" y="19"/>
                        </a:lnTo>
                        <a:lnTo>
                          <a:pt x="17" y="19"/>
                        </a:lnTo>
                        <a:lnTo>
                          <a:pt x="15" y="19"/>
                        </a:lnTo>
                        <a:lnTo>
                          <a:pt x="12" y="19"/>
                        </a:lnTo>
                        <a:lnTo>
                          <a:pt x="10" y="19"/>
                        </a:lnTo>
                        <a:lnTo>
                          <a:pt x="7" y="19"/>
                        </a:lnTo>
                        <a:lnTo>
                          <a:pt x="5" y="20"/>
                        </a:ln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2"/>
                        </a:lnTo>
                        <a:lnTo>
                          <a:pt x="1" y="14"/>
                        </a:lnTo>
                        <a:lnTo>
                          <a:pt x="2" y="9"/>
                        </a:lnTo>
                        <a:lnTo>
                          <a:pt x="2" y="4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26" name=""/>
                  <p:cNvGrpSpPr/>
                  <p:nvPr/>
                </p:nvGrpSpPr>
                <p:grpSpPr>
                  <a:xfrm>
                    <a:off x="3337200" y="3676680"/>
                    <a:ext cx="48600" cy="43560"/>
                    <a:chOff x="3337200" y="3676680"/>
                    <a:chExt cx="48600" cy="43560"/>
                  </a:xfrm>
                </p:grpSpPr>
                <p:sp>
                  <p:nvSpPr>
                    <p:cNvPr id="3327" name=""/>
                    <p:cNvSpPr/>
                    <p:nvPr/>
                  </p:nvSpPr>
                  <p:spPr>
                    <a:xfrm>
                      <a:off x="3340440" y="3676680"/>
                      <a:ext cx="388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">
                          <a:moveTo>
                            <a:pt x="0" y="1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  <a:lnTo>
                            <a:pt x="8" y="0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lnTo>
                            <a:pt x="17" y="3"/>
                          </a:lnTo>
                          <a:lnTo>
                            <a:pt x="19" y="4"/>
                          </a:lnTo>
                          <a:lnTo>
                            <a:pt x="20" y="4"/>
                          </a:lnTo>
                          <a:lnTo>
                            <a:pt x="21" y="5"/>
                          </a:lnTo>
                          <a:lnTo>
                            <a:pt x="21" y="6"/>
                          </a:lnTo>
                          <a:lnTo>
                            <a:pt x="23" y="9"/>
                          </a:lnTo>
                          <a:lnTo>
                            <a:pt x="22" y="8"/>
                          </a:lnTo>
                          <a:lnTo>
                            <a:pt x="19" y="7"/>
                          </a:lnTo>
                          <a:lnTo>
                            <a:pt x="17" y="5"/>
                          </a:lnTo>
                          <a:lnTo>
                            <a:pt x="15" y="4"/>
                          </a:lnTo>
                          <a:lnTo>
                            <a:pt x="14" y="4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5" y="3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3338640" y="3689280"/>
                      <a:ext cx="4392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1">
                          <a:moveTo>
                            <a:pt x="1" y="1"/>
                          </a:moveTo>
                          <a:lnTo>
                            <a:pt x="3" y="1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5" y="2"/>
                          </a:lnTo>
                          <a:lnTo>
                            <a:pt x="17" y="3"/>
                          </a:lnTo>
                          <a:lnTo>
                            <a:pt x="19" y="3"/>
                          </a:lnTo>
                          <a:lnTo>
                            <a:pt x="20" y="4"/>
                          </a:lnTo>
                          <a:lnTo>
                            <a:pt x="22" y="5"/>
                          </a:lnTo>
                          <a:lnTo>
                            <a:pt x="23" y="5"/>
                          </a:lnTo>
                          <a:lnTo>
                            <a:pt x="24" y="6"/>
                          </a:lnTo>
                          <a:lnTo>
                            <a:pt x="25" y="7"/>
                          </a:lnTo>
                          <a:lnTo>
                            <a:pt x="26" y="10"/>
                          </a:lnTo>
                          <a:lnTo>
                            <a:pt x="24" y="9"/>
                          </a:lnTo>
                          <a:lnTo>
                            <a:pt x="22" y="8"/>
                          </a:lnTo>
                          <a:lnTo>
                            <a:pt x="20" y="7"/>
                          </a:lnTo>
                          <a:lnTo>
                            <a:pt x="19" y="6"/>
                          </a:lnTo>
                          <a:lnTo>
                            <a:pt x="17" y="5"/>
                          </a:lnTo>
                          <a:lnTo>
                            <a:pt x="13" y="4"/>
                          </a:lnTo>
                          <a:lnTo>
                            <a:pt x="10" y="3"/>
                          </a:lnTo>
                          <a:lnTo>
                            <a:pt x="7" y="3"/>
                          </a:lnTo>
                          <a:lnTo>
                            <a:pt x="4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3337200" y="3702240"/>
                      <a:ext cx="4860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1">
                          <a:moveTo>
                            <a:pt x="0" y="1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1"/>
                          </a:lnTo>
                          <a:lnTo>
                            <a:pt x="20" y="3"/>
                          </a:lnTo>
                          <a:lnTo>
                            <a:pt x="23" y="4"/>
                          </a:lnTo>
                          <a:lnTo>
                            <a:pt x="26" y="5"/>
                          </a:lnTo>
                          <a:lnTo>
                            <a:pt x="28" y="6"/>
                          </a:lnTo>
                          <a:lnTo>
                            <a:pt x="29" y="10"/>
                          </a:lnTo>
                          <a:lnTo>
                            <a:pt x="27" y="9"/>
                          </a:lnTo>
                          <a:lnTo>
                            <a:pt x="25" y="8"/>
                          </a:lnTo>
                          <a:lnTo>
                            <a:pt x="23" y="7"/>
                          </a:lnTo>
                          <a:lnTo>
                            <a:pt x="21" y="6"/>
                          </a:lnTo>
                          <a:lnTo>
                            <a:pt x="19" y="5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3"/>
                          </a:lnTo>
                          <a:lnTo>
                            <a:pt x="6" y="3"/>
                          </a:lnTo>
                          <a:lnTo>
                            <a:pt x="3" y="4"/>
                          </a:lnTo>
                          <a:lnTo>
                            <a:pt x="0" y="5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30" name=""/>
                  <p:cNvSpPr/>
                  <p:nvPr/>
                </p:nvSpPr>
                <p:spPr>
                  <a:xfrm>
                    <a:off x="3335400" y="3646800"/>
                    <a:ext cx="392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0" y="4"/>
                        </a:move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7" y="2"/>
                        </a:lnTo>
                        <a:lnTo>
                          <a:pt x="18" y="3"/>
                        </a:lnTo>
                        <a:lnTo>
                          <a:pt x="19" y="4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9" y="7"/>
                        </a:lnTo>
                        <a:lnTo>
                          <a:pt x="20" y="10"/>
                        </a:lnTo>
                        <a:lnTo>
                          <a:pt x="20" y="13"/>
                        </a:lnTo>
                        <a:lnTo>
                          <a:pt x="21" y="17"/>
                        </a:lnTo>
                        <a:lnTo>
                          <a:pt x="22" y="20"/>
                        </a:lnTo>
                        <a:lnTo>
                          <a:pt x="23" y="23"/>
                        </a:lnTo>
                        <a:lnTo>
                          <a:pt x="23" y="24"/>
                        </a:lnTo>
                        <a:lnTo>
                          <a:pt x="22" y="23"/>
                        </a:lnTo>
                        <a:lnTo>
                          <a:pt x="21" y="21"/>
                        </a:lnTo>
                        <a:lnTo>
                          <a:pt x="19" y="20"/>
                        </a:lnTo>
                        <a:lnTo>
                          <a:pt x="17" y="19"/>
                        </a:lnTo>
                        <a:lnTo>
                          <a:pt x="15" y="17"/>
                        </a:lnTo>
                        <a:lnTo>
                          <a:pt x="13" y="17"/>
                        </a:lnTo>
                        <a:lnTo>
                          <a:pt x="11" y="17"/>
                        </a:lnTo>
                        <a:lnTo>
                          <a:pt x="9" y="17"/>
                        </a:lnTo>
                        <a:lnTo>
                          <a:pt x="7" y="17"/>
                        </a:lnTo>
                        <a:lnTo>
                          <a:pt x="4" y="17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3" y="15"/>
                        </a:lnTo>
                        <a:lnTo>
                          <a:pt x="2" y="12"/>
                        </a:lnTo>
                        <a:lnTo>
                          <a:pt x="1" y="9"/>
                        </a:lnTo>
                        <a:lnTo>
                          <a:pt x="1" y="7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31" name=""/>
                  <p:cNvGrpSpPr/>
                  <p:nvPr/>
                </p:nvGrpSpPr>
                <p:grpSpPr>
                  <a:xfrm>
                    <a:off x="3337200" y="3646800"/>
                    <a:ext cx="35640" cy="32400"/>
                    <a:chOff x="3337200" y="3646800"/>
                    <a:chExt cx="35640" cy="32400"/>
                  </a:xfrm>
                </p:grpSpPr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3337200" y="3653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3341880" y="36486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3337200" y="36565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3348360" y="36468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3337200" y="36612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3341880" y="36612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3353400" y="36468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3348360" y="3653280"/>
                      <a:ext cx="2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3350160" y="36597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3353400" y="365328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3359520" y="36486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3359520" y="365472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3354840" y="36612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3361680" y="3661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3338640" y="3666240"/>
                      <a:ext cx="32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"/>
                    <p:cNvSpPr/>
                    <p:nvPr/>
                  </p:nvSpPr>
                  <p:spPr>
                    <a:xfrm>
                      <a:off x="3340440" y="367272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3345120" y="36727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3343320" y="36648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"/>
                    <p:cNvSpPr/>
                    <p:nvPr/>
                  </p:nvSpPr>
                  <p:spPr>
                    <a:xfrm>
                      <a:off x="3351600" y="3664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"/>
                    <p:cNvSpPr/>
                    <p:nvPr/>
                  </p:nvSpPr>
                  <p:spPr>
                    <a:xfrm>
                      <a:off x="3351600" y="36727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"/>
                    <p:cNvSpPr/>
                    <p:nvPr/>
                  </p:nvSpPr>
                  <p:spPr>
                    <a:xfrm>
                      <a:off x="3356640" y="36662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"/>
                    <p:cNvSpPr/>
                    <p:nvPr/>
                  </p:nvSpPr>
                  <p:spPr>
                    <a:xfrm>
                      <a:off x="3356640" y="367272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"/>
                    <p:cNvSpPr/>
                    <p:nvPr/>
                  </p:nvSpPr>
                  <p:spPr>
                    <a:xfrm>
                      <a:off x="3361680" y="366624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"/>
                    <p:cNvSpPr/>
                    <p:nvPr/>
                  </p:nvSpPr>
                  <p:spPr>
                    <a:xfrm>
                      <a:off x="3363120" y="367416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"/>
                    <p:cNvSpPr/>
                    <p:nvPr/>
                  </p:nvSpPr>
                  <p:spPr>
                    <a:xfrm>
                      <a:off x="3371040" y="367740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"/>
                    <p:cNvSpPr/>
                    <p:nvPr/>
                  </p:nvSpPr>
                  <p:spPr>
                    <a:xfrm>
                      <a:off x="3366360" y="36518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3366360" y="36565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3366360" y="366120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3366360" y="366804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3366360" y="367596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3341880" y="3654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3" name=""/>
                  <p:cNvGrpSpPr/>
                  <p:nvPr/>
                </p:nvGrpSpPr>
                <p:grpSpPr>
                  <a:xfrm>
                    <a:off x="3330720" y="3653640"/>
                    <a:ext cx="7920" cy="68040"/>
                    <a:chOff x="3330720" y="3653640"/>
                    <a:chExt cx="7920" cy="68040"/>
                  </a:xfrm>
                </p:grpSpPr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3330720" y="3655080"/>
                      <a:ext cx="79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1">
                          <a:moveTo>
                            <a:pt x="2" y="0"/>
                          </a:moveTo>
                          <a:lnTo>
                            <a:pt x="3" y="2"/>
                          </a:lnTo>
                          <a:lnTo>
                            <a:pt x="3" y="4"/>
                          </a:lnTo>
                          <a:lnTo>
                            <a:pt x="3" y="6"/>
                          </a:lnTo>
                          <a:lnTo>
                            <a:pt x="4" y="7"/>
                          </a:lnTo>
                          <a:lnTo>
                            <a:pt x="4" y="11"/>
                          </a:lnTo>
                          <a:lnTo>
                            <a:pt x="4" y="15"/>
                          </a:lnTo>
                          <a:lnTo>
                            <a:pt x="4" y="20"/>
                          </a:lnTo>
                          <a:lnTo>
                            <a:pt x="4" y="23"/>
                          </a:lnTo>
                          <a:lnTo>
                            <a:pt x="4" y="27"/>
                          </a:lnTo>
                          <a:lnTo>
                            <a:pt x="3" y="32"/>
                          </a:lnTo>
                          <a:lnTo>
                            <a:pt x="3" y="37"/>
                          </a:lnTo>
                          <a:lnTo>
                            <a:pt x="2" y="39"/>
                          </a:lnTo>
                          <a:lnTo>
                            <a:pt x="0" y="40"/>
                          </a:lnTo>
                          <a:lnTo>
                            <a:pt x="1" y="35"/>
                          </a:lnTo>
                          <a:lnTo>
                            <a:pt x="2" y="30"/>
                          </a:lnTo>
                          <a:lnTo>
                            <a:pt x="3" y="26"/>
                          </a:lnTo>
                          <a:lnTo>
                            <a:pt x="3" y="22"/>
                          </a:lnTo>
                          <a:lnTo>
                            <a:pt x="3" y="18"/>
                          </a:lnTo>
                          <a:lnTo>
                            <a:pt x="3" y="14"/>
                          </a:lnTo>
                          <a:lnTo>
                            <a:pt x="3" y="9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"/>
                    <p:cNvSpPr/>
                    <p:nvPr/>
                  </p:nvSpPr>
                  <p:spPr>
                    <a:xfrm>
                      <a:off x="3332520" y="3653640"/>
                      <a:ext cx="144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6" name=""/>
                    <p:cNvSpPr/>
                    <p:nvPr/>
                  </p:nvSpPr>
                  <p:spPr>
                    <a:xfrm>
                      <a:off x="3330720" y="3717000"/>
                      <a:ext cx="1800" cy="1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7" name=""/>
                  <p:cNvGrpSpPr/>
                  <p:nvPr/>
                </p:nvGrpSpPr>
                <p:grpSpPr>
                  <a:xfrm>
                    <a:off x="3330720" y="3652200"/>
                    <a:ext cx="3240" cy="115560"/>
                    <a:chOff x="3330720" y="3652200"/>
                    <a:chExt cx="3240" cy="115560"/>
                  </a:xfrm>
                </p:grpSpPr>
                <p:sp>
                  <p:nvSpPr>
                    <p:cNvPr id="3368" name=""/>
                    <p:cNvSpPr/>
                    <p:nvPr/>
                  </p:nvSpPr>
                  <p:spPr>
                    <a:xfrm>
                      <a:off x="3330720" y="3652200"/>
                      <a:ext cx="18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9" name=""/>
                    <p:cNvSpPr/>
                    <p:nvPr/>
                  </p:nvSpPr>
                  <p:spPr>
                    <a:xfrm>
                      <a:off x="3330720" y="3652200"/>
                      <a:ext cx="324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71">
                          <a:moveTo>
                            <a:pt x="0" y="0"/>
                          </a:move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70" name=""/>
                <p:cNvGrpSpPr/>
                <p:nvPr/>
              </p:nvGrpSpPr>
              <p:grpSpPr>
                <a:xfrm>
                  <a:off x="3390120" y="3749040"/>
                  <a:ext cx="43920" cy="22320"/>
                  <a:chOff x="3390120" y="3749040"/>
                  <a:chExt cx="43920" cy="22320"/>
                </a:xfrm>
              </p:grpSpPr>
              <p:sp>
                <p:nvSpPr>
                  <p:cNvPr id="3371" name=""/>
                  <p:cNvSpPr/>
                  <p:nvPr/>
                </p:nvSpPr>
                <p:spPr>
                  <a:xfrm>
                    <a:off x="3407760" y="374904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4">
                        <a:moveTo>
                          <a:pt x="3" y="0"/>
                        </a:moveTo>
                        <a:lnTo>
                          <a:pt x="4" y="2"/>
                        </a:lnTo>
                        <a:lnTo>
                          <a:pt x="4" y="12"/>
                        </a:lnTo>
                        <a:lnTo>
                          <a:pt x="3" y="13"/>
                        </a:lnTo>
                        <a:lnTo>
                          <a:pt x="1" y="13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3390120" y="3749040"/>
                    <a:ext cx="93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5" y="13"/>
                        </a:lnTo>
                        <a:lnTo>
                          <a:pt x="5" y="11"/>
                        </a:lnTo>
                        <a:lnTo>
                          <a:pt x="2" y="11"/>
                        </a:ln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3426120" y="374904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">
                        <a:moveTo>
                          <a:pt x="2" y="2"/>
                        </a:move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9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374" name="" descr=""/>
            <p:cNvPicPr/>
            <p:nvPr/>
          </p:nvPicPr>
          <p:blipFill>
            <a:blip r:embed="rId1"/>
            <a:stretch/>
          </p:blipFill>
          <p:spPr>
            <a:xfrm>
              <a:off x="3905640" y="3524040"/>
              <a:ext cx="109044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5" name="" descr=""/>
            <p:cNvPicPr/>
            <p:nvPr/>
          </p:nvPicPr>
          <p:blipFill>
            <a:blip r:embed="rId2"/>
            <a:stretch/>
          </p:blipFill>
          <p:spPr>
            <a:xfrm>
              <a:off x="5373000" y="3484440"/>
              <a:ext cx="12909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6" name=""/>
            <p:cNvSpPr/>
            <p:nvPr/>
          </p:nvSpPr>
          <p:spPr>
            <a:xfrm>
              <a:off x="2157480" y="3408840"/>
              <a:ext cx="1332000" cy="97056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2168640" y="3356280"/>
              <a:ext cx="1373760" cy="10015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773880" y="3394080"/>
              <a:ext cx="1332360" cy="97056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3785040" y="3341520"/>
              <a:ext cx="1373400" cy="100188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912-E2E0-4DCF-BEB6-ED20E13B2911}" type="slidenum">
              <a:t>133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380360" cy="1519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ree-Dimensional Incentive Compatible Mechanism 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956160" y="4280040"/>
            <a:ext cx="199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b-Add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241200" y="506556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241200" y="5562720"/>
            <a:ext cx="662040" cy="48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41200" y="606096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233960" y="2936880"/>
            <a:ext cx="1333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on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162240" y="3724200"/>
            <a:ext cx="662040" cy="482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3162240" y="4221000"/>
            <a:ext cx="6620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3162240" y="4719600"/>
            <a:ext cx="662040" cy="482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3832200" y="3332160"/>
            <a:ext cx="7286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832200" y="3724200"/>
            <a:ext cx="72864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4573440" y="3724200"/>
            <a:ext cx="72576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832200" y="4221000"/>
            <a:ext cx="7286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573440" y="4221000"/>
            <a:ext cx="72576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3832200" y="4719600"/>
            <a:ext cx="72864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573440" y="4719600"/>
            <a:ext cx="725760" cy="48276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573440" y="3332160"/>
            <a:ext cx="72576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5221440" y="434952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311800" y="3724200"/>
            <a:ext cx="727200" cy="48276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311800" y="4221000"/>
            <a:ext cx="72720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311800" y="4719600"/>
            <a:ext cx="727200" cy="48276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311800" y="3332160"/>
            <a:ext cx="72720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3827160" y="4937040"/>
            <a:ext cx="261720" cy="23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5224320" y="50594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5946840" y="437040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3827160" y="3943440"/>
            <a:ext cx="26964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3828960" y="4390920"/>
            <a:ext cx="255600" cy="28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915840" y="4675320"/>
            <a:ext cx="72576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915840" y="50655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654200" y="5065560"/>
            <a:ext cx="72540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915840" y="5562720"/>
            <a:ext cx="725760" cy="48564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654200" y="5562720"/>
            <a:ext cx="725400" cy="4856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15840" y="60609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654200" y="6060960"/>
            <a:ext cx="725400" cy="4842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880" rIns="47880" tIns="24840" bIns="248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/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654200" y="4675320"/>
            <a:ext cx="72540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2282760" y="5692680"/>
            <a:ext cx="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392200" y="50655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392200" y="5562720"/>
            <a:ext cx="725760" cy="4856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392200" y="6060960"/>
            <a:ext cx="725760" cy="4842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2392200" y="4675320"/>
            <a:ext cx="725760" cy="377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967120" y="574668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235240" y="529596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1344240" y="6089760"/>
            <a:ext cx="28404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1365120" y="55764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1352160" y="508968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996960" y="1771560"/>
            <a:ext cx="13701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3040" bIns="23040" anchor="t">
            <a:spAutoFit/>
          </a:bodyPr>
          <a:p>
            <a:pPr algn="r" rtl="1">
              <a:lnSpc>
                <a:spcPct val="85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070680" y="2556000"/>
            <a:ext cx="6602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070680" y="3052800"/>
            <a:ext cx="660240" cy="4842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/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070680" y="3551400"/>
            <a:ext cx="660240" cy="482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738840" y="2163600"/>
            <a:ext cx="7286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738840" y="2556000"/>
            <a:ext cx="72864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7481880" y="2556000"/>
            <a:ext cx="72396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738840" y="3052800"/>
            <a:ext cx="7286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7481880" y="3052800"/>
            <a:ext cx="72396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738840" y="3551400"/>
            <a:ext cx="728640" cy="48240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7481880" y="3551400"/>
            <a:ext cx="72396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7481880" y="2163600"/>
            <a:ext cx="72396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8220240" y="2556000"/>
            <a:ext cx="72684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8220240" y="3052800"/>
            <a:ext cx="726840" cy="4842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8220240" y="3551400"/>
            <a:ext cx="726840" cy="482400"/>
          </a:xfrm>
          <a:prstGeom prst="rect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8220240" y="2163600"/>
            <a:ext cx="726840" cy="378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23040" bIns="2304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6734160" y="3762360"/>
            <a:ext cx="27000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 flipH="1">
            <a:off x="6734160" y="2782800"/>
            <a:ext cx="263520" cy="23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6762600" y="3236400"/>
            <a:ext cx="2574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7504200" y="373032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7507440" y="323640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8248680" y="323640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8248680" y="3716280"/>
            <a:ext cx="257040" cy="28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5013360" y="42336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5749920" y="423360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5019840" y="473364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5756400" y="4739760"/>
            <a:ext cx="25704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H="1">
            <a:off x="4576320" y="3951360"/>
            <a:ext cx="257400" cy="23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H="1">
            <a:off x="5313240" y="3936960"/>
            <a:ext cx="27000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4289400" y="4239720"/>
            <a:ext cx="255600" cy="28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2095200" y="508320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H="1">
            <a:off x="2831760" y="5083200"/>
            <a:ext cx="28260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 flipH="1">
            <a:off x="4271760" y="4746600"/>
            <a:ext cx="28404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013-3CAB-41F0-A318-D98C9416A60A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854000" y="555480"/>
            <a:ext cx="508788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85320" y="1981080"/>
            <a:ext cx="8913960" cy="443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itions Formations: Shehory, Sand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design:Ephrati, Kraus, Tennenhol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odels of negotiation: Sycara, Durfee, Lesser, Gasser, Gmytrasiewicz,  Jen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nsus mechanisms, voting techniques, economic models: Ephrati, Wellman, Sand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030-D040-4038-8E81-657EDA91DBC8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2606760" y="496440"/>
            <a:ext cx="3557520" cy="63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637920" y="1941480"/>
            <a:ext cx="5360760" cy="443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ropriately adjust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s of encou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which agents must interact, we can influence the private strategies that designers build into thei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action mechanism should ensur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ulti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229440" y="2579760"/>
            <a:ext cx="2165400" cy="883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s of Encou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229440" y="5106960"/>
            <a:ext cx="2165400" cy="46836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EBC-B560-42D5-BC7E-65CC34214881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38280" y="1941120"/>
            <a:ext cx="5597280" cy="441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intain efficiency over time of dynamic multi-agent systems, the rules must als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formal tools enables the design of efficient and stable mechanisms, and the precise characterization of thei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465960" y="2422440"/>
            <a:ext cx="2165400" cy="46836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6465960" y="4336920"/>
            <a:ext cx="2165400" cy="883800"/>
          </a:xfrm>
          <a:prstGeom prst="rect">
            <a:avLst/>
          </a:prstGeom>
          <a:gradFill rotWithShape="0">
            <a:gsLst>
              <a:gs pos="0">
                <a:srgbClr val="042aa1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880" rIns="65880" tIns="26280" bIns="26280" anchor="t">
            <a:spAutoFit/>
          </a:bodyPr>
          <a:p>
            <a:pPr marL="236520" indent="-236520" algn="ctr" rtl="1">
              <a:lnSpc>
                <a:spcPct val="88000"/>
              </a:lnSpc>
              <a:spcBef>
                <a:spcPts val="166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ormal T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AAB-1334-4530-8C82-6981D5520F48}" type="slidenum">
              <a:t>137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479840" y="4226040"/>
            <a:ext cx="973080" cy="420480"/>
          </a:xfrm>
          <a:prstGeom prst="plus">
            <a:avLst>
              <a:gd name="adj" fmla="val 24995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0080" y="3100320"/>
            <a:ext cx="1960560" cy="1249560"/>
          </a:xfrm>
          <a:custGeom>
            <a:avLst/>
            <a:gdLst>
              <a:gd name="textAreaLeft" fmla="*/ 447480 w 1960560"/>
              <a:gd name="textAreaRight" fmla="*/ 1513080 w 1960560"/>
              <a:gd name="textAreaTop" fmla="*/ 285120 h 1249560"/>
              <a:gd name="textAreaBottom" fmla="*/ 96444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25480" y="0"/>
            <a:ext cx="755640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st Bid Wins, Gets Second Pri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38280" y="1862280"/>
            <a:ext cx="7710480" cy="109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hooses carrier with lowest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rier gets amount of second-best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271680" y="4803840"/>
            <a:ext cx="2547000" cy="1695960"/>
            <a:chOff x="3271680" y="4803840"/>
            <a:chExt cx="2547000" cy="1695960"/>
          </a:xfrm>
        </p:grpSpPr>
        <p:grpSp>
          <p:nvGrpSpPr>
            <p:cNvPr id="955" name=""/>
            <p:cNvGrpSpPr/>
            <p:nvPr/>
          </p:nvGrpSpPr>
          <p:grpSpPr>
            <a:xfrm>
              <a:off x="5630400" y="6192720"/>
              <a:ext cx="180000" cy="307080"/>
              <a:chOff x="5630400" y="6192720"/>
              <a:chExt cx="180000" cy="30708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5630400" y="6416280"/>
                <a:ext cx="145440" cy="83520"/>
                <a:chOff x="5630400" y="6416280"/>
                <a:chExt cx="145440" cy="835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685840" y="6445440"/>
                  <a:ext cx="90000" cy="5076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10" y="3"/>
                      </a:move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3" y="23"/>
                      </a:lnTo>
                      <a:lnTo>
                        <a:pt x="13" y="28"/>
                      </a:lnTo>
                      <a:lnTo>
                        <a:pt x="17" y="30"/>
                      </a:lnTo>
                      <a:lnTo>
                        <a:pt x="24" y="30"/>
                      </a:lnTo>
                      <a:lnTo>
                        <a:pt x="29" y="30"/>
                      </a:lnTo>
                      <a:lnTo>
                        <a:pt x="35" y="29"/>
                      </a:lnTo>
                      <a:lnTo>
                        <a:pt x="40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1" y="21"/>
                      </a:lnTo>
                      <a:lnTo>
                        <a:pt x="52" y="19"/>
                      </a:lnTo>
                      <a:lnTo>
                        <a:pt x="53" y="15"/>
                      </a:lnTo>
                      <a:lnTo>
                        <a:pt x="54" y="9"/>
                      </a:lnTo>
                      <a:lnTo>
                        <a:pt x="52" y="0"/>
                      </a:lnTo>
                      <a:lnTo>
                        <a:pt x="39" y="2"/>
                      </a:lnTo>
                      <a:lnTo>
                        <a:pt x="39" y="9"/>
                      </a:lnTo>
                      <a:lnTo>
                        <a:pt x="39" y="17"/>
                      </a:lnTo>
                      <a:lnTo>
                        <a:pt x="37" y="19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3" y="20"/>
                      </a:lnTo>
                      <a:lnTo>
                        <a:pt x="20" y="17"/>
                      </a:lnTo>
                      <a:lnTo>
                        <a:pt x="17" y="6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630400" y="6416280"/>
                  <a:ext cx="96480" cy="81720"/>
                </a:xfrm>
                <a:custGeom>
                  <a:avLst/>
                  <a:gdLst/>
                  <a:ahLst/>
                  <a:rect l="l" t="t" r="r" b="b"/>
                  <a:pathLst>
                    <a:path w="59" h="50">
                      <a:moveTo>
                        <a:pt x="30" y="0"/>
                      </a:moveTo>
                      <a:lnTo>
                        <a:pt x="11" y="4"/>
                      </a:lnTo>
                      <a:lnTo>
                        <a:pt x="4" y="9"/>
                      </a:lnTo>
                      <a:lnTo>
                        <a:pt x="1" y="15"/>
                      </a:lnTo>
                      <a:lnTo>
                        <a:pt x="0" y="22"/>
                      </a:lnTo>
                      <a:lnTo>
                        <a:pt x="1" y="29"/>
                      </a:lnTo>
                      <a:lnTo>
                        <a:pt x="3" y="35"/>
                      </a:lnTo>
                      <a:lnTo>
                        <a:pt x="4" y="40"/>
                      </a:lnTo>
                      <a:lnTo>
                        <a:pt x="9" y="44"/>
                      </a:lnTo>
                      <a:lnTo>
                        <a:pt x="16" y="46"/>
                      </a:lnTo>
                      <a:lnTo>
                        <a:pt x="24" y="49"/>
                      </a:lnTo>
                      <a:lnTo>
                        <a:pt x="32" y="49"/>
                      </a:lnTo>
                      <a:lnTo>
                        <a:pt x="43" y="46"/>
                      </a:lnTo>
                      <a:lnTo>
                        <a:pt x="51" y="42"/>
                      </a:lnTo>
                      <a:lnTo>
                        <a:pt x="58" y="36"/>
                      </a:lnTo>
                      <a:lnTo>
                        <a:pt x="46" y="30"/>
                      </a:lnTo>
                      <a:lnTo>
                        <a:pt x="41" y="35"/>
                      </a:lnTo>
                      <a:lnTo>
                        <a:pt x="34" y="38"/>
                      </a:lnTo>
                      <a:lnTo>
                        <a:pt x="25" y="39"/>
                      </a:lnTo>
                      <a:lnTo>
                        <a:pt x="17" y="36"/>
                      </a:lnTo>
                      <a:lnTo>
                        <a:pt x="15" y="34"/>
                      </a:lnTo>
                      <a:lnTo>
                        <a:pt x="13" y="31"/>
                      </a:ln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30" y="2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36880" y="6452280"/>
                  <a:ext cx="91440" cy="4752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7"/>
                      </a:moveTo>
                      <a:lnTo>
                        <a:pt x="10" y="18"/>
                      </a:lnTo>
                      <a:lnTo>
                        <a:pt x="23" y="18"/>
                      </a:lnTo>
                      <a:lnTo>
                        <a:pt x="33" y="16"/>
                      </a:lnTo>
                      <a:lnTo>
                        <a:pt x="39" y="13"/>
                      </a:lnTo>
                      <a:lnTo>
                        <a:pt x="42" y="9"/>
                      </a:lnTo>
                      <a:lnTo>
                        <a:pt x="42" y="5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50" y="3"/>
                      </a:lnTo>
                      <a:lnTo>
                        <a:pt x="53" y="8"/>
                      </a:lnTo>
                      <a:lnTo>
                        <a:pt x="55" y="13"/>
                      </a:lnTo>
                      <a:lnTo>
                        <a:pt x="55" y="19"/>
                      </a:lnTo>
                      <a:lnTo>
                        <a:pt x="52" y="23"/>
                      </a:lnTo>
                      <a:lnTo>
                        <a:pt x="45" y="26"/>
                      </a:lnTo>
                      <a:lnTo>
                        <a:pt x="35" y="28"/>
                      </a:lnTo>
                      <a:lnTo>
                        <a:pt x="26" y="28"/>
                      </a:lnTo>
                      <a:lnTo>
                        <a:pt x="16" y="27"/>
                      </a:lnTo>
                      <a:lnTo>
                        <a:pt x="5" y="23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742000" y="6192720"/>
                <a:ext cx="53640" cy="88200"/>
                <a:chOff x="5742000" y="6192720"/>
                <a:chExt cx="53640" cy="882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1360" y="6246720"/>
                  <a:ext cx="3096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7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7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742000" y="6192720"/>
                  <a:ext cx="53640" cy="88200"/>
                </a:xfrm>
                <a:custGeom>
                  <a:avLst/>
                  <a:gdLst/>
                  <a:ahLst/>
                  <a:rect l="l" t="t" r="r" b="b"/>
                  <a:pathLst>
                    <a:path w="33" h="54">
                      <a:moveTo>
                        <a:pt x="26" y="53"/>
                      </a:moveTo>
                      <a:lnTo>
                        <a:pt x="20" y="51"/>
                      </a:lnTo>
                      <a:lnTo>
                        <a:pt x="14" y="50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2"/>
                      </a:lnTo>
                      <a:lnTo>
                        <a:pt x="0" y="39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2" y="3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2" y="19"/>
                      </a:lnTo>
                      <a:lnTo>
                        <a:pt x="26" y="21"/>
                      </a:lnTo>
                      <a:lnTo>
                        <a:pt x="21" y="23"/>
                      </a:lnTo>
                      <a:lnTo>
                        <a:pt x="17" y="24"/>
                      </a:lnTo>
                      <a:lnTo>
                        <a:pt x="14" y="26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6" y="43"/>
                      </a:lnTo>
                      <a:lnTo>
                        <a:pt x="9" y="45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5735160" y="6256800"/>
                <a:ext cx="51840" cy="86760"/>
                <a:chOff x="5735160" y="6256800"/>
                <a:chExt cx="51840" cy="867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5744880" y="6310800"/>
                  <a:ext cx="2916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7" y="19"/>
                      </a:moveTo>
                      <a:lnTo>
                        <a:pt x="17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3"/>
                      </a:lnTo>
                      <a:lnTo>
                        <a:pt x="4" y="14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735160" y="6256800"/>
                  <a:ext cx="51840" cy="86760"/>
                </a:xfrm>
                <a:custGeom>
                  <a:avLst/>
                  <a:gdLst/>
                  <a:ahLst/>
                  <a:rect l="l" t="t" r="r" b="b"/>
                  <a:pathLst>
                    <a:path w="32" h="53">
                      <a:moveTo>
                        <a:pt x="25" y="52"/>
                      </a:moveTo>
                      <a:lnTo>
                        <a:pt x="19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4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7" y="10"/>
                      </a:lnTo>
                      <a:lnTo>
                        <a:pt x="10" y="7"/>
                      </a:lnTo>
                      <a:lnTo>
                        <a:pt x="15" y="4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18"/>
                      </a:lnTo>
                      <a:lnTo>
                        <a:pt x="25" y="2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5" y="38"/>
                      </a:lnTo>
                      <a:lnTo>
                        <a:pt x="6" y="42"/>
                      </a:lnTo>
                      <a:lnTo>
                        <a:pt x="8" y="44"/>
                      </a:lnTo>
                      <a:lnTo>
                        <a:pt x="14" y="49"/>
                      </a:lnTo>
                      <a:lnTo>
                        <a:pt x="20" y="50"/>
                      </a:lnTo>
                      <a:lnTo>
                        <a:pt x="25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758560" y="6383520"/>
                <a:ext cx="51840" cy="88200"/>
                <a:chOff x="5758560" y="6383520"/>
                <a:chExt cx="51840" cy="882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771160" y="6384960"/>
                  <a:ext cx="295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6"/>
                      </a:lnTo>
                      <a:lnTo>
                        <a:pt x="13" y="19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58560" y="6383520"/>
                  <a:ext cx="51840" cy="88200"/>
                </a:xfrm>
                <a:custGeom>
                  <a:avLst/>
                  <a:gdLst/>
                  <a:ahLst/>
                  <a:rect l="l" t="t" r="r" b="b"/>
                  <a:pathLst>
                    <a:path w="32" h="54">
                      <a:moveTo>
                        <a:pt x="6" y="0"/>
                      </a:moveTo>
                      <a:lnTo>
                        <a:pt x="12" y="2"/>
                      </a:lnTo>
                      <a:lnTo>
                        <a:pt x="17" y="3"/>
                      </a:lnTo>
                      <a:lnTo>
                        <a:pt x="23" y="6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1" y="14"/>
                      </a:lnTo>
                      <a:lnTo>
                        <a:pt x="31" y="23"/>
                      </a:lnTo>
                      <a:lnTo>
                        <a:pt x="31" y="31"/>
                      </a:lnTo>
                      <a:lnTo>
                        <a:pt x="30" y="35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4" y="43"/>
                      </a:lnTo>
                      <a:lnTo>
                        <a:pt x="21" y="45"/>
                      </a:lnTo>
                      <a:lnTo>
                        <a:pt x="16" y="48"/>
                      </a:lnTo>
                      <a:lnTo>
                        <a:pt x="10" y="50"/>
                      </a:lnTo>
                      <a:lnTo>
                        <a:pt x="4" y="52"/>
                      </a:lnTo>
                      <a:lnTo>
                        <a:pt x="0" y="53"/>
                      </a:lnTo>
                      <a:lnTo>
                        <a:pt x="0" y="34"/>
                      </a:lnTo>
                      <a:lnTo>
                        <a:pt x="6" y="32"/>
                      </a:lnTo>
                      <a:lnTo>
                        <a:pt x="11" y="30"/>
                      </a:lnTo>
                      <a:lnTo>
                        <a:pt x="14" y="29"/>
                      </a:lnTo>
                      <a:lnTo>
                        <a:pt x="17" y="27"/>
                      </a:lnTo>
                      <a:lnTo>
                        <a:pt x="21" y="24"/>
                      </a:lnTo>
                      <a:lnTo>
                        <a:pt x="23" y="22"/>
                      </a:lnTo>
                      <a:lnTo>
                        <a:pt x="25" y="18"/>
                      </a:lnTo>
                      <a:lnTo>
                        <a:pt x="26" y="14"/>
                      </a:lnTo>
                      <a:lnTo>
                        <a:pt x="25" y="10"/>
                      </a:lnTo>
                      <a:lnTo>
                        <a:pt x="23" y="8"/>
                      </a:lnTo>
                      <a:lnTo>
                        <a:pt x="17" y="4"/>
                      </a:lnTo>
                      <a:lnTo>
                        <a:pt x="11" y="3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5735160" y="6317640"/>
                <a:ext cx="54000" cy="86760"/>
                <a:chOff x="5735160" y="6317640"/>
                <a:chExt cx="54000" cy="867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5744880" y="6371640"/>
                  <a:ext cx="30600" cy="3240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8" y="19"/>
                      </a:moveTo>
                      <a:lnTo>
                        <a:pt x="18" y="8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4" y="14"/>
                      </a:lnTo>
                      <a:lnTo>
                        <a:pt x="9" y="16"/>
                      </a:lnTo>
                      <a:lnTo>
                        <a:pt x="12" y="18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35160" y="6317640"/>
                  <a:ext cx="54000" cy="8676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26" y="52"/>
                      </a:moveTo>
                      <a:lnTo>
                        <a:pt x="20" y="51"/>
                      </a:lnTo>
                      <a:lnTo>
                        <a:pt x="14" y="49"/>
                      </a:lnTo>
                      <a:lnTo>
                        <a:pt x="8" y="47"/>
                      </a:lnTo>
                      <a:lnTo>
                        <a:pt x="5" y="44"/>
                      </a:lnTo>
                      <a:lnTo>
                        <a:pt x="2" y="41"/>
                      </a:lnTo>
                      <a:lnTo>
                        <a:pt x="0" y="38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18"/>
                      </a:lnTo>
                      <a:lnTo>
                        <a:pt x="26" y="20"/>
                      </a:lnTo>
                      <a:lnTo>
                        <a:pt x="21" y="22"/>
                      </a:lnTo>
                      <a:lnTo>
                        <a:pt x="17" y="24"/>
                      </a:lnTo>
                      <a:lnTo>
                        <a:pt x="14" y="25"/>
                      </a:lnTo>
                      <a:lnTo>
                        <a:pt x="10" y="28"/>
                      </a:lnTo>
                      <a:lnTo>
                        <a:pt x="8" y="31"/>
                      </a:lnTo>
                      <a:lnTo>
                        <a:pt x="6" y="34"/>
                      </a:lnTo>
                      <a:lnTo>
                        <a:pt x="6" y="38"/>
                      </a:lnTo>
                      <a:lnTo>
                        <a:pt x="6" y="42"/>
                      </a:lnTo>
                      <a:lnTo>
                        <a:pt x="9" y="44"/>
                      </a:lnTo>
                      <a:lnTo>
                        <a:pt x="14" y="49"/>
                      </a:lnTo>
                      <a:lnTo>
                        <a:pt x="21" y="50"/>
                      </a:lnTo>
                      <a:lnTo>
                        <a:pt x="26" y="5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2" name=""/>
            <p:cNvGrpSpPr/>
            <p:nvPr/>
          </p:nvGrpSpPr>
          <p:grpSpPr>
            <a:xfrm>
              <a:off x="3271680" y="4803840"/>
              <a:ext cx="2547000" cy="1655280"/>
              <a:chOff x="3271680" y="4803840"/>
              <a:chExt cx="2547000" cy="165528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3271680" y="4803840"/>
                <a:ext cx="2547000" cy="1655280"/>
                <a:chOff x="3271680" y="4803840"/>
                <a:chExt cx="2547000" cy="165528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3271680" y="4830120"/>
                  <a:ext cx="2547000" cy="1629000"/>
                  <a:chOff x="3271680" y="4830120"/>
                  <a:chExt cx="2547000" cy="16290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3271680" y="4830120"/>
                    <a:ext cx="2547000" cy="1629000"/>
                    <a:chOff x="3271680" y="4830120"/>
                    <a:chExt cx="2547000" cy="162900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3271680" y="4830120"/>
                      <a:ext cx="2547000" cy="1629000"/>
                      <a:chOff x="3271680" y="4830120"/>
                      <a:chExt cx="2547000" cy="1629000"/>
                    </a:xfrm>
                  </p:grpSpPr>
                  <p:grpSp>
                    <p:nvGrpSpPr>
                      <p:cNvPr id="977" name=""/>
                      <p:cNvGrpSpPr/>
                      <p:nvPr/>
                    </p:nvGrpSpPr>
                    <p:grpSpPr>
                      <a:xfrm>
                        <a:off x="3271680" y="4830120"/>
                        <a:ext cx="2547000" cy="1629000"/>
                        <a:chOff x="3271680" y="4830120"/>
                        <a:chExt cx="2547000" cy="1629000"/>
                      </a:xfrm>
                    </p:grpSpPr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>
                          <a:off x="3273120" y="4918680"/>
                          <a:ext cx="2488320" cy="154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5" h="937">
                              <a:moveTo>
                                <a:pt x="1514" y="771"/>
                              </a:moveTo>
                              <a:lnTo>
                                <a:pt x="1485" y="807"/>
                              </a:lnTo>
                              <a:lnTo>
                                <a:pt x="371" y="936"/>
                              </a:lnTo>
                              <a:lnTo>
                                <a:pt x="0" y="189"/>
                              </a:lnTo>
                              <a:lnTo>
                                <a:pt x="22" y="0"/>
                              </a:lnTo>
                              <a:lnTo>
                                <a:pt x="387" y="873"/>
                              </a:lnTo>
                              <a:lnTo>
                                <a:pt x="1514" y="771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>
                          <a:off x="3271680" y="4830120"/>
                          <a:ext cx="669960" cy="156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954">
                              <a:moveTo>
                                <a:pt x="20" y="0"/>
                              </a:moveTo>
                              <a:lnTo>
                                <a:pt x="0" y="34"/>
                              </a:lnTo>
                              <a:lnTo>
                                <a:pt x="388" y="953"/>
                              </a:lnTo>
                              <a:lnTo>
                                <a:pt x="407" y="917"/>
                              </a:lnTo>
                              <a:lnTo>
                                <a:pt x="2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>
                          <a:off x="3304440" y="4830120"/>
                          <a:ext cx="251424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1" h="918">
                              <a:moveTo>
                                <a:pt x="1530" y="798"/>
                              </a:moveTo>
                              <a:lnTo>
                                <a:pt x="387" y="917"/>
                              </a:lnTo>
                              <a:lnTo>
                                <a:pt x="0" y="0"/>
                              </a:lnTo>
                              <a:lnTo>
                                <a:pt x="820" y="0"/>
                              </a:lnTo>
                              <a:lnTo>
                                <a:pt x="843" y="25"/>
                              </a:lnTo>
                              <a:lnTo>
                                <a:pt x="1100" y="24"/>
                              </a:lnTo>
                              <a:lnTo>
                                <a:pt x="1530" y="79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>
                          <a:off x="3907440" y="6141960"/>
                          <a:ext cx="1911240" cy="25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4" h="158">
                              <a:moveTo>
                                <a:pt x="1163" y="0"/>
                              </a:moveTo>
                              <a:lnTo>
                                <a:pt x="1148" y="34"/>
                              </a:lnTo>
                              <a:lnTo>
                                <a:pt x="0" y="157"/>
                              </a:lnTo>
                              <a:lnTo>
                                <a:pt x="22" y="117"/>
                              </a:lnTo>
                              <a:lnTo>
                                <a:pt x="1163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82" name=""/>
                        <p:cNvGrpSpPr/>
                        <p:nvPr/>
                      </p:nvGrpSpPr>
                      <p:grpSpPr>
                        <a:xfrm>
                          <a:off x="3422880" y="4864680"/>
                          <a:ext cx="1855440" cy="1388520"/>
                          <a:chOff x="3422880" y="4864680"/>
                          <a:chExt cx="1855440" cy="1388520"/>
                        </a:xfrm>
                      </p:grpSpPr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>
                            <a:off x="3422880" y="4864680"/>
                            <a:ext cx="1334880" cy="27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3" h="166">
                                <a:moveTo>
                                  <a:pt x="743" y="0"/>
                                </a:moveTo>
                                <a:lnTo>
                                  <a:pt x="0" y="0"/>
                                </a:lnTo>
                                <a:lnTo>
                                  <a:pt x="75" y="165"/>
                                </a:lnTo>
                                <a:lnTo>
                                  <a:pt x="812" y="150"/>
                                </a:lnTo>
                                <a:lnTo>
                                  <a:pt x="743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984" name=""/>
                          <p:cNvGrpSpPr/>
                          <p:nvPr/>
                        </p:nvGrpSpPr>
                        <p:grpSpPr>
                          <a:xfrm>
                            <a:off x="3629520" y="4916880"/>
                            <a:ext cx="945360" cy="126000"/>
                            <a:chOff x="3629520" y="4916880"/>
                            <a:chExt cx="945360" cy="126000"/>
                          </a:xfrm>
                        </p:grpSpPr>
                        <p:sp>
                          <p:nvSpPr>
                            <p:cNvPr id="985" name=""/>
                            <p:cNvSpPr/>
                            <p:nvPr/>
                          </p:nvSpPr>
                          <p:spPr>
                            <a:xfrm>
                              <a:off x="3629520" y="4916880"/>
                              <a:ext cx="888120" cy="3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1" h="21">
                                  <a:moveTo>
                                    <a:pt x="540" y="0"/>
                                  </a:moveTo>
                                  <a:lnTo>
                                    <a:pt x="521" y="19"/>
                                  </a:lnTo>
                                  <a:lnTo>
                                    <a:pt x="10" y="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4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6" name=""/>
                            <p:cNvSpPr/>
                            <p:nvPr/>
                          </p:nvSpPr>
                          <p:spPr>
                            <a:xfrm>
                              <a:off x="4484880" y="4916880"/>
                              <a:ext cx="88560" cy="12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" h="74">
                                  <a:moveTo>
                                    <a:pt x="19" y="0"/>
                                  </a:moveTo>
                                  <a:lnTo>
                                    <a:pt x="53" y="73"/>
                                  </a:lnTo>
                                  <a:lnTo>
                                    <a:pt x="15" y="54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9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7" name=""/>
                            <p:cNvSpPr/>
                            <p:nvPr/>
                          </p:nvSpPr>
                          <p:spPr>
                            <a:xfrm>
                              <a:off x="3675600" y="5005440"/>
                              <a:ext cx="899280" cy="3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48" h="23">
                                  <a:moveTo>
                                    <a:pt x="547" y="19"/>
                                  </a:moveTo>
                                  <a:lnTo>
                                    <a:pt x="507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0" y="22"/>
                                  </a:lnTo>
                                  <a:lnTo>
                                    <a:pt x="547" y="19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9360" bIns="-9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8" name=""/>
                            <p:cNvSpPr/>
                            <p:nvPr/>
                          </p:nvSpPr>
                          <p:spPr>
                            <a:xfrm>
                              <a:off x="3645720" y="4949640"/>
                              <a:ext cx="8650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7" h="35">
                                  <a:moveTo>
                                    <a:pt x="0" y="0"/>
                                  </a:moveTo>
                                  <a:lnTo>
                                    <a:pt x="511" y="0"/>
                                  </a:lnTo>
                                  <a:lnTo>
                                    <a:pt x="526" y="34"/>
                                  </a:lnTo>
                                  <a:lnTo>
                                    <a:pt x="18" y="34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>
                            <a:off x="3553920" y="5178240"/>
                            <a:ext cx="1724400" cy="107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0" h="654">
                                <a:moveTo>
                                  <a:pt x="744" y="0"/>
                                </a:moveTo>
                                <a:lnTo>
                                  <a:pt x="0" y="23"/>
                                </a:lnTo>
                                <a:lnTo>
                                  <a:pt x="279" y="653"/>
                                </a:lnTo>
                                <a:lnTo>
                                  <a:pt x="1049" y="583"/>
                                </a:lnTo>
                                <a:lnTo>
                                  <a:pt x="744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0" name=""/>
                        <p:cNvGrpSpPr/>
                        <p:nvPr/>
                      </p:nvGrpSpPr>
                      <p:grpSpPr>
                        <a:xfrm>
                          <a:off x="4689000" y="4867560"/>
                          <a:ext cx="590400" cy="1270440"/>
                          <a:chOff x="4689000" y="4867560"/>
                          <a:chExt cx="590400" cy="1270440"/>
                        </a:xfrm>
                      </p:grpSpPr>
                      <p:sp>
                        <p:nvSpPr>
                          <p:cNvPr id="991" name=""/>
                          <p:cNvSpPr/>
                          <p:nvPr/>
                        </p:nvSpPr>
                        <p:spPr>
                          <a:xfrm>
                            <a:off x="4775400" y="5128920"/>
                            <a:ext cx="504000" cy="100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14">
                                <a:moveTo>
                                  <a:pt x="24" y="0"/>
                                </a:moveTo>
                                <a:lnTo>
                                  <a:pt x="0" y="29"/>
                                </a:lnTo>
                                <a:lnTo>
                                  <a:pt x="306" y="613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2" name=""/>
                          <p:cNvSpPr/>
                          <p:nvPr/>
                        </p:nvSpPr>
                        <p:spPr>
                          <a:xfrm>
                            <a:off x="4689000" y="4867560"/>
                            <a:ext cx="127440" cy="26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160">
                                <a:moveTo>
                                  <a:pt x="0" y="0"/>
                                </a:moveTo>
                                <a:lnTo>
                                  <a:pt x="77" y="15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3" name=""/>
                      <p:cNvGrpSpPr/>
                      <p:nvPr/>
                    </p:nvGrpSpPr>
                    <p:grpSpPr>
                      <a:xfrm>
                        <a:off x="3687120" y="5287320"/>
                        <a:ext cx="808200" cy="843480"/>
                        <a:chOff x="3687120" y="5287320"/>
                        <a:chExt cx="808200" cy="843480"/>
                      </a:xfrm>
                    </p:grpSpPr>
                    <p:grpSp>
                      <p:nvGrpSpPr>
                        <p:cNvPr id="994" name=""/>
                        <p:cNvGrpSpPr/>
                        <p:nvPr/>
                      </p:nvGrpSpPr>
                      <p:grpSpPr>
                        <a:xfrm>
                          <a:off x="3908520" y="5287320"/>
                          <a:ext cx="586800" cy="827280"/>
                          <a:chOff x="3908520" y="5287320"/>
                          <a:chExt cx="586800" cy="827280"/>
                        </a:xfrm>
                      </p:grpSpPr>
                      <p:grpSp>
                        <p:nvGrpSpPr>
                          <p:cNvPr id="995" name=""/>
                          <p:cNvGrpSpPr/>
                          <p:nvPr/>
                        </p:nvGrpSpPr>
                        <p:grpSpPr>
                          <a:xfrm>
                            <a:off x="3908520" y="5287320"/>
                            <a:ext cx="255240" cy="112320"/>
                            <a:chOff x="3908520" y="5287320"/>
                            <a:chExt cx="255240" cy="112320"/>
                          </a:xfrm>
                        </p:grpSpPr>
                        <p:grpSp>
                          <p:nvGrpSpPr>
                            <p:cNvPr id="996" name=""/>
                            <p:cNvGrpSpPr/>
                            <p:nvPr/>
                          </p:nvGrpSpPr>
                          <p:grpSpPr>
                            <a:xfrm>
                              <a:off x="3908520" y="5287320"/>
                              <a:ext cx="255240" cy="112320"/>
                              <a:chOff x="3908520" y="5287320"/>
                              <a:chExt cx="255240" cy="112320"/>
                            </a:xfrm>
                          </p:grpSpPr>
                          <p:sp>
                            <p:nvSpPr>
                              <p:cNvPr id="997" name=""/>
                              <p:cNvSpPr/>
                              <p:nvPr/>
                            </p:nvSpPr>
                            <p:spPr>
                              <a:xfrm>
                                <a:off x="3921480" y="52873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8" name=""/>
                              <p:cNvSpPr/>
                              <p:nvPr/>
                            </p:nvSpPr>
                            <p:spPr>
                              <a:xfrm>
                                <a:off x="3949200" y="53672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9" name=""/>
                              <p:cNvSpPr/>
                              <p:nvPr/>
                            </p:nvSpPr>
                            <p:spPr>
                              <a:xfrm>
                                <a:off x="3908520" y="52952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00" name=""/>
                            <p:cNvSpPr/>
                            <p:nvPr/>
                          </p:nvSpPr>
                          <p:spPr>
                            <a:xfrm>
                              <a:off x="4077360" y="52887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1" name=""/>
                            <p:cNvSpPr/>
                            <p:nvPr/>
                          </p:nvSpPr>
                          <p:spPr>
                            <a:xfrm>
                              <a:off x="4110120" y="53067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2" name=""/>
                            <p:cNvSpPr/>
                            <p:nvPr/>
                          </p:nvSpPr>
                          <p:spPr>
                            <a:xfrm>
                              <a:off x="4126320" y="53380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3" name=""/>
                          <p:cNvGrpSpPr/>
                          <p:nvPr/>
                        </p:nvGrpSpPr>
                        <p:grpSpPr>
                          <a:xfrm>
                            <a:off x="3954240" y="5387400"/>
                            <a:ext cx="255240" cy="114120"/>
                            <a:chOff x="3954240" y="5387400"/>
                            <a:chExt cx="255240" cy="114120"/>
                          </a:xfrm>
                        </p:grpSpPr>
                        <p:grpSp>
                          <p:nvGrpSpPr>
                            <p:cNvPr id="1004" name=""/>
                            <p:cNvGrpSpPr/>
                            <p:nvPr/>
                          </p:nvGrpSpPr>
                          <p:grpSpPr>
                            <a:xfrm>
                              <a:off x="3954240" y="5387400"/>
                              <a:ext cx="255240" cy="114120"/>
                              <a:chOff x="3954240" y="5387400"/>
                              <a:chExt cx="255240" cy="114120"/>
                            </a:xfrm>
                          </p:grpSpPr>
                          <p:sp>
                            <p:nvSpPr>
                              <p:cNvPr id="1005" name=""/>
                              <p:cNvSpPr/>
                              <p:nvPr/>
                            </p:nvSpPr>
                            <p:spPr>
                              <a:xfrm>
                                <a:off x="3969000" y="5387400"/>
                                <a:ext cx="2404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6" name=""/>
                              <p:cNvSpPr/>
                              <p:nvPr/>
                            </p:nvSpPr>
                            <p:spPr>
                              <a:xfrm>
                                <a:off x="3995280" y="5467320"/>
                                <a:ext cx="21420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7" name=""/>
                              <p:cNvSpPr/>
                              <p:nvPr/>
                            </p:nvSpPr>
                            <p:spPr>
                              <a:xfrm>
                                <a:off x="3954240" y="5395320"/>
                                <a:ext cx="590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08" name=""/>
                            <p:cNvSpPr/>
                            <p:nvPr/>
                          </p:nvSpPr>
                          <p:spPr>
                            <a:xfrm>
                              <a:off x="4124880" y="5390640"/>
                              <a:ext cx="406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09" name=""/>
                            <p:cNvSpPr/>
                            <p:nvPr/>
                          </p:nvSpPr>
                          <p:spPr>
                            <a:xfrm>
                              <a:off x="4156200" y="540828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0" name=""/>
                            <p:cNvSpPr/>
                            <p:nvPr/>
                          </p:nvSpPr>
                          <p:spPr>
                            <a:xfrm>
                              <a:off x="4173840" y="5438160"/>
                              <a:ext cx="79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1" name=""/>
                          <p:cNvGrpSpPr/>
                          <p:nvPr/>
                        </p:nvGrpSpPr>
                        <p:grpSpPr>
                          <a:xfrm>
                            <a:off x="4003560" y="5491080"/>
                            <a:ext cx="255240" cy="113760"/>
                            <a:chOff x="4003560" y="5491080"/>
                            <a:chExt cx="255240" cy="113760"/>
                          </a:xfrm>
                        </p:grpSpPr>
                        <p:grpSp>
                          <p:nvGrpSpPr>
                            <p:cNvPr id="1012" name=""/>
                            <p:cNvGrpSpPr/>
                            <p:nvPr/>
                          </p:nvGrpSpPr>
                          <p:grpSpPr>
                            <a:xfrm>
                              <a:off x="4003560" y="5491080"/>
                              <a:ext cx="255240" cy="113760"/>
                              <a:chOff x="4003560" y="5491080"/>
                              <a:chExt cx="255240" cy="113760"/>
                            </a:xfrm>
                          </p:grpSpPr>
                          <p:sp>
                            <p:nvSpPr>
                              <p:cNvPr id="1013" name=""/>
                              <p:cNvSpPr/>
                              <p:nvPr/>
                            </p:nvSpPr>
                            <p:spPr>
                              <a:xfrm>
                                <a:off x="4017960" y="549108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4" name=""/>
                              <p:cNvSpPr/>
                              <p:nvPr/>
                            </p:nvSpPr>
                            <p:spPr>
                              <a:xfrm>
                                <a:off x="4044240" y="557100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5" name=""/>
                              <p:cNvSpPr/>
                              <p:nvPr/>
                            </p:nvSpPr>
                            <p:spPr>
                              <a:xfrm>
                                <a:off x="4003560" y="549900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16" name=""/>
                            <p:cNvSpPr/>
                            <p:nvPr/>
                          </p:nvSpPr>
                          <p:spPr>
                            <a:xfrm>
                              <a:off x="4173840" y="549396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7" name=""/>
                            <p:cNvSpPr/>
                            <p:nvPr/>
                          </p:nvSpPr>
                          <p:spPr>
                            <a:xfrm>
                              <a:off x="4205160" y="55119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8" name=""/>
                            <p:cNvSpPr/>
                            <p:nvPr/>
                          </p:nvSpPr>
                          <p:spPr>
                            <a:xfrm>
                              <a:off x="4223160" y="5541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9" name=""/>
                          <p:cNvGrpSpPr/>
                          <p:nvPr/>
                        </p:nvGrpSpPr>
                        <p:grpSpPr>
                          <a:xfrm>
                            <a:off x="4051440" y="5592960"/>
                            <a:ext cx="254880" cy="112320"/>
                            <a:chOff x="4051440" y="5592960"/>
                            <a:chExt cx="254880" cy="112320"/>
                          </a:xfrm>
                        </p:grpSpPr>
                        <p:grpSp>
                          <p:nvGrpSpPr>
                            <p:cNvPr id="1020" name=""/>
                            <p:cNvGrpSpPr/>
                            <p:nvPr/>
                          </p:nvGrpSpPr>
                          <p:grpSpPr>
                            <a:xfrm>
                              <a:off x="4051440" y="5592960"/>
                              <a:ext cx="254880" cy="112320"/>
                              <a:chOff x="4051440" y="5592960"/>
                              <a:chExt cx="254880" cy="112320"/>
                            </a:xfrm>
                          </p:grpSpPr>
                          <p:sp>
                            <p:nvSpPr>
                              <p:cNvPr id="1021" name=""/>
                              <p:cNvSpPr/>
                              <p:nvPr/>
                            </p:nvSpPr>
                            <p:spPr>
                              <a:xfrm>
                                <a:off x="4064400" y="55929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2" name=""/>
                              <p:cNvSpPr/>
                              <p:nvPr/>
                            </p:nvSpPr>
                            <p:spPr>
                              <a:xfrm>
                                <a:off x="4092120" y="5671440"/>
                                <a:ext cx="21420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3" name=""/>
                              <p:cNvSpPr/>
                              <p:nvPr/>
                            </p:nvSpPr>
                            <p:spPr>
                              <a:xfrm>
                                <a:off x="4051440" y="560088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8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24" name=""/>
                            <p:cNvSpPr/>
                            <p:nvPr/>
                          </p:nvSpPr>
                          <p:spPr>
                            <a:xfrm>
                              <a:off x="4220280" y="5594400"/>
                              <a:ext cx="4212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25" name=""/>
                            <p:cNvSpPr/>
                            <p:nvPr/>
                          </p:nvSpPr>
                          <p:spPr>
                            <a:xfrm>
                              <a:off x="4253040" y="5612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26" name=""/>
                            <p:cNvSpPr/>
                            <p:nvPr/>
                          </p:nvSpPr>
                          <p:spPr>
                            <a:xfrm>
                              <a:off x="4269240" y="5643720"/>
                              <a:ext cx="972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27" name=""/>
                          <p:cNvGrpSpPr/>
                          <p:nvPr/>
                        </p:nvGrpSpPr>
                        <p:grpSpPr>
                          <a:xfrm>
                            <a:off x="4097160" y="5693040"/>
                            <a:ext cx="255240" cy="112320"/>
                            <a:chOff x="4097160" y="5693040"/>
                            <a:chExt cx="255240" cy="112320"/>
                          </a:xfrm>
                        </p:grpSpPr>
                        <p:grpSp>
                          <p:nvGrpSpPr>
                            <p:cNvPr id="1028" name=""/>
                            <p:cNvGrpSpPr/>
                            <p:nvPr/>
                          </p:nvGrpSpPr>
                          <p:grpSpPr>
                            <a:xfrm>
                              <a:off x="4097160" y="5693040"/>
                              <a:ext cx="255240" cy="112320"/>
                              <a:chOff x="4097160" y="5693040"/>
                              <a:chExt cx="255240" cy="112320"/>
                            </a:xfrm>
                          </p:grpSpPr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>
                                <a:off x="4111920" y="5693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0" name=""/>
                              <p:cNvSpPr/>
                              <p:nvPr/>
                            </p:nvSpPr>
                            <p:spPr>
                              <a:xfrm>
                                <a:off x="4137840" y="577296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1" name=""/>
                              <p:cNvSpPr/>
                              <p:nvPr/>
                            </p:nvSpPr>
                            <p:spPr>
                              <a:xfrm>
                                <a:off x="4097160" y="570096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2" name=""/>
                            <p:cNvSpPr/>
                            <p:nvPr/>
                          </p:nvSpPr>
                          <p:spPr>
                            <a:xfrm>
                              <a:off x="4267800" y="5694480"/>
                              <a:ext cx="4068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3" name=""/>
                            <p:cNvSpPr/>
                            <p:nvPr/>
                          </p:nvSpPr>
                          <p:spPr>
                            <a:xfrm>
                              <a:off x="4298760" y="5712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4316760" y="574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5" name=""/>
                          <p:cNvGrpSpPr/>
                          <p:nvPr/>
                        </p:nvGrpSpPr>
                        <p:grpSpPr>
                          <a:xfrm>
                            <a:off x="4144680" y="5796720"/>
                            <a:ext cx="255240" cy="112320"/>
                            <a:chOff x="4144680" y="5796720"/>
                            <a:chExt cx="255240" cy="112320"/>
                          </a:xfrm>
                        </p:grpSpPr>
                        <p:grpSp>
                          <p:nvGrpSpPr>
                            <p:cNvPr id="1036" name=""/>
                            <p:cNvGrpSpPr/>
                            <p:nvPr/>
                          </p:nvGrpSpPr>
                          <p:grpSpPr>
                            <a:xfrm>
                              <a:off x="4144680" y="5796720"/>
                              <a:ext cx="255240" cy="112320"/>
                              <a:chOff x="4144680" y="5796720"/>
                              <a:chExt cx="255240" cy="112320"/>
                            </a:xfrm>
                          </p:grpSpPr>
                          <p:sp>
                            <p:nvSpPr>
                              <p:cNvPr id="1037" name=""/>
                              <p:cNvSpPr/>
                              <p:nvPr/>
                            </p:nvSpPr>
                            <p:spPr>
                              <a:xfrm>
                                <a:off x="4157640" y="5796720"/>
                                <a:ext cx="242280" cy="89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840" bIns="42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8" name=""/>
                              <p:cNvSpPr/>
                              <p:nvPr/>
                            </p:nvSpPr>
                            <p:spPr>
                              <a:xfrm>
                                <a:off x="4185360" y="587664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9" name=""/>
                              <p:cNvSpPr/>
                              <p:nvPr/>
                            </p:nvSpPr>
                            <p:spPr>
                              <a:xfrm>
                                <a:off x="4144680" y="5804640"/>
                                <a:ext cx="5688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40" name=""/>
                            <p:cNvSpPr/>
                            <p:nvPr/>
                          </p:nvSpPr>
                          <p:spPr>
                            <a:xfrm>
                              <a:off x="4313520" y="579816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1" name=""/>
                            <p:cNvSpPr/>
                            <p:nvPr/>
                          </p:nvSpPr>
                          <p:spPr>
                            <a:xfrm>
                              <a:off x="4346280" y="581616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2" name=""/>
                            <p:cNvSpPr/>
                            <p:nvPr/>
                          </p:nvSpPr>
                          <p:spPr>
                            <a:xfrm>
                              <a:off x="4362480" y="58474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3" name=""/>
                          <p:cNvGrpSpPr/>
                          <p:nvPr/>
                        </p:nvGrpSpPr>
                        <p:grpSpPr>
                          <a:xfrm>
                            <a:off x="4194000" y="5897160"/>
                            <a:ext cx="255240" cy="114120"/>
                            <a:chOff x="4194000" y="5897160"/>
                            <a:chExt cx="255240" cy="114120"/>
                          </a:xfrm>
                        </p:grpSpPr>
                        <p:grpSp>
                          <p:nvGrpSpPr>
                            <p:cNvPr id="1044" name=""/>
                            <p:cNvGrpSpPr/>
                            <p:nvPr/>
                          </p:nvGrpSpPr>
                          <p:grpSpPr>
                            <a:xfrm>
                              <a:off x="4194000" y="5897160"/>
                              <a:ext cx="255240" cy="114120"/>
                              <a:chOff x="4194000" y="5897160"/>
                              <a:chExt cx="255240" cy="114120"/>
                            </a:xfrm>
                          </p:grpSpPr>
                          <p:sp>
                            <p:nvSpPr>
                              <p:cNvPr id="1045" name=""/>
                              <p:cNvSpPr/>
                              <p:nvPr/>
                            </p:nvSpPr>
                            <p:spPr>
                              <a:xfrm>
                                <a:off x="4206960" y="589716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6" name=""/>
                              <p:cNvSpPr/>
                              <p:nvPr/>
                            </p:nvSpPr>
                            <p:spPr>
                              <a:xfrm>
                                <a:off x="4234680" y="597708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7" name=""/>
                              <p:cNvSpPr/>
                              <p:nvPr/>
                            </p:nvSpPr>
                            <p:spPr>
                              <a:xfrm>
                                <a:off x="4194000" y="5905080"/>
                                <a:ext cx="5724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48" name=""/>
                            <p:cNvSpPr/>
                            <p:nvPr/>
                          </p:nvSpPr>
                          <p:spPr>
                            <a:xfrm>
                              <a:off x="4362840" y="5900400"/>
                              <a:ext cx="4248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9" name=""/>
                            <p:cNvSpPr/>
                            <p:nvPr/>
                          </p:nvSpPr>
                          <p:spPr>
                            <a:xfrm>
                              <a:off x="4395960" y="5918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0" name=""/>
                            <p:cNvSpPr/>
                            <p:nvPr/>
                          </p:nvSpPr>
                          <p:spPr>
                            <a:xfrm>
                              <a:off x="4412160" y="5947920"/>
                              <a:ext cx="936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1" name=""/>
                          <p:cNvGrpSpPr/>
                          <p:nvPr/>
                        </p:nvGrpSpPr>
                        <p:grpSpPr>
                          <a:xfrm>
                            <a:off x="4240080" y="6000840"/>
                            <a:ext cx="255240" cy="113760"/>
                            <a:chOff x="4240080" y="6000840"/>
                            <a:chExt cx="255240" cy="113760"/>
                          </a:xfrm>
                        </p:grpSpPr>
                        <p:grpSp>
                          <p:nvGrpSpPr>
                            <p:cNvPr id="1052" name=""/>
                            <p:cNvGrpSpPr/>
                            <p:nvPr/>
                          </p:nvGrpSpPr>
                          <p:grpSpPr>
                            <a:xfrm>
                              <a:off x="4240080" y="6000840"/>
                              <a:ext cx="255240" cy="113760"/>
                              <a:chOff x="4240080" y="6000840"/>
                              <a:chExt cx="255240" cy="113760"/>
                            </a:xfrm>
                          </p:grpSpPr>
                          <p:sp>
                            <p:nvSpPr>
                              <p:cNvPr id="1053" name=""/>
                              <p:cNvSpPr/>
                              <p:nvPr/>
                            </p:nvSpPr>
                            <p:spPr>
                              <a:xfrm>
                                <a:off x="4254480" y="60008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4" name=""/>
                              <p:cNvSpPr/>
                              <p:nvPr/>
                            </p:nvSpPr>
                            <p:spPr>
                              <a:xfrm>
                                <a:off x="4280760" y="6080760"/>
                                <a:ext cx="214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5" name=""/>
                              <p:cNvSpPr/>
                              <p:nvPr/>
                            </p:nvSpPr>
                            <p:spPr>
                              <a:xfrm>
                                <a:off x="4240080" y="6008760"/>
                                <a:ext cx="58680" cy="10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56" name=""/>
                            <p:cNvSpPr/>
                            <p:nvPr/>
                          </p:nvSpPr>
                          <p:spPr>
                            <a:xfrm>
                              <a:off x="4410360" y="600372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7" name=""/>
                            <p:cNvSpPr/>
                            <p:nvPr/>
                          </p:nvSpPr>
                          <p:spPr>
                            <a:xfrm>
                              <a:off x="4441680" y="60217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8" name=""/>
                            <p:cNvSpPr/>
                            <p:nvPr/>
                          </p:nvSpPr>
                          <p:spPr>
                            <a:xfrm>
                              <a:off x="4459680" y="6051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59" name=""/>
                        <p:cNvGrpSpPr/>
                        <p:nvPr/>
                      </p:nvGrpSpPr>
                      <p:grpSpPr>
                        <a:xfrm>
                          <a:off x="3687120" y="5303520"/>
                          <a:ext cx="586440" cy="827280"/>
                          <a:chOff x="3687120" y="5303520"/>
                          <a:chExt cx="586440" cy="827280"/>
                        </a:xfrm>
                      </p:grpSpPr>
                      <p:grpSp>
                        <p:nvGrpSpPr>
                          <p:cNvPr id="1060" name=""/>
                          <p:cNvGrpSpPr/>
                          <p:nvPr/>
                        </p:nvGrpSpPr>
                        <p:grpSpPr>
                          <a:xfrm>
                            <a:off x="3687120" y="5303520"/>
                            <a:ext cx="255240" cy="114120"/>
                            <a:chOff x="3687120" y="5303520"/>
                            <a:chExt cx="255240" cy="114120"/>
                          </a:xfrm>
                        </p:grpSpPr>
                        <p:grpSp>
                          <p:nvGrpSpPr>
                            <p:cNvPr id="1061" name=""/>
                            <p:cNvGrpSpPr/>
                            <p:nvPr/>
                          </p:nvGrpSpPr>
                          <p:grpSpPr>
                            <a:xfrm>
                              <a:off x="3687120" y="5303520"/>
                              <a:ext cx="255240" cy="114120"/>
                              <a:chOff x="3687120" y="5303520"/>
                              <a:chExt cx="255240" cy="114120"/>
                            </a:xfrm>
                          </p:grpSpPr>
                          <p:sp>
                            <p:nvSpPr>
                              <p:cNvPr id="1062" name=""/>
                              <p:cNvSpPr/>
                              <p:nvPr/>
                            </p:nvSpPr>
                            <p:spPr>
                              <a:xfrm>
                                <a:off x="3700080" y="53035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3" name=""/>
                              <p:cNvSpPr/>
                              <p:nvPr/>
                            </p:nvSpPr>
                            <p:spPr>
                              <a:xfrm>
                                <a:off x="3727800" y="53834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4" name=""/>
                              <p:cNvSpPr/>
                              <p:nvPr/>
                            </p:nvSpPr>
                            <p:spPr>
                              <a:xfrm>
                                <a:off x="3687120" y="53114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65" name=""/>
                            <p:cNvSpPr/>
                            <p:nvPr/>
                          </p:nvSpPr>
                          <p:spPr>
                            <a:xfrm>
                              <a:off x="3855960" y="53067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6" name=""/>
                            <p:cNvSpPr/>
                            <p:nvPr/>
                          </p:nvSpPr>
                          <p:spPr>
                            <a:xfrm>
                              <a:off x="3888720" y="53244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7" name=""/>
                            <p:cNvSpPr/>
                            <p:nvPr/>
                          </p:nvSpPr>
                          <p:spPr>
                            <a:xfrm>
                              <a:off x="3904920" y="53542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8" name=""/>
                          <p:cNvGrpSpPr/>
                          <p:nvPr/>
                        </p:nvGrpSpPr>
                        <p:grpSpPr>
                          <a:xfrm>
                            <a:off x="3732840" y="5405040"/>
                            <a:ext cx="255240" cy="112680"/>
                            <a:chOff x="3732840" y="5405040"/>
                            <a:chExt cx="255240" cy="112680"/>
                          </a:xfrm>
                        </p:grpSpPr>
                        <p:grpSp>
                          <p:nvGrpSpPr>
                            <p:cNvPr id="1069" name=""/>
                            <p:cNvGrpSpPr/>
                            <p:nvPr/>
                          </p:nvGrpSpPr>
                          <p:grpSpPr>
                            <a:xfrm>
                              <a:off x="3732840" y="5405040"/>
                              <a:ext cx="255240" cy="112680"/>
                              <a:chOff x="3732840" y="5405040"/>
                              <a:chExt cx="255240" cy="112680"/>
                            </a:xfrm>
                          </p:grpSpPr>
                          <p:sp>
                            <p:nvSpPr>
                              <p:cNvPr id="1070" name=""/>
                              <p:cNvSpPr/>
                              <p:nvPr/>
                            </p:nvSpPr>
                            <p:spPr>
                              <a:xfrm>
                                <a:off x="3747600" y="540504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1" name=""/>
                              <p:cNvSpPr/>
                              <p:nvPr/>
                            </p:nvSpPr>
                            <p:spPr>
                              <a:xfrm>
                                <a:off x="3773520" y="548496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2" name=""/>
                              <p:cNvSpPr/>
                              <p:nvPr/>
                            </p:nvSpPr>
                            <p:spPr>
                              <a:xfrm>
                                <a:off x="3732840" y="5412960"/>
                                <a:ext cx="5904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73" name=""/>
                            <p:cNvSpPr/>
                            <p:nvPr/>
                          </p:nvSpPr>
                          <p:spPr>
                            <a:xfrm>
                              <a:off x="3903480" y="540684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74" name=""/>
                            <p:cNvSpPr/>
                            <p:nvPr/>
                          </p:nvSpPr>
                          <p:spPr>
                            <a:xfrm>
                              <a:off x="3934440" y="542448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75" name=""/>
                            <p:cNvSpPr/>
                            <p:nvPr/>
                          </p:nvSpPr>
                          <p:spPr>
                            <a:xfrm>
                              <a:off x="3952440" y="5455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76" name=""/>
                          <p:cNvGrpSpPr/>
                          <p:nvPr/>
                        </p:nvGrpSpPr>
                        <p:grpSpPr>
                          <a:xfrm>
                            <a:off x="3781800" y="5508720"/>
                            <a:ext cx="255240" cy="112320"/>
                            <a:chOff x="3781800" y="5508720"/>
                            <a:chExt cx="255240" cy="112320"/>
                          </a:xfrm>
                        </p:grpSpPr>
                        <p:grpSp>
                          <p:nvGrpSpPr>
                            <p:cNvPr id="1077" name=""/>
                            <p:cNvGrpSpPr/>
                            <p:nvPr/>
                          </p:nvGrpSpPr>
                          <p:grpSpPr>
                            <a:xfrm>
                              <a:off x="3781800" y="5508720"/>
                              <a:ext cx="255240" cy="112320"/>
                              <a:chOff x="3781800" y="5508720"/>
                              <a:chExt cx="255240" cy="112320"/>
                            </a:xfrm>
                          </p:grpSpPr>
                          <p:sp>
                            <p:nvSpPr>
                              <p:cNvPr id="1078" name=""/>
                              <p:cNvSpPr/>
                              <p:nvPr/>
                            </p:nvSpPr>
                            <p:spPr>
                              <a:xfrm>
                                <a:off x="3796560" y="550872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9" name=""/>
                              <p:cNvSpPr/>
                              <p:nvPr/>
                            </p:nvSpPr>
                            <p:spPr>
                              <a:xfrm>
                                <a:off x="3822840" y="558864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0" name=""/>
                              <p:cNvSpPr/>
                              <p:nvPr/>
                            </p:nvSpPr>
                            <p:spPr>
                              <a:xfrm>
                                <a:off x="3781800" y="551664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1" name=""/>
                            <p:cNvSpPr/>
                            <p:nvPr/>
                          </p:nvSpPr>
                          <p:spPr>
                            <a:xfrm>
                              <a:off x="3952440" y="551052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2" name=""/>
                            <p:cNvSpPr/>
                            <p:nvPr/>
                          </p:nvSpPr>
                          <p:spPr>
                            <a:xfrm>
                              <a:off x="3983760" y="552816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3" name=""/>
                            <p:cNvSpPr/>
                            <p:nvPr/>
                          </p:nvSpPr>
                          <p:spPr>
                            <a:xfrm>
                              <a:off x="4001400" y="555948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4" name=""/>
                          <p:cNvGrpSpPr/>
                          <p:nvPr/>
                        </p:nvGrpSpPr>
                        <p:grpSpPr>
                          <a:xfrm>
                            <a:off x="3829680" y="5609160"/>
                            <a:ext cx="255240" cy="112320"/>
                            <a:chOff x="3829680" y="5609160"/>
                            <a:chExt cx="255240" cy="112320"/>
                          </a:xfrm>
                        </p:grpSpPr>
                        <p:grpSp>
                          <p:nvGrpSpPr>
                            <p:cNvPr id="1085" name=""/>
                            <p:cNvGrpSpPr/>
                            <p:nvPr/>
                          </p:nvGrpSpPr>
                          <p:grpSpPr>
                            <a:xfrm>
                              <a:off x="3829680" y="5609160"/>
                              <a:ext cx="255240" cy="112320"/>
                              <a:chOff x="3829680" y="5609160"/>
                              <a:chExt cx="255240" cy="112320"/>
                            </a:xfrm>
                          </p:grpSpPr>
                          <p:sp>
                            <p:nvSpPr>
                              <p:cNvPr id="1086" name=""/>
                              <p:cNvSpPr/>
                              <p:nvPr/>
                            </p:nvSpPr>
                            <p:spPr>
                              <a:xfrm>
                                <a:off x="3843000" y="5609160"/>
                                <a:ext cx="24192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7" name=""/>
                              <p:cNvSpPr/>
                              <p:nvPr/>
                            </p:nvSpPr>
                            <p:spPr>
                              <a:xfrm>
                                <a:off x="3870360" y="5689080"/>
                                <a:ext cx="21456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8" name=""/>
                              <p:cNvSpPr/>
                              <p:nvPr/>
                            </p:nvSpPr>
                            <p:spPr>
                              <a:xfrm>
                                <a:off x="3829680" y="5617080"/>
                                <a:ext cx="572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9" name=""/>
                            <p:cNvSpPr/>
                            <p:nvPr/>
                          </p:nvSpPr>
                          <p:spPr>
                            <a:xfrm>
                              <a:off x="3998520" y="5612400"/>
                              <a:ext cx="4248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0" name=""/>
                            <p:cNvSpPr/>
                            <p:nvPr/>
                          </p:nvSpPr>
                          <p:spPr>
                            <a:xfrm>
                              <a:off x="4031640" y="56300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1" name=""/>
                            <p:cNvSpPr/>
                            <p:nvPr/>
                          </p:nvSpPr>
                          <p:spPr>
                            <a:xfrm>
                              <a:off x="4047840" y="5659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2" name=""/>
                          <p:cNvGrpSpPr/>
                          <p:nvPr/>
                        </p:nvGrpSpPr>
                        <p:grpSpPr>
                          <a:xfrm>
                            <a:off x="3875760" y="5709240"/>
                            <a:ext cx="255240" cy="114120"/>
                            <a:chOff x="3875760" y="5709240"/>
                            <a:chExt cx="255240" cy="114120"/>
                          </a:xfrm>
                        </p:grpSpPr>
                        <p:grpSp>
                          <p:nvGrpSpPr>
                            <p:cNvPr id="1093" name=""/>
                            <p:cNvGrpSpPr/>
                            <p:nvPr/>
                          </p:nvGrpSpPr>
                          <p:grpSpPr>
                            <a:xfrm>
                              <a:off x="3875760" y="5709240"/>
                              <a:ext cx="255240" cy="114120"/>
                              <a:chOff x="3875760" y="5709240"/>
                              <a:chExt cx="255240" cy="114120"/>
                            </a:xfrm>
                          </p:grpSpPr>
                          <p:sp>
                            <p:nvSpPr>
                              <p:cNvPr id="1094" name=""/>
                              <p:cNvSpPr/>
                              <p:nvPr/>
                            </p:nvSpPr>
                            <p:spPr>
                              <a:xfrm>
                                <a:off x="3890160" y="5709240"/>
                                <a:ext cx="24084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6">
                                    <a:moveTo>
                                      <a:pt x="146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5" name=""/>
                              <p:cNvSpPr/>
                              <p:nvPr/>
                            </p:nvSpPr>
                            <p:spPr>
                              <a:xfrm>
                                <a:off x="3916440" y="578916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6" name=""/>
                              <p:cNvSpPr/>
                              <p:nvPr/>
                            </p:nvSpPr>
                            <p:spPr>
                              <a:xfrm>
                                <a:off x="3875760" y="5717160"/>
                                <a:ext cx="586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5">
                                    <a:moveTo>
                                      <a:pt x="35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97" name=""/>
                            <p:cNvSpPr/>
                            <p:nvPr/>
                          </p:nvSpPr>
                          <p:spPr>
                            <a:xfrm>
                              <a:off x="4046040" y="5712480"/>
                              <a:ext cx="41040" cy="7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8">
                                  <a:moveTo>
                                    <a:pt x="0" y="0"/>
                                  </a:moveTo>
                                  <a:lnTo>
                                    <a:pt x="24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680" bIns="316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8" name=""/>
                            <p:cNvSpPr/>
                            <p:nvPr/>
                          </p:nvSpPr>
                          <p:spPr>
                            <a:xfrm>
                              <a:off x="4077360" y="573012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9" name=""/>
                            <p:cNvSpPr/>
                            <p:nvPr/>
                          </p:nvSpPr>
                          <p:spPr>
                            <a:xfrm>
                              <a:off x="4095360" y="57600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00" name=""/>
                          <p:cNvGrpSpPr/>
                          <p:nvPr/>
                        </p:nvGrpSpPr>
                        <p:grpSpPr>
                          <a:xfrm>
                            <a:off x="3923280" y="5812920"/>
                            <a:ext cx="255240" cy="114120"/>
                            <a:chOff x="3923280" y="5812920"/>
                            <a:chExt cx="255240" cy="114120"/>
                          </a:xfrm>
                        </p:grpSpPr>
                        <p:grpSp>
                          <p:nvGrpSpPr>
                            <p:cNvPr id="1101" name=""/>
                            <p:cNvGrpSpPr/>
                            <p:nvPr/>
                          </p:nvGrpSpPr>
                          <p:grpSpPr>
                            <a:xfrm>
                              <a:off x="3923280" y="5812920"/>
                              <a:ext cx="255240" cy="114120"/>
                              <a:chOff x="3923280" y="5812920"/>
                              <a:chExt cx="255240" cy="114120"/>
                            </a:xfrm>
                          </p:grpSpPr>
                          <p:sp>
                            <p:nvSpPr>
                              <p:cNvPr id="1102" name=""/>
                              <p:cNvSpPr/>
                              <p:nvPr/>
                            </p:nvSpPr>
                            <p:spPr>
                              <a:xfrm>
                                <a:off x="3936240" y="5812920"/>
                                <a:ext cx="242280" cy="9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6">
                                    <a:moveTo>
                                      <a:pt x="147" y="49"/>
                                    </a:moveTo>
                                    <a:lnTo>
                                      <a:pt x="26" y="55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4640" bIns="446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3" name=""/>
                              <p:cNvSpPr/>
                              <p:nvPr/>
                            </p:nvSpPr>
                            <p:spPr>
                              <a:xfrm>
                                <a:off x="3963960" y="5892840"/>
                                <a:ext cx="214560" cy="3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1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4" name=""/>
                              <p:cNvSpPr/>
                              <p:nvPr/>
                            </p:nvSpPr>
                            <p:spPr>
                              <a:xfrm>
                                <a:off x="3923280" y="5820840"/>
                                <a:ext cx="56880" cy="10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5">
                                    <a:moveTo>
                                      <a:pt x="34" y="49"/>
                                    </a:moveTo>
                                    <a:lnTo>
                                      <a:pt x="25" y="64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05" name=""/>
                            <p:cNvSpPr/>
                            <p:nvPr/>
                          </p:nvSpPr>
                          <p:spPr>
                            <a:xfrm>
                              <a:off x="4092120" y="5816160"/>
                              <a:ext cx="42120" cy="78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8">
                                  <a:moveTo>
                                    <a:pt x="0" y="0"/>
                                  </a:moveTo>
                                  <a:lnTo>
                                    <a:pt x="25" y="47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1320" bIns="31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6" name=""/>
                            <p:cNvSpPr/>
                            <p:nvPr/>
                          </p:nvSpPr>
                          <p:spPr>
                            <a:xfrm>
                              <a:off x="4124880" y="583380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7" name=""/>
                            <p:cNvSpPr/>
                            <p:nvPr/>
                          </p:nvSpPr>
                          <p:spPr>
                            <a:xfrm>
                              <a:off x="4141080" y="5863680"/>
                              <a:ext cx="9720" cy="2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640" bIns="-4464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08" name=""/>
                          <p:cNvGrpSpPr/>
                          <p:nvPr/>
                        </p:nvGrpSpPr>
                        <p:grpSpPr>
                          <a:xfrm>
                            <a:off x="3972600" y="5914800"/>
                            <a:ext cx="255240" cy="112680"/>
                            <a:chOff x="3972600" y="5914800"/>
                            <a:chExt cx="255240" cy="112680"/>
                          </a:xfrm>
                        </p:grpSpPr>
                        <p:grpSp>
                          <p:nvGrpSpPr>
                            <p:cNvPr id="1109" name=""/>
                            <p:cNvGrpSpPr/>
                            <p:nvPr/>
                          </p:nvGrpSpPr>
                          <p:grpSpPr>
                            <a:xfrm>
                              <a:off x="3972600" y="5914800"/>
                              <a:ext cx="255240" cy="112680"/>
                              <a:chOff x="3972600" y="5914800"/>
                              <a:chExt cx="255240" cy="112680"/>
                            </a:xfrm>
                          </p:grpSpPr>
                          <p:sp>
                            <p:nvSpPr>
                              <p:cNvPr id="1110" name=""/>
                              <p:cNvSpPr/>
                              <p:nvPr/>
                            </p:nvSpPr>
                            <p:spPr>
                              <a:xfrm>
                                <a:off x="3985560" y="5914800"/>
                                <a:ext cx="2422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" h="55">
                                    <a:moveTo>
                                      <a:pt x="147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2" y="0"/>
                                    </a:lnTo>
                                    <a:lnTo>
                                      <a:pt x="147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1" name=""/>
                              <p:cNvSpPr/>
                              <p:nvPr/>
                            </p:nvSpPr>
                            <p:spPr>
                              <a:xfrm>
                                <a:off x="4013280" y="5994720"/>
                                <a:ext cx="214560" cy="32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040" bIns="-14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3972600" y="5922720"/>
                                <a:ext cx="568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64">
                                    <a:moveTo>
                                      <a:pt x="34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34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3" name=""/>
                            <p:cNvSpPr/>
                            <p:nvPr/>
                          </p:nvSpPr>
                          <p:spPr>
                            <a:xfrm>
                              <a:off x="4141440" y="5916600"/>
                              <a:ext cx="424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49">
                                  <a:moveTo>
                                    <a:pt x="0" y="0"/>
                                  </a:moveTo>
                                  <a:lnTo>
                                    <a:pt x="25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4" name=""/>
                            <p:cNvSpPr/>
                            <p:nvPr/>
                          </p:nvSpPr>
                          <p:spPr>
                            <a:xfrm>
                              <a:off x="4174200" y="5934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5" name=""/>
                            <p:cNvSpPr/>
                            <p:nvPr/>
                          </p:nvSpPr>
                          <p:spPr>
                            <a:xfrm>
                              <a:off x="4190400" y="5965560"/>
                              <a:ext cx="97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16" name=""/>
                          <p:cNvGrpSpPr/>
                          <p:nvPr/>
                        </p:nvGrpSpPr>
                        <p:grpSpPr>
                          <a:xfrm>
                            <a:off x="4018320" y="6018480"/>
                            <a:ext cx="255240" cy="112320"/>
                            <a:chOff x="4018320" y="6018480"/>
                            <a:chExt cx="255240" cy="112320"/>
                          </a:xfrm>
                        </p:grpSpPr>
                        <p:grpSp>
                          <p:nvGrpSpPr>
                            <p:cNvPr id="1117" name=""/>
                            <p:cNvGrpSpPr/>
                            <p:nvPr/>
                          </p:nvGrpSpPr>
                          <p:grpSpPr>
                            <a:xfrm>
                              <a:off x="4018320" y="6018480"/>
                              <a:ext cx="255240" cy="112320"/>
                              <a:chOff x="4018320" y="6018480"/>
                              <a:chExt cx="255240" cy="112320"/>
                            </a:xfrm>
                          </p:grpSpPr>
                          <p:sp>
                            <p:nvSpPr>
                              <p:cNvPr id="1118" name=""/>
                              <p:cNvSpPr/>
                              <p:nvPr/>
                            </p:nvSpPr>
                            <p:spPr>
                              <a:xfrm>
                                <a:off x="4033080" y="6018480"/>
                                <a:ext cx="240480" cy="9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7" h="55">
                                    <a:moveTo>
                                      <a:pt x="146" y="48"/>
                                    </a:moveTo>
                                    <a:lnTo>
                                      <a:pt x="26" y="54"/>
                                    </a:lnTo>
                                    <a:lnTo>
                                      <a:pt x="0" y="5"/>
                                    </a:lnTo>
                                    <a:lnTo>
                                      <a:pt x="121" y="0"/>
                                    </a:lnTo>
                                    <a:lnTo>
                                      <a:pt x="146" y="48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9" name=""/>
                              <p:cNvSpPr/>
                              <p:nvPr/>
                            </p:nvSpPr>
                            <p:spPr>
                              <a:xfrm>
                                <a:off x="4059360" y="6098400"/>
                                <a:ext cx="21420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1" h="20">
                                    <a:moveTo>
                                      <a:pt x="130" y="0"/>
                                    </a:moveTo>
                                    <a:lnTo>
                                      <a:pt x="119" y="13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3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0" name=""/>
                              <p:cNvSpPr/>
                              <p:nvPr/>
                            </p:nvSpPr>
                            <p:spPr>
                              <a:xfrm>
                                <a:off x="4018320" y="6026400"/>
                                <a:ext cx="59040" cy="10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" h="64">
                                    <a:moveTo>
                                      <a:pt x="35" y="49"/>
                                    </a:moveTo>
                                    <a:lnTo>
                                      <a:pt x="25" y="63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9" y="0"/>
                                    </a:lnTo>
                                    <a:lnTo>
                                      <a:pt x="35" y="49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21" name=""/>
                            <p:cNvSpPr/>
                            <p:nvPr/>
                          </p:nvSpPr>
                          <p:spPr>
                            <a:xfrm>
                              <a:off x="4188960" y="6020280"/>
                              <a:ext cx="40680" cy="80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" h="49">
                                  <a:moveTo>
                                    <a:pt x="0" y="0"/>
                                  </a:moveTo>
                                  <a:lnTo>
                                    <a:pt x="24" y="4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480" bIns="33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2" name=""/>
                            <p:cNvSpPr/>
                            <p:nvPr/>
                          </p:nvSpPr>
                          <p:spPr>
                            <a:xfrm>
                              <a:off x="4220280" y="6037920"/>
                              <a:ext cx="936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3" name=""/>
                            <p:cNvSpPr/>
                            <p:nvPr/>
                          </p:nvSpPr>
                          <p:spPr>
                            <a:xfrm>
                              <a:off x="4237920" y="6069240"/>
                              <a:ext cx="7920" cy="32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4280" bIns="-4428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124" name=""/>
                      <p:cNvGrpSpPr/>
                      <p:nvPr/>
                    </p:nvGrpSpPr>
                    <p:grpSpPr>
                      <a:xfrm>
                        <a:off x="4500000" y="5443560"/>
                        <a:ext cx="570600" cy="457560"/>
                        <a:chOff x="4500000" y="5443560"/>
                        <a:chExt cx="570600" cy="457560"/>
                      </a:xfrm>
                    </p:grpSpPr>
                    <p:grpSp>
                      <p:nvGrpSpPr>
                        <p:cNvPr id="1125" name=""/>
                        <p:cNvGrpSpPr/>
                        <p:nvPr/>
                      </p:nvGrpSpPr>
                      <p:grpSpPr>
                        <a:xfrm>
                          <a:off x="4751280" y="5443560"/>
                          <a:ext cx="319320" cy="448200"/>
                          <a:chOff x="4751280" y="5443560"/>
                          <a:chExt cx="319320" cy="448200"/>
                        </a:xfrm>
                      </p:grpSpPr>
                      <p:grpSp>
                        <p:nvGrpSpPr>
                          <p:cNvPr id="1126" name=""/>
                          <p:cNvGrpSpPr/>
                          <p:nvPr/>
                        </p:nvGrpSpPr>
                        <p:grpSpPr>
                          <a:xfrm>
                            <a:off x="4751280" y="5443560"/>
                            <a:ext cx="148680" cy="106200"/>
                            <a:chOff x="4751280" y="5443560"/>
                            <a:chExt cx="148680" cy="106200"/>
                          </a:xfrm>
                        </p:grpSpPr>
                        <p:sp>
                          <p:nvSpPr>
                            <p:cNvPr id="1127" name=""/>
                            <p:cNvSpPr/>
                            <p:nvPr/>
                          </p:nvSpPr>
                          <p:spPr>
                            <a:xfrm>
                              <a:off x="4757760" y="5443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8" name=""/>
                            <p:cNvSpPr/>
                            <p:nvPr/>
                          </p:nvSpPr>
                          <p:spPr>
                            <a:xfrm>
                              <a:off x="4798800" y="55404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9" name=""/>
                            <p:cNvSpPr/>
                            <p:nvPr/>
                          </p:nvSpPr>
                          <p:spPr>
                            <a:xfrm>
                              <a:off x="4751280" y="544968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0" name=""/>
                          <p:cNvGrpSpPr/>
                          <p:nvPr/>
                        </p:nvGrpSpPr>
                        <p:grpSpPr>
                          <a:xfrm>
                            <a:off x="4807080" y="5556600"/>
                            <a:ext cx="150480" cy="104760"/>
                            <a:chOff x="4807080" y="5556600"/>
                            <a:chExt cx="150480" cy="104760"/>
                          </a:xfrm>
                        </p:grpSpPr>
                        <p:sp>
                          <p:nvSpPr>
                            <p:cNvPr id="1131" name=""/>
                            <p:cNvSpPr/>
                            <p:nvPr/>
                          </p:nvSpPr>
                          <p:spPr>
                            <a:xfrm>
                              <a:off x="4815000" y="55566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2" name=""/>
                            <p:cNvSpPr/>
                            <p:nvPr/>
                          </p:nvSpPr>
                          <p:spPr>
                            <a:xfrm>
                              <a:off x="4854600" y="56534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2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3" name=""/>
                            <p:cNvSpPr/>
                            <p:nvPr/>
                          </p:nvSpPr>
                          <p:spPr>
                            <a:xfrm>
                              <a:off x="4807080" y="556308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4" name=""/>
                          <p:cNvGrpSpPr/>
                          <p:nvPr/>
                        </p:nvGrpSpPr>
                        <p:grpSpPr>
                          <a:xfrm>
                            <a:off x="4864320" y="5671800"/>
                            <a:ext cx="149040" cy="106200"/>
                            <a:chOff x="4864320" y="5671800"/>
                            <a:chExt cx="149040" cy="106200"/>
                          </a:xfrm>
                        </p:grpSpPr>
                        <p:sp>
                          <p:nvSpPr>
                            <p:cNvPr id="1135" name=""/>
                            <p:cNvSpPr/>
                            <p:nvPr/>
                          </p:nvSpPr>
                          <p:spPr>
                            <a:xfrm>
                              <a:off x="4870800" y="56718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6" name=""/>
                            <p:cNvSpPr/>
                            <p:nvPr/>
                          </p:nvSpPr>
                          <p:spPr>
                            <a:xfrm>
                              <a:off x="4911840" y="576864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4864320" y="56779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8" name=""/>
                          <p:cNvGrpSpPr/>
                          <p:nvPr/>
                        </p:nvGrpSpPr>
                        <p:grpSpPr>
                          <a:xfrm>
                            <a:off x="4920120" y="5785200"/>
                            <a:ext cx="150480" cy="106560"/>
                            <a:chOff x="4920120" y="5785200"/>
                            <a:chExt cx="150480" cy="106560"/>
                          </a:xfrm>
                        </p:grpSpPr>
                        <p:sp>
                          <p:nvSpPr>
                            <p:cNvPr id="1139" name=""/>
                            <p:cNvSpPr/>
                            <p:nvPr/>
                          </p:nvSpPr>
                          <p:spPr>
                            <a:xfrm>
                              <a:off x="4928040" y="578520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0" name=""/>
                            <p:cNvSpPr/>
                            <p:nvPr/>
                          </p:nvSpPr>
                          <p:spPr>
                            <a:xfrm>
                              <a:off x="4967640" y="588204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1" name=""/>
                            <p:cNvSpPr/>
                            <p:nvPr/>
                          </p:nvSpPr>
                          <p:spPr>
                            <a:xfrm>
                              <a:off x="4920120" y="579168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42" name=""/>
                        <p:cNvGrpSpPr/>
                        <p:nvPr/>
                      </p:nvGrpSpPr>
                      <p:grpSpPr>
                        <a:xfrm>
                          <a:off x="4627800" y="5448240"/>
                          <a:ext cx="319320" cy="448200"/>
                          <a:chOff x="4627800" y="5448240"/>
                          <a:chExt cx="319320" cy="448200"/>
                        </a:xfrm>
                      </p:grpSpPr>
                      <p:grpSp>
                        <p:nvGrpSpPr>
                          <p:cNvPr id="1143" name=""/>
                          <p:cNvGrpSpPr/>
                          <p:nvPr/>
                        </p:nvGrpSpPr>
                        <p:grpSpPr>
                          <a:xfrm>
                            <a:off x="4627800" y="5448240"/>
                            <a:ext cx="149040" cy="106560"/>
                            <a:chOff x="4627800" y="5448240"/>
                            <a:chExt cx="149040" cy="106560"/>
                          </a:xfrm>
                        </p:grpSpPr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4634280" y="544824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5" name=""/>
                            <p:cNvSpPr/>
                            <p:nvPr/>
                          </p:nvSpPr>
                          <p:spPr>
                            <a:xfrm>
                              <a:off x="4675320" y="554508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6" name=""/>
                            <p:cNvSpPr/>
                            <p:nvPr/>
                          </p:nvSpPr>
                          <p:spPr>
                            <a:xfrm>
                              <a:off x="4627800" y="5454720"/>
                              <a:ext cx="4248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7" name=""/>
                          <p:cNvGrpSpPr/>
                          <p:nvPr/>
                        </p:nvGrpSpPr>
                        <p:grpSpPr>
                          <a:xfrm>
                            <a:off x="4683600" y="5561280"/>
                            <a:ext cx="150480" cy="104760"/>
                            <a:chOff x="4683600" y="5561280"/>
                            <a:chExt cx="150480" cy="104760"/>
                          </a:xfrm>
                        </p:grpSpPr>
                        <p:sp>
                          <p:nvSpPr>
                            <p:cNvPr id="1148" name=""/>
                            <p:cNvSpPr/>
                            <p:nvPr/>
                          </p:nvSpPr>
                          <p:spPr>
                            <a:xfrm>
                              <a:off x="4691520" y="55612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9" name=""/>
                            <p:cNvSpPr/>
                            <p:nvPr/>
                          </p:nvSpPr>
                          <p:spPr>
                            <a:xfrm>
                              <a:off x="4731120" y="5656680"/>
                              <a:ext cx="10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0" name=""/>
                            <p:cNvSpPr/>
                            <p:nvPr/>
                          </p:nvSpPr>
                          <p:spPr>
                            <a:xfrm>
                              <a:off x="4683600" y="5567760"/>
                              <a:ext cx="43920" cy="98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51" name=""/>
                          <p:cNvGrpSpPr/>
                          <p:nvPr/>
                        </p:nvGrpSpPr>
                        <p:grpSpPr>
                          <a:xfrm>
                            <a:off x="4741200" y="5676480"/>
                            <a:ext cx="148680" cy="106560"/>
                            <a:chOff x="4741200" y="5676480"/>
                            <a:chExt cx="148680" cy="106560"/>
                          </a:xfrm>
                        </p:grpSpPr>
                        <p:sp>
                          <p:nvSpPr>
                            <p:cNvPr id="1152" name=""/>
                            <p:cNvSpPr/>
                            <p:nvPr/>
                          </p:nvSpPr>
                          <p:spPr>
                            <a:xfrm>
                              <a:off x="4747320" y="567648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3" name=""/>
                            <p:cNvSpPr/>
                            <p:nvPr/>
                          </p:nvSpPr>
                          <p:spPr>
                            <a:xfrm>
                              <a:off x="4788720" y="577332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4" name=""/>
                            <p:cNvSpPr/>
                            <p:nvPr/>
                          </p:nvSpPr>
                          <p:spPr>
                            <a:xfrm>
                              <a:off x="4741200" y="568296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55" name=""/>
                          <p:cNvGrpSpPr/>
                          <p:nvPr/>
                        </p:nvGrpSpPr>
                        <p:grpSpPr>
                          <a:xfrm>
                            <a:off x="4797000" y="5789880"/>
                            <a:ext cx="150120" cy="106560"/>
                            <a:chOff x="4797000" y="5789880"/>
                            <a:chExt cx="150120" cy="106560"/>
                          </a:xfrm>
                        </p:grpSpPr>
                        <p:sp>
                          <p:nvSpPr>
                            <p:cNvPr id="1156" name=""/>
                            <p:cNvSpPr/>
                            <p:nvPr/>
                          </p:nvSpPr>
                          <p:spPr>
                            <a:xfrm>
                              <a:off x="4804920" y="578988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7" name=""/>
                            <p:cNvSpPr/>
                            <p:nvPr/>
                          </p:nvSpPr>
                          <p:spPr>
                            <a:xfrm>
                              <a:off x="4844160" y="588672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58" name=""/>
                            <p:cNvSpPr/>
                            <p:nvPr/>
                          </p:nvSpPr>
                          <p:spPr>
                            <a:xfrm>
                              <a:off x="4797000" y="579636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59" name=""/>
                        <p:cNvGrpSpPr/>
                        <p:nvPr/>
                      </p:nvGrpSpPr>
                      <p:grpSpPr>
                        <a:xfrm>
                          <a:off x="4500000" y="5452920"/>
                          <a:ext cx="319320" cy="448200"/>
                          <a:chOff x="4500000" y="5452920"/>
                          <a:chExt cx="319320" cy="448200"/>
                        </a:xfrm>
                      </p:grpSpPr>
                      <p:grpSp>
                        <p:nvGrpSpPr>
                          <p:cNvPr id="1160" name=""/>
                          <p:cNvGrpSpPr/>
                          <p:nvPr/>
                        </p:nvGrpSpPr>
                        <p:grpSpPr>
                          <a:xfrm>
                            <a:off x="4500000" y="5452920"/>
                            <a:ext cx="149040" cy="106560"/>
                            <a:chOff x="4500000" y="5452920"/>
                            <a:chExt cx="149040" cy="106560"/>
                          </a:xfrm>
                        </p:grpSpPr>
                        <p:sp>
                          <p:nvSpPr>
                            <p:cNvPr id="1161" name=""/>
                            <p:cNvSpPr/>
                            <p:nvPr/>
                          </p:nvSpPr>
                          <p:spPr>
                            <a:xfrm>
                              <a:off x="4507920" y="5452920"/>
                              <a:ext cx="14112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" h="56">
                                  <a:moveTo>
                                    <a:pt x="58" y="0"/>
                                  </a:moveTo>
                                  <a:lnTo>
                                    <a:pt x="85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2" name=""/>
                            <p:cNvSpPr/>
                            <p:nvPr/>
                          </p:nvSpPr>
                          <p:spPr>
                            <a:xfrm>
                              <a:off x="4547520" y="5549760"/>
                              <a:ext cx="1015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3" name=""/>
                            <p:cNvSpPr/>
                            <p:nvPr/>
                          </p:nvSpPr>
                          <p:spPr>
                            <a:xfrm>
                              <a:off x="4500000" y="545940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4" name=""/>
                          <p:cNvGrpSpPr/>
                          <p:nvPr/>
                        </p:nvGrpSpPr>
                        <p:grpSpPr>
                          <a:xfrm>
                            <a:off x="4555800" y="5566320"/>
                            <a:ext cx="150480" cy="104760"/>
                            <a:chOff x="4555800" y="5566320"/>
                            <a:chExt cx="150480" cy="104760"/>
                          </a:xfrm>
                        </p:grpSpPr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4563720" y="5566320"/>
                              <a:ext cx="142560" cy="9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1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4640" bIns="44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6" name=""/>
                            <p:cNvSpPr/>
                            <p:nvPr/>
                          </p:nvSpPr>
                          <p:spPr>
                            <a:xfrm>
                              <a:off x="4603320" y="5661360"/>
                              <a:ext cx="102960" cy="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6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2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080" bIns="-37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4555800" y="5572440"/>
                              <a:ext cx="4392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0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59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8" name=""/>
                          <p:cNvGrpSpPr/>
                          <p:nvPr/>
                        </p:nvGrpSpPr>
                        <p:grpSpPr>
                          <a:xfrm>
                            <a:off x="4613400" y="5681160"/>
                            <a:ext cx="148680" cy="106560"/>
                            <a:chOff x="4613400" y="5681160"/>
                            <a:chExt cx="148680" cy="106560"/>
                          </a:xfrm>
                        </p:grpSpPr>
                        <p:sp>
                          <p:nvSpPr>
                            <p:cNvPr id="1169" name=""/>
                            <p:cNvSpPr/>
                            <p:nvPr/>
                          </p:nvSpPr>
                          <p:spPr>
                            <a:xfrm>
                              <a:off x="4619520" y="5681160"/>
                              <a:ext cx="14256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7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0" name=""/>
                            <p:cNvSpPr/>
                            <p:nvPr/>
                          </p:nvSpPr>
                          <p:spPr>
                            <a:xfrm>
                              <a:off x="4660920" y="5778000"/>
                              <a:ext cx="1011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5">
                                  <a:moveTo>
                                    <a:pt x="61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1" name=""/>
                            <p:cNvSpPr/>
                            <p:nvPr/>
                          </p:nvSpPr>
                          <p:spPr>
                            <a:xfrm>
                              <a:off x="4613400" y="5687640"/>
                              <a:ext cx="421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1" y="60"/>
                                  </a:lnTo>
                                  <a:lnTo>
                                    <a:pt x="25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72" name=""/>
                          <p:cNvGrpSpPr/>
                          <p:nvPr/>
                        </p:nvGrpSpPr>
                        <p:grpSpPr>
                          <a:xfrm>
                            <a:off x="4669200" y="5794560"/>
                            <a:ext cx="150120" cy="106560"/>
                            <a:chOff x="4669200" y="5794560"/>
                            <a:chExt cx="150120" cy="106560"/>
                          </a:xfrm>
                        </p:grpSpPr>
                        <p:sp>
                          <p:nvSpPr>
                            <p:cNvPr id="1173" name=""/>
                            <p:cNvSpPr/>
                            <p:nvPr/>
                          </p:nvSpPr>
                          <p:spPr>
                            <a:xfrm>
                              <a:off x="4677120" y="5794560"/>
                              <a:ext cx="142200" cy="91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56">
                                  <a:moveTo>
                                    <a:pt x="59" y="0"/>
                                  </a:moveTo>
                                  <a:lnTo>
                                    <a:pt x="86" y="5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5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4" name=""/>
                            <p:cNvSpPr/>
                            <p:nvPr/>
                          </p:nvSpPr>
                          <p:spPr>
                            <a:xfrm>
                              <a:off x="4716360" y="5891760"/>
                              <a:ext cx="10296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">
                                  <a:moveTo>
                                    <a:pt x="62" y="0"/>
                                  </a:moveTo>
                                  <a:lnTo>
                                    <a:pt x="56" y="3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1"/>
                                  </a:lnTo>
                                  <a:lnTo>
                                    <a:pt x="62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75" name=""/>
                            <p:cNvSpPr/>
                            <p:nvPr/>
                          </p:nvSpPr>
                          <p:spPr>
                            <a:xfrm>
                              <a:off x="4669200" y="5801040"/>
                              <a:ext cx="43920" cy="10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61">
                                  <a:moveTo>
                                    <a:pt x="4" y="0"/>
                                  </a:moveTo>
                                  <a:lnTo>
                                    <a:pt x="0" y="8"/>
                                  </a:lnTo>
                                  <a:lnTo>
                                    <a:pt x="22" y="60"/>
                                  </a:lnTo>
                                  <a:lnTo>
                                    <a:pt x="26" y="52"/>
                                  </a:lnTo>
                                  <a:lnTo>
                                    <a:pt x="4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5648760" y="6002640"/>
                      <a:ext cx="45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9">
                          <a:moveTo>
                            <a:pt x="14" y="0"/>
                          </a:moveTo>
                          <a:lnTo>
                            <a:pt x="25" y="19"/>
                          </a:lnTo>
                          <a:lnTo>
                            <a:pt x="27" y="25"/>
                          </a:lnTo>
                          <a:lnTo>
                            <a:pt x="26" y="31"/>
                          </a:lnTo>
                          <a:lnTo>
                            <a:pt x="25" y="36"/>
                          </a:lnTo>
                          <a:lnTo>
                            <a:pt x="22" y="40"/>
                          </a:lnTo>
                          <a:lnTo>
                            <a:pt x="18" y="43"/>
                          </a:lnTo>
                          <a:lnTo>
                            <a:pt x="13" y="46"/>
                          </a:lnTo>
                          <a:lnTo>
                            <a:pt x="7" y="48"/>
                          </a:lnTo>
                          <a:lnTo>
                            <a:pt x="0" y="48"/>
                          </a:lnTo>
                          <a:lnTo>
                            <a:pt x="4" y="46"/>
                          </a:lnTo>
                          <a:lnTo>
                            <a:pt x="9" y="35"/>
                          </a:lnTo>
                          <a:lnTo>
                            <a:pt x="10" y="31"/>
                          </a:lnTo>
                          <a:lnTo>
                            <a:pt x="10" y="28"/>
                          </a:lnTo>
                          <a:lnTo>
                            <a:pt x="11" y="9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7" name=""/>
                  <p:cNvSpPr/>
                  <p:nvPr/>
                </p:nvSpPr>
                <p:spPr>
                  <a:xfrm>
                    <a:off x="5166000" y="5720040"/>
                    <a:ext cx="442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5">
                        <a:moveTo>
                          <a:pt x="26" y="0"/>
                        </a:moveTo>
                        <a:lnTo>
                          <a:pt x="12" y="2"/>
                        </a:lnTo>
                        <a:lnTo>
                          <a:pt x="6" y="3"/>
                        </a:lnTo>
                        <a:lnTo>
                          <a:pt x="3" y="6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1" y="18"/>
                        </a:lnTo>
                        <a:lnTo>
                          <a:pt x="17" y="54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4763880" y="4803840"/>
                  <a:ext cx="931320" cy="1305720"/>
                  <a:chOff x="4763880" y="4803840"/>
                  <a:chExt cx="931320" cy="130572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5194080" y="5698440"/>
                    <a:ext cx="476640" cy="41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50">
                        <a:moveTo>
                          <a:pt x="280" y="233"/>
                        </a:moveTo>
                        <a:lnTo>
                          <a:pt x="285" y="223"/>
                        </a:lnTo>
                        <a:lnTo>
                          <a:pt x="287" y="216"/>
                        </a:lnTo>
                        <a:lnTo>
                          <a:pt x="288" y="208"/>
                        </a:lnTo>
                        <a:lnTo>
                          <a:pt x="288" y="201"/>
                        </a:lnTo>
                        <a:lnTo>
                          <a:pt x="288" y="192"/>
                        </a:lnTo>
                        <a:lnTo>
                          <a:pt x="289" y="186"/>
                        </a:lnTo>
                        <a:lnTo>
                          <a:pt x="282" y="196"/>
                        </a:lnTo>
                        <a:lnTo>
                          <a:pt x="278" y="201"/>
                        </a:lnTo>
                        <a:lnTo>
                          <a:pt x="271" y="206"/>
                        </a:lnTo>
                        <a:lnTo>
                          <a:pt x="175" y="215"/>
                        </a:lnTo>
                        <a:lnTo>
                          <a:pt x="161" y="215"/>
                        </a:lnTo>
                        <a:lnTo>
                          <a:pt x="152" y="214"/>
                        </a:lnTo>
                        <a:lnTo>
                          <a:pt x="145" y="213"/>
                        </a:lnTo>
                        <a:lnTo>
                          <a:pt x="135" y="210"/>
                        </a:lnTo>
                        <a:lnTo>
                          <a:pt x="127" y="206"/>
                        </a:lnTo>
                        <a:lnTo>
                          <a:pt x="119" y="202"/>
                        </a:lnTo>
                        <a:lnTo>
                          <a:pt x="110" y="196"/>
                        </a:lnTo>
                        <a:lnTo>
                          <a:pt x="104" y="188"/>
                        </a:lnTo>
                        <a:lnTo>
                          <a:pt x="97" y="178"/>
                        </a:lnTo>
                        <a:lnTo>
                          <a:pt x="31" y="0"/>
                        </a:lnTo>
                        <a:lnTo>
                          <a:pt x="25" y="1"/>
                        </a:lnTo>
                        <a:lnTo>
                          <a:pt x="21" y="4"/>
                        </a:lnTo>
                        <a:lnTo>
                          <a:pt x="15" y="8"/>
                        </a:lnTo>
                        <a:lnTo>
                          <a:pt x="12" y="12"/>
                        </a:lnTo>
                        <a:lnTo>
                          <a:pt x="10" y="17"/>
                        </a:lnTo>
                        <a:lnTo>
                          <a:pt x="0" y="64"/>
                        </a:lnTo>
                        <a:lnTo>
                          <a:pt x="81" y="243"/>
                        </a:lnTo>
                        <a:lnTo>
                          <a:pt x="88" y="247"/>
                        </a:lnTo>
                        <a:lnTo>
                          <a:pt x="96" y="249"/>
                        </a:lnTo>
                        <a:lnTo>
                          <a:pt x="104" y="249"/>
                        </a:lnTo>
                        <a:lnTo>
                          <a:pt x="280" y="233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763880" y="4805640"/>
                    <a:ext cx="931320" cy="12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7" h="759">
                        <a:moveTo>
                          <a:pt x="551" y="730"/>
                        </a:moveTo>
                        <a:lnTo>
                          <a:pt x="555" y="717"/>
                        </a:lnTo>
                        <a:lnTo>
                          <a:pt x="559" y="704"/>
                        </a:lnTo>
                        <a:lnTo>
                          <a:pt x="562" y="691"/>
                        </a:lnTo>
                        <a:lnTo>
                          <a:pt x="563" y="677"/>
                        </a:lnTo>
                        <a:lnTo>
                          <a:pt x="565" y="660"/>
                        </a:lnTo>
                        <a:lnTo>
                          <a:pt x="566" y="639"/>
                        </a:lnTo>
                        <a:lnTo>
                          <a:pt x="566" y="625"/>
                        </a:lnTo>
                        <a:lnTo>
                          <a:pt x="464" y="626"/>
                        </a:lnTo>
                        <a:lnTo>
                          <a:pt x="443" y="562"/>
                        </a:lnTo>
                        <a:lnTo>
                          <a:pt x="407" y="476"/>
                        </a:lnTo>
                        <a:lnTo>
                          <a:pt x="337" y="317"/>
                        </a:lnTo>
                        <a:lnTo>
                          <a:pt x="305" y="253"/>
                        </a:lnTo>
                        <a:lnTo>
                          <a:pt x="264" y="189"/>
                        </a:lnTo>
                        <a:lnTo>
                          <a:pt x="187" y="99"/>
                        </a:lnTo>
                        <a:lnTo>
                          <a:pt x="135" y="42"/>
                        </a:lnTo>
                        <a:lnTo>
                          <a:pt x="91" y="0"/>
                        </a:lnTo>
                        <a:lnTo>
                          <a:pt x="35" y="35"/>
                        </a:lnTo>
                        <a:lnTo>
                          <a:pt x="11" y="49"/>
                        </a:lnTo>
                        <a:lnTo>
                          <a:pt x="6" y="52"/>
                        </a:lnTo>
                        <a:lnTo>
                          <a:pt x="3" y="56"/>
                        </a:lnTo>
                        <a:lnTo>
                          <a:pt x="0" y="62"/>
                        </a:lnTo>
                        <a:lnTo>
                          <a:pt x="0" y="69"/>
                        </a:lnTo>
                        <a:lnTo>
                          <a:pt x="2" y="76"/>
                        </a:lnTo>
                        <a:lnTo>
                          <a:pt x="7" y="83"/>
                        </a:lnTo>
                        <a:lnTo>
                          <a:pt x="50" y="121"/>
                        </a:lnTo>
                        <a:lnTo>
                          <a:pt x="73" y="147"/>
                        </a:lnTo>
                        <a:lnTo>
                          <a:pt x="116" y="193"/>
                        </a:lnTo>
                        <a:lnTo>
                          <a:pt x="121" y="196"/>
                        </a:lnTo>
                        <a:lnTo>
                          <a:pt x="129" y="196"/>
                        </a:lnTo>
                        <a:lnTo>
                          <a:pt x="161" y="194"/>
                        </a:lnTo>
                        <a:lnTo>
                          <a:pt x="171" y="192"/>
                        </a:lnTo>
                        <a:lnTo>
                          <a:pt x="181" y="193"/>
                        </a:lnTo>
                        <a:lnTo>
                          <a:pt x="191" y="195"/>
                        </a:lnTo>
                        <a:lnTo>
                          <a:pt x="200" y="200"/>
                        </a:lnTo>
                        <a:lnTo>
                          <a:pt x="208" y="206"/>
                        </a:lnTo>
                        <a:lnTo>
                          <a:pt x="226" y="228"/>
                        </a:lnTo>
                        <a:lnTo>
                          <a:pt x="258" y="286"/>
                        </a:lnTo>
                        <a:lnTo>
                          <a:pt x="277" y="325"/>
                        </a:lnTo>
                        <a:lnTo>
                          <a:pt x="297" y="369"/>
                        </a:lnTo>
                        <a:lnTo>
                          <a:pt x="313" y="405"/>
                        </a:lnTo>
                        <a:lnTo>
                          <a:pt x="326" y="438"/>
                        </a:lnTo>
                        <a:lnTo>
                          <a:pt x="293" y="541"/>
                        </a:lnTo>
                        <a:lnTo>
                          <a:pt x="360" y="720"/>
                        </a:lnTo>
                        <a:lnTo>
                          <a:pt x="366" y="732"/>
                        </a:lnTo>
                        <a:lnTo>
                          <a:pt x="376" y="742"/>
                        </a:lnTo>
                        <a:lnTo>
                          <a:pt x="396" y="753"/>
                        </a:lnTo>
                        <a:lnTo>
                          <a:pt x="414" y="757"/>
                        </a:lnTo>
                        <a:lnTo>
                          <a:pt x="438" y="758"/>
                        </a:lnTo>
                        <a:lnTo>
                          <a:pt x="535" y="748"/>
                        </a:lnTo>
                        <a:lnTo>
                          <a:pt x="541" y="742"/>
                        </a:lnTo>
                        <a:lnTo>
                          <a:pt x="546" y="736"/>
                        </a:lnTo>
                        <a:lnTo>
                          <a:pt x="551" y="73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776840" y="4943520"/>
                    <a:ext cx="524160" cy="61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374">
                        <a:moveTo>
                          <a:pt x="318" y="354"/>
                        </a:moveTo>
                        <a:lnTo>
                          <a:pt x="305" y="320"/>
                        </a:lnTo>
                        <a:lnTo>
                          <a:pt x="285" y="276"/>
                        </a:lnTo>
                        <a:lnTo>
                          <a:pt x="259" y="221"/>
                        </a:lnTo>
                        <a:lnTo>
                          <a:pt x="250" y="200"/>
                        </a:lnTo>
                        <a:lnTo>
                          <a:pt x="217" y="144"/>
                        </a:lnTo>
                        <a:lnTo>
                          <a:pt x="200" y="122"/>
                        </a:lnTo>
                        <a:lnTo>
                          <a:pt x="189" y="114"/>
                        </a:lnTo>
                        <a:lnTo>
                          <a:pt x="182" y="111"/>
                        </a:lnTo>
                        <a:lnTo>
                          <a:pt x="175" y="109"/>
                        </a:lnTo>
                        <a:lnTo>
                          <a:pt x="165" y="108"/>
                        </a:lnTo>
                        <a:lnTo>
                          <a:pt x="133" y="111"/>
                        </a:lnTo>
                        <a:lnTo>
                          <a:pt x="121" y="112"/>
                        </a:lnTo>
                        <a:lnTo>
                          <a:pt x="114" y="112"/>
                        </a:lnTo>
                        <a:lnTo>
                          <a:pt x="111" y="111"/>
                        </a:lnTo>
                        <a:lnTo>
                          <a:pt x="107" y="108"/>
                        </a:lnTo>
                        <a:lnTo>
                          <a:pt x="72" y="71"/>
                        </a:lnTo>
                        <a:lnTo>
                          <a:pt x="43" y="37"/>
                        </a:lnTo>
                        <a:lnTo>
                          <a:pt x="0" y="0"/>
                        </a:lnTo>
                        <a:lnTo>
                          <a:pt x="78" y="135"/>
                        </a:lnTo>
                        <a:lnTo>
                          <a:pt x="81" y="139"/>
                        </a:lnTo>
                        <a:lnTo>
                          <a:pt x="85" y="143"/>
                        </a:lnTo>
                        <a:lnTo>
                          <a:pt x="90" y="146"/>
                        </a:lnTo>
                        <a:lnTo>
                          <a:pt x="103" y="147"/>
                        </a:lnTo>
                        <a:lnTo>
                          <a:pt x="123" y="150"/>
                        </a:lnTo>
                        <a:lnTo>
                          <a:pt x="140" y="151"/>
                        </a:lnTo>
                        <a:lnTo>
                          <a:pt x="158" y="151"/>
                        </a:lnTo>
                        <a:lnTo>
                          <a:pt x="171" y="151"/>
                        </a:lnTo>
                        <a:lnTo>
                          <a:pt x="182" y="150"/>
                        </a:lnTo>
                        <a:lnTo>
                          <a:pt x="196" y="149"/>
                        </a:lnTo>
                        <a:lnTo>
                          <a:pt x="202" y="152"/>
                        </a:lnTo>
                        <a:lnTo>
                          <a:pt x="205" y="157"/>
                        </a:lnTo>
                        <a:lnTo>
                          <a:pt x="208" y="162"/>
                        </a:lnTo>
                        <a:lnTo>
                          <a:pt x="233" y="210"/>
                        </a:lnTo>
                        <a:lnTo>
                          <a:pt x="261" y="264"/>
                        </a:lnTo>
                        <a:lnTo>
                          <a:pt x="280" y="304"/>
                        </a:lnTo>
                        <a:lnTo>
                          <a:pt x="312" y="373"/>
                        </a:lnTo>
                        <a:lnTo>
                          <a:pt x="318" y="354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911480" y="4803840"/>
                    <a:ext cx="783360" cy="10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627">
                        <a:moveTo>
                          <a:pt x="476" y="626"/>
                        </a:moveTo>
                        <a:lnTo>
                          <a:pt x="474" y="607"/>
                        </a:lnTo>
                        <a:lnTo>
                          <a:pt x="469" y="590"/>
                        </a:lnTo>
                        <a:lnTo>
                          <a:pt x="465" y="575"/>
                        </a:lnTo>
                        <a:lnTo>
                          <a:pt x="459" y="558"/>
                        </a:lnTo>
                        <a:lnTo>
                          <a:pt x="442" y="513"/>
                        </a:lnTo>
                        <a:lnTo>
                          <a:pt x="427" y="478"/>
                        </a:lnTo>
                        <a:lnTo>
                          <a:pt x="401" y="420"/>
                        </a:lnTo>
                        <a:lnTo>
                          <a:pt x="370" y="359"/>
                        </a:lnTo>
                        <a:lnTo>
                          <a:pt x="337" y="292"/>
                        </a:lnTo>
                        <a:lnTo>
                          <a:pt x="289" y="213"/>
                        </a:lnTo>
                        <a:lnTo>
                          <a:pt x="275" y="192"/>
                        </a:lnTo>
                        <a:lnTo>
                          <a:pt x="258" y="167"/>
                        </a:lnTo>
                        <a:lnTo>
                          <a:pt x="234" y="133"/>
                        </a:lnTo>
                        <a:lnTo>
                          <a:pt x="209" y="105"/>
                        </a:lnTo>
                        <a:lnTo>
                          <a:pt x="179" y="72"/>
                        </a:lnTo>
                        <a:lnTo>
                          <a:pt x="109" y="1"/>
                        </a:lnTo>
                        <a:lnTo>
                          <a:pt x="0" y="0"/>
                        </a:lnTo>
                        <a:lnTo>
                          <a:pt x="45" y="43"/>
                        </a:lnTo>
                        <a:lnTo>
                          <a:pt x="77" y="78"/>
                        </a:lnTo>
                        <a:lnTo>
                          <a:pt x="140" y="149"/>
                        </a:lnTo>
                        <a:lnTo>
                          <a:pt x="174" y="189"/>
                        </a:lnTo>
                        <a:lnTo>
                          <a:pt x="214" y="253"/>
                        </a:lnTo>
                        <a:lnTo>
                          <a:pt x="250" y="321"/>
                        </a:lnTo>
                        <a:lnTo>
                          <a:pt x="318" y="477"/>
                        </a:lnTo>
                        <a:lnTo>
                          <a:pt x="352" y="559"/>
                        </a:lnTo>
                        <a:lnTo>
                          <a:pt x="374" y="626"/>
                        </a:lnTo>
                        <a:lnTo>
                          <a:pt x="476" y="62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5028480" y="5344920"/>
                  <a:ext cx="257400" cy="223200"/>
                  <a:chOff x="5028480" y="5344920"/>
                  <a:chExt cx="257400" cy="22320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5028480" y="5344920"/>
                    <a:ext cx="164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">
                        <a:moveTo>
                          <a:pt x="99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046120" y="5377680"/>
                    <a:ext cx="1591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">
                        <a:moveTo>
                          <a:pt x="96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065920" y="5412240"/>
                    <a:ext cx="15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4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085720" y="5448240"/>
                    <a:ext cx="154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">
                        <a:moveTo>
                          <a:pt x="93" y="0"/>
                        </a:move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5105520" y="5482800"/>
                    <a:ext cx="149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7">
                        <a:moveTo>
                          <a:pt x="90" y="0"/>
                        </a:move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5121720" y="5517360"/>
                    <a:ext cx="14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">
                        <a:moveTo>
                          <a:pt x="89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141520" y="5553360"/>
                    <a:ext cx="144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87" y="0"/>
                        </a:move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5562720" y="5898240"/>
                <a:ext cx="73800" cy="47160"/>
                <a:chOff x="5562720" y="5898240"/>
                <a:chExt cx="73800" cy="4716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562720" y="5898240"/>
                  <a:ext cx="73800" cy="4716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0"/>
                      </a:moveTo>
                      <a:lnTo>
                        <a:pt x="6" y="0"/>
                      </a:lnTo>
                      <a:lnTo>
                        <a:pt x="0" y="28"/>
                      </a:lnTo>
                      <a:lnTo>
                        <a:pt x="38" y="2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564520" y="5913000"/>
                  <a:ext cx="61920" cy="2592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1"/>
                      </a:moveTo>
                      <a:lnTo>
                        <a:pt x="34" y="14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37" y="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4" name=""/>
            <p:cNvGrpSpPr/>
            <p:nvPr/>
          </p:nvGrpSpPr>
          <p:grpSpPr>
            <a:xfrm>
              <a:off x="5550120" y="5913360"/>
              <a:ext cx="131760" cy="534960"/>
              <a:chOff x="5550120" y="5913360"/>
              <a:chExt cx="131760" cy="53496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5586120" y="6163200"/>
                <a:ext cx="95760" cy="285120"/>
                <a:chOff x="5586120" y="6163200"/>
                <a:chExt cx="95760" cy="285120"/>
              </a:xfrm>
            </p:grpSpPr>
            <p:grpSp>
              <p:nvGrpSpPr>
                <p:cNvPr id="1196" name=""/>
                <p:cNvGrpSpPr/>
                <p:nvPr/>
              </p:nvGrpSpPr>
              <p:grpSpPr>
                <a:xfrm>
                  <a:off x="5610600" y="6330600"/>
                  <a:ext cx="71280" cy="117720"/>
                  <a:chOff x="5610600" y="6330600"/>
                  <a:chExt cx="71280" cy="11772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5623200" y="633204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610600" y="633060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5602320" y="6246720"/>
                  <a:ext cx="71280" cy="119520"/>
                  <a:chOff x="5602320" y="6246720"/>
                  <a:chExt cx="71280" cy="11952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5613480" y="6248160"/>
                    <a:ext cx="43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602320" y="6246720"/>
                    <a:ext cx="712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3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3"/>
                        </a:lnTo>
                        <a:lnTo>
                          <a:pt x="1" y="47"/>
                        </a:lnTo>
                        <a:lnTo>
                          <a:pt x="2" y="50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4" y="61"/>
                        </a:lnTo>
                        <a:lnTo>
                          <a:pt x="21" y="65"/>
                        </a:lnTo>
                        <a:lnTo>
                          <a:pt x="30" y="68"/>
                        </a:lnTo>
                        <a:lnTo>
                          <a:pt x="37" y="71"/>
                        </a:lnTo>
                        <a:lnTo>
                          <a:pt x="43" y="72"/>
                        </a:lnTo>
                        <a:lnTo>
                          <a:pt x="43" y="46"/>
                        </a:lnTo>
                        <a:lnTo>
                          <a:pt x="35" y="44"/>
                        </a:lnTo>
                        <a:lnTo>
                          <a:pt x="28" y="41"/>
                        </a:lnTo>
                        <a:lnTo>
                          <a:pt x="23" y="40"/>
                        </a:lnTo>
                        <a:lnTo>
                          <a:pt x="19" y="37"/>
                        </a:lnTo>
                        <a:lnTo>
                          <a:pt x="14" y="33"/>
                        </a:lnTo>
                        <a:lnTo>
                          <a:pt x="11" y="30"/>
                        </a:lnTo>
                        <a:lnTo>
                          <a:pt x="8" y="25"/>
                        </a:lnTo>
                        <a:lnTo>
                          <a:pt x="7" y="20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9" y="6"/>
                        </a:lnTo>
                        <a:lnTo>
                          <a:pt x="28" y="4"/>
                        </a:lnTo>
                        <a:lnTo>
                          <a:pt x="35" y="2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5586120" y="6163200"/>
                  <a:ext cx="73080" cy="117720"/>
                  <a:chOff x="5586120" y="6163200"/>
                  <a:chExt cx="73080" cy="11772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5599080" y="6164640"/>
                    <a:ext cx="42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2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586120" y="6163200"/>
                    <a:ext cx="730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3" y="49"/>
                        </a:lnTo>
                        <a:lnTo>
                          <a:pt x="6" y="54"/>
                        </a:lnTo>
                        <a:lnTo>
                          <a:pt x="10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7"/>
                        </a:lnTo>
                        <a:lnTo>
                          <a:pt x="38" y="70"/>
                        </a:lnTo>
                        <a:lnTo>
                          <a:pt x="43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5550120" y="5913360"/>
                <a:ext cx="95760" cy="285120"/>
                <a:chOff x="5550120" y="5913360"/>
                <a:chExt cx="95760" cy="28512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5572800" y="6080400"/>
                  <a:ext cx="73080" cy="118080"/>
                  <a:chOff x="5572800" y="6080400"/>
                  <a:chExt cx="73080" cy="11808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5585760" y="6082200"/>
                    <a:ext cx="439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6" y="0"/>
                        </a:moveTo>
                        <a:lnTo>
                          <a:pt x="26" y="15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7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1" y="16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572800" y="6080400"/>
                    <a:ext cx="730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2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4"/>
                        </a:lnTo>
                        <a:lnTo>
                          <a:pt x="12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2" y="46"/>
                        </a:lnTo>
                        <a:lnTo>
                          <a:pt x="3" y="49"/>
                        </a:lnTo>
                        <a:lnTo>
                          <a:pt x="7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0"/>
                        </a:lnTo>
                        <a:lnTo>
                          <a:pt x="44" y="71"/>
                        </a:lnTo>
                        <a:lnTo>
                          <a:pt x="44" y="46"/>
                        </a:lnTo>
                        <a:lnTo>
                          <a:pt x="36" y="43"/>
                        </a:lnTo>
                        <a:lnTo>
                          <a:pt x="29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2" y="29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20" y="5"/>
                        </a:lnTo>
                        <a:lnTo>
                          <a:pt x="29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9" name=""/>
                <p:cNvGrpSpPr/>
                <p:nvPr/>
              </p:nvGrpSpPr>
              <p:grpSpPr>
                <a:xfrm>
                  <a:off x="5564880" y="5996520"/>
                  <a:ext cx="73080" cy="119520"/>
                  <a:chOff x="5564880" y="5996520"/>
                  <a:chExt cx="73080" cy="1195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577840" y="5998320"/>
                    <a:ext cx="42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25" y="0"/>
                        </a:moveTo>
                        <a:lnTo>
                          <a:pt x="25" y="15"/>
                        </a:lnTo>
                        <a:lnTo>
                          <a:pt x="20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6" y="27"/>
                        </a:lnTo>
                        <a:lnTo>
                          <a:pt x="2" y="22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2" y="9"/>
                        </a:lnTo>
                        <a:lnTo>
                          <a:pt x="6" y="7"/>
                        </a:lnTo>
                        <a:lnTo>
                          <a:pt x="13" y="3"/>
                        </a:lnTo>
                        <a:lnTo>
                          <a:pt x="17" y="2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564880" y="5996520"/>
                    <a:ext cx="730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3">
                        <a:moveTo>
                          <a:pt x="36" y="0"/>
                        </a:moveTo>
                        <a:lnTo>
                          <a:pt x="28" y="2"/>
                        </a:lnTo>
                        <a:lnTo>
                          <a:pt x="19" y="5"/>
                        </a:lnTo>
                        <a:lnTo>
                          <a:pt x="11" y="8"/>
                        </a:lnTo>
                        <a:lnTo>
                          <a:pt x="7" y="12"/>
                        </a:lnTo>
                        <a:lnTo>
                          <a:pt x="3" y="15"/>
                        </a:lnTo>
                        <a:lnTo>
                          <a:pt x="0" y="20"/>
                        </a:lnTo>
                        <a:lnTo>
                          <a:pt x="0" y="32"/>
                        </a:lnTo>
                        <a:lnTo>
                          <a:pt x="0" y="42"/>
                        </a:lnTo>
                        <a:lnTo>
                          <a:pt x="1" y="47"/>
                        </a:lnTo>
                        <a:lnTo>
                          <a:pt x="3" y="50"/>
                        </a:lnTo>
                        <a:lnTo>
                          <a:pt x="6" y="54"/>
                        </a:lnTo>
                        <a:lnTo>
                          <a:pt x="11" y="58"/>
                        </a:lnTo>
                        <a:lnTo>
                          <a:pt x="15" y="61"/>
                        </a:lnTo>
                        <a:lnTo>
                          <a:pt x="22" y="65"/>
                        </a:lnTo>
                        <a:lnTo>
                          <a:pt x="30" y="68"/>
                        </a:lnTo>
                        <a:lnTo>
                          <a:pt x="38" y="71"/>
                        </a:lnTo>
                        <a:lnTo>
                          <a:pt x="43" y="72"/>
                        </a:lnTo>
                        <a:lnTo>
                          <a:pt x="44" y="46"/>
                        </a:lnTo>
                        <a:lnTo>
                          <a:pt x="36" y="44"/>
                        </a:lnTo>
                        <a:lnTo>
                          <a:pt x="28" y="41"/>
                        </a:lnTo>
                        <a:lnTo>
                          <a:pt x="24" y="39"/>
                        </a:lnTo>
                        <a:lnTo>
                          <a:pt x="19" y="37"/>
                        </a:lnTo>
                        <a:lnTo>
                          <a:pt x="15" y="33"/>
                        </a:lnTo>
                        <a:lnTo>
                          <a:pt x="11" y="30"/>
                        </a:lnTo>
                        <a:lnTo>
                          <a:pt x="9" y="25"/>
                        </a:lnTo>
                        <a:lnTo>
                          <a:pt x="8" y="19"/>
                        </a:lnTo>
                        <a:lnTo>
                          <a:pt x="8" y="14"/>
                        </a:lnTo>
                        <a:lnTo>
                          <a:pt x="12" y="11"/>
                        </a:lnTo>
                        <a:lnTo>
                          <a:pt x="19" y="6"/>
                        </a:lnTo>
                        <a:lnTo>
                          <a:pt x="28" y="3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550120" y="5913360"/>
                  <a:ext cx="71280" cy="117720"/>
                  <a:chOff x="5550120" y="5913360"/>
                  <a:chExt cx="71280" cy="1177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561280" y="5913360"/>
                    <a:ext cx="43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26" y="0"/>
                        </a:moveTo>
                        <a:lnTo>
                          <a:pt x="26" y="16"/>
                        </a:lnTo>
                        <a:lnTo>
                          <a:pt x="21" y="18"/>
                        </a:lnTo>
                        <a:lnTo>
                          <a:pt x="16" y="19"/>
                        </a:lnTo>
                        <a:lnTo>
                          <a:pt x="13" y="21"/>
                        </a:lnTo>
                        <a:lnTo>
                          <a:pt x="10" y="23"/>
                        </a:lnTo>
                        <a:lnTo>
                          <a:pt x="7" y="28"/>
                        </a:lnTo>
                        <a:lnTo>
                          <a:pt x="2" y="23"/>
                        </a:lnTo>
                        <a:lnTo>
                          <a:pt x="2" y="19"/>
                        </a:lnTo>
                        <a:lnTo>
                          <a:pt x="1" y="17"/>
                        </a:lnTo>
                        <a:lnTo>
                          <a:pt x="0" y="13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13" y="4"/>
                        </a:lnTo>
                        <a:lnTo>
                          <a:pt x="18" y="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550120" y="59133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2">
                        <a:moveTo>
                          <a:pt x="35" y="0"/>
                        </a:moveTo>
                        <a:lnTo>
                          <a:pt x="27" y="2"/>
                        </a:lnTo>
                        <a:lnTo>
                          <a:pt x="19" y="4"/>
                        </a:lnTo>
                        <a:lnTo>
                          <a:pt x="11" y="8"/>
                        </a:lnTo>
                        <a:lnTo>
                          <a:pt x="6" y="11"/>
                        </a:lnTo>
                        <a:lnTo>
                          <a:pt x="2" y="15"/>
                        </a:ln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0" y="42"/>
                        </a:lnTo>
                        <a:lnTo>
                          <a:pt x="1" y="46"/>
                        </a:lnTo>
                        <a:lnTo>
                          <a:pt x="2" y="49"/>
                        </a:lnTo>
                        <a:lnTo>
                          <a:pt x="6" y="53"/>
                        </a:lnTo>
                        <a:lnTo>
                          <a:pt x="10" y="58"/>
                        </a:lnTo>
                        <a:lnTo>
                          <a:pt x="14" y="60"/>
                        </a:lnTo>
                        <a:lnTo>
                          <a:pt x="21" y="64"/>
                        </a:lnTo>
                        <a:lnTo>
                          <a:pt x="30" y="67"/>
                        </a:lnTo>
                        <a:lnTo>
                          <a:pt x="37" y="70"/>
                        </a:lnTo>
                        <a:lnTo>
                          <a:pt x="43" y="71"/>
                        </a:lnTo>
                        <a:lnTo>
                          <a:pt x="43" y="46"/>
                        </a:lnTo>
                        <a:lnTo>
                          <a:pt x="35" y="43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6"/>
                        </a:lnTo>
                        <a:lnTo>
                          <a:pt x="14" y="33"/>
                        </a:lnTo>
                        <a:lnTo>
                          <a:pt x="11" y="29"/>
                        </a:lnTo>
                        <a:lnTo>
                          <a:pt x="8" y="24"/>
                        </a:lnTo>
                        <a:lnTo>
                          <a:pt x="7" y="19"/>
                        </a:lnTo>
                        <a:lnTo>
                          <a:pt x="8" y="14"/>
                        </a:lnTo>
                        <a:lnTo>
                          <a:pt x="11" y="11"/>
                        </a:lnTo>
                        <a:lnTo>
                          <a:pt x="19" y="5"/>
                        </a:lnTo>
                        <a:lnTo>
                          <a:pt x="28" y="3"/>
                        </a:lnTo>
                        <a:lnTo>
                          <a:pt x="35" y="1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15" name=""/>
          <p:cNvSpPr/>
          <p:nvPr/>
        </p:nvSpPr>
        <p:spPr>
          <a:xfrm>
            <a:off x="3685680" y="3452760"/>
            <a:ext cx="13978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97360" y="3432240"/>
            <a:ext cx="1050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565320" y="3432240"/>
            <a:ext cx="1329480" cy="59508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86120" y="4336920"/>
            <a:ext cx="10461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75080" y="4219560"/>
            <a:ext cx="0" cy="3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5459400" y="4257720"/>
            <a:ext cx="1836720" cy="41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537080" y="4224240"/>
            <a:ext cx="1015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$0.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753200" y="455940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450480" y="4440240"/>
            <a:ext cx="90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EEA-EA66-4F13-870A-58B09DC090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53920" y="476280"/>
            <a:ext cx="7253280" cy="116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ttributes of the Mechanis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470400" cy="2732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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795920" y="5708520"/>
            <a:ext cx="1273680" cy="846720"/>
            <a:chOff x="4795920" y="5708520"/>
            <a:chExt cx="1273680" cy="846720"/>
          </a:xfrm>
        </p:grpSpPr>
        <p:grpSp>
          <p:nvGrpSpPr>
            <p:cNvPr id="1227" name=""/>
            <p:cNvGrpSpPr/>
            <p:nvPr/>
          </p:nvGrpSpPr>
          <p:grpSpPr>
            <a:xfrm>
              <a:off x="5974920" y="6401520"/>
              <a:ext cx="90720" cy="153720"/>
              <a:chOff x="5974920" y="6401520"/>
              <a:chExt cx="90720" cy="1537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5974920" y="6513120"/>
                <a:ext cx="73080" cy="42120"/>
                <a:chOff x="5974920" y="6513120"/>
                <a:chExt cx="73080" cy="421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002280" y="6527880"/>
                  <a:ext cx="4572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5" y="2"/>
                      </a:move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7" y="14"/>
                      </a:lnTo>
                      <a:lnTo>
                        <a:pt x="9" y="15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7" y="15"/>
                      </a:lnTo>
                      <a:lnTo>
                        <a:pt x="20" y="14"/>
                      </a:lnTo>
                      <a:lnTo>
                        <a:pt x="23" y="13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4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20" y="5"/>
                      </a:lnTo>
                      <a:lnTo>
                        <a:pt x="20" y="8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9" y="3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974920" y="6513120"/>
                  <a:ext cx="48600" cy="4212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15" y="0"/>
                      </a:moveTo>
                      <a:lnTo>
                        <a:pt x="6" y="2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8" y="24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4"/>
                      </a:lnTo>
                      <a:lnTo>
                        <a:pt x="25" y="21"/>
                      </a:lnTo>
                      <a:lnTo>
                        <a:pt x="29" y="18"/>
                      </a:lnTo>
                      <a:lnTo>
                        <a:pt x="23" y="15"/>
                      </a:lnTo>
                      <a:lnTo>
                        <a:pt x="21" y="18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8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977800" y="6531120"/>
                  <a:ext cx="47160" cy="241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0" y="9"/>
                      </a:moveTo>
                      <a:lnTo>
                        <a:pt x="5" y="9"/>
                      </a:lnTo>
                      <a:lnTo>
                        <a:pt x="12" y="9"/>
                      </a:lnTo>
                      <a:lnTo>
                        <a:pt x="17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25" y="2"/>
                      </a:ln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8" y="9"/>
                      </a:lnTo>
                      <a:lnTo>
                        <a:pt x="26" y="12"/>
                      </a:lnTo>
                      <a:lnTo>
                        <a:pt x="23" y="13"/>
                      </a:lnTo>
                      <a:lnTo>
                        <a:pt x="18" y="14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3" y="12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6030000" y="6401520"/>
                <a:ext cx="27360" cy="45720"/>
                <a:chOff x="6030000" y="6401520"/>
                <a:chExt cx="27360" cy="457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6035040" y="642924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030000" y="6401520"/>
                  <a:ext cx="27360" cy="4572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13" y="27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4"/>
                      </a:lnTo>
                      <a:lnTo>
                        <a:pt x="8" y="3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10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7" y="25"/>
                      </a:lnTo>
                      <a:lnTo>
                        <a:pt x="10" y="26"/>
                      </a:lnTo>
                      <a:lnTo>
                        <a:pt x="13" y="27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6027120" y="6433920"/>
                <a:ext cx="27360" cy="43920"/>
                <a:chOff x="6027120" y="6433920"/>
                <a:chExt cx="27360" cy="43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031800" y="6460200"/>
                  <a:ext cx="1620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0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027120" y="64339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038640" y="6496560"/>
                <a:ext cx="27000" cy="45360"/>
                <a:chOff x="6038640" y="6496560"/>
                <a:chExt cx="27000" cy="453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044760" y="6498000"/>
                  <a:ext cx="16200" cy="16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038640" y="6496560"/>
                  <a:ext cx="27000" cy="453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3" y="0"/>
                      </a:moveTo>
                      <a:lnTo>
                        <a:pt x="6" y="1"/>
                      </a:lnTo>
                      <a:lnTo>
                        <a:pt x="9" y="2"/>
                      </a:lnTo>
                      <a:lnTo>
                        <a:pt x="12" y="3"/>
                      </a:ln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6" y="7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5" y="19"/>
                      </a:lnTo>
                      <a:lnTo>
                        <a:pt x="14" y="20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8" y="24"/>
                      </a:lnTo>
                      <a:lnTo>
                        <a:pt x="5" y="26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9" y="14"/>
                      </a:lnTo>
                      <a:lnTo>
                        <a:pt x="11" y="12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9" y="2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6027120" y="6463800"/>
                <a:ext cx="27360" cy="43920"/>
                <a:chOff x="6027120" y="6463800"/>
                <a:chExt cx="27360" cy="43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031800" y="649152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9" y="9"/>
                      </a:move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027120" y="646380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3" y="26"/>
                      </a:moveTo>
                      <a:lnTo>
                        <a:pt x="10" y="26"/>
                      </a:lnTo>
                      <a:lnTo>
                        <a:pt x="7" y="25"/>
                      </a:lnTo>
                      <a:lnTo>
                        <a:pt x="4" y="23"/>
                      </a:lnTo>
                      <a:lnTo>
                        <a:pt x="2" y="22"/>
                      </a:lnTo>
                      <a:lnTo>
                        <a:pt x="1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7" y="24"/>
                      </a:lnTo>
                      <a:lnTo>
                        <a:pt x="10" y="25"/>
                      </a:lnTo>
                      <a:lnTo>
                        <a:pt x="13" y="26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4" name=""/>
            <p:cNvGrpSpPr/>
            <p:nvPr/>
          </p:nvGrpSpPr>
          <p:grpSpPr>
            <a:xfrm>
              <a:off x="4795920" y="5708520"/>
              <a:ext cx="1273680" cy="825840"/>
              <a:chOff x="4795920" y="5708520"/>
              <a:chExt cx="1273680" cy="82584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4795920" y="5708520"/>
                <a:ext cx="1273680" cy="825840"/>
                <a:chOff x="4795920" y="5708520"/>
                <a:chExt cx="1273680" cy="825840"/>
              </a:xfrm>
            </p:grpSpPr>
            <p:grpSp>
              <p:nvGrpSpPr>
                <p:cNvPr id="1246" name=""/>
                <p:cNvGrpSpPr/>
                <p:nvPr/>
              </p:nvGrpSpPr>
              <p:grpSpPr>
                <a:xfrm>
                  <a:off x="4795920" y="5721840"/>
                  <a:ext cx="1273680" cy="812520"/>
                  <a:chOff x="4795920" y="5721840"/>
                  <a:chExt cx="1273680" cy="812520"/>
                </a:xfrm>
              </p:grpSpPr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4795920" y="5721840"/>
                    <a:ext cx="1273680" cy="812520"/>
                    <a:chOff x="4795920" y="5721840"/>
                    <a:chExt cx="1273680" cy="812520"/>
                  </a:xfrm>
                </p:grpSpPr>
                <p:grpSp>
                  <p:nvGrpSpPr>
                    <p:cNvPr id="1248" name=""/>
                    <p:cNvGrpSpPr/>
                    <p:nvPr/>
                  </p:nvGrpSpPr>
                  <p:grpSpPr>
                    <a:xfrm>
                      <a:off x="4795920" y="5721840"/>
                      <a:ext cx="1273680" cy="812520"/>
                      <a:chOff x="4795920" y="5721840"/>
                      <a:chExt cx="1273680" cy="812520"/>
                    </a:xfrm>
                  </p:grpSpPr>
                  <p:grpSp>
                    <p:nvGrpSpPr>
                      <p:cNvPr id="1249" name=""/>
                      <p:cNvGrpSpPr/>
                      <p:nvPr/>
                    </p:nvGrpSpPr>
                    <p:grpSpPr>
                      <a:xfrm>
                        <a:off x="4795920" y="5721840"/>
                        <a:ext cx="1273680" cy="812520"/>
                        <a:chOff x="4795920" y="5721840"/>
                        <a:chExt cx="1273680" cy="812520"/>
                      </a:xfrm>
                    </p:grpSpPr>
                    <p:sp>
                      <p:nvSpPr>
                        <p:cNvPr id="1250" name=""/>
                        <p:cNvSpPr/>
                        <p:nvPr/>
                      </p:nvSpPr>
                      <p:spPr>
                        <a:xfrm>
                          <a:off x="4795920" y="5765760"/>
                          <a:ext cx="1244160" cy="76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8" h="469">
                              <a:moveTo>
                                <a:pt x="757" y="386"/>
                              </a:moveTo>
                              <a:lnTo>
                                <a:pt x="743" y="404"/>
                              </a:lnTo>
                              <a:lnTo>
                                <a:pt x="186" y="468"/>
                              </a:lnTo>
                              <a:lnTo>
                                <a:pt x="0" y="95"/>
                              </a:lnTo>
                              <a:lnTo>
                                <a:pt x="11" y="0"/>
                              </a:lnTo>
                              <a:lnTo>
                                <a:pt x="194" y="437"/>
                              </a:lnTo>
                              <a:lnTo>
                                <a:pt x="757" y="386"/>
                              </a:lnTo>
                            </a:path>
                          </a:pathLst>
                        </a:custGeom>
                        <a:solidFill>
                          <a:srgbClr val="5f5f5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" name=""/>
                        <p:cNvSpPr/>
                        <p:nvPr/>
                      </p:nvSpPr>
                      <p:spPr>
                        <a:xfrm>
                          <a:off x="4795920" y="5721840"/>
                          <a:ext cx="334440" cy="78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78">
                              <a:moveTo>
                                <a:pt x="10" y="0"/>
                              </a:moveTo>
                              <a:lnTo>
                                <a:pt x="0" y="17"/>
                              </a:lnTo>
                              <a:lnTo>
                                <a:pt x="194" y="477"/>
                              </a:lnTo>
                              <a:lnTo>
                                <a:pt x="203" y="459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f3f3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2" name=""/>
                        <p:cNvSpPr/>
                        <p:nvPr/>
                      </p:nvSpPr>
                      <p:spPr>
                        <a:xfrm>
                          <a:off x="4812120" y="5721840"/>
                          <a:ext cx="1257480" cy="75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6" h="460">
                              <a:moveTo>
                                <a:pt x="765" y="399"/>
                              </a:moveTo>
                              <a:lnTo>
                                <a:pt x="194" y="459"/>
                              </a:lnTo>
                              <a:lnTo>
                                <a:pt x="0" y="0"/>
                              </a:lnTo>
                              <a:lnTo>
                                <a:pt x="410" y="0"/>
                              </a:lnTo>
                              <a:lnTo>
                                <a:pt x="422" y="13"/>
                              </a:lnTo>
                              <a:lnTo>
                                <a:pt x="550" y="12"/>
                              </a:lnTo>
                              <a:lnTo>
                                <a:pt x="765" y="39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5112720" y="6375600"/>
                          <a:ext cx="956880" cy="13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3" h="80">
                              <a:moveTo>
                                <a:pt x="582" y="0"/>
                              </a:moveTo>
                              <a:lnTo>
                                <a:pt x="574" y="17"/>
                              </a:lnTo>
                              <a:lnTo>
                                <a:pt x="0" y="79"/>
                              </a:lnTo>
                              <a:lnTo>
                                <a:pt x="11" y="59"/>
                              </a:lnTo>
                              <a:lnTo>
                                <a:pt x="582" y="0"/>
                              </a:lnTo>
                            </a:path>
                          </a:pathLst>
                        </a:custGeom>
                        <a:solidFill>
                          <a:srgbClr val="9f9f9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54" name=""/>
                        <p:cNvGrpSpPr/>
                        <p:nvPr/>
                      </p:nvGrpSpPr>
                      <p:grpSpPr>
                        <a:xfrm>
                          <a:off x="4871160" y="5739480"/>
                          <a:ext cx="927000" cy="692640"/>
                          <a:chOff x="4871160" y="5739480"/>
                          <a:chExt cx="927000" cy="692640"/>
                        </a:xfrm>
                      </p:grpSpPr>
                      <p:sp>
                        <p:nvSpPr>
                          <p:cNvPr id="1255" name=""/>
                          <p:cNvSpPr/>
                          <p:nvPr/>
                        </p:nvSpPr>
                        <p:spPr>
                          <a:xfrm>
                            <a:off x="4871160" y="5739480"/>
                            <a:ext cx="667800" cy="13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7" h="83">
                                <a:moveTo>
                                  <a:pt x="372" y="0"/>
                                </a:moveTo>
                                <a:lnTo>
                                  <a:pt x="0" y="0"/>
                                </a:lnTo>
                                <a:lnTo>
                                  <a:pt x="38" y="82"/>
                                </a:lnTo>
                                <a:lnTo>
                                  <a:pt x="406" y="75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56" name=""/>
                          <p:cNvGrpSpPr/>
                          <p:nvPr/>
                        </p:nvGrpSpPr>
                        <p:grpSpPr>
                          <a:xfrm>
                            <a:off x="4974120" y="5765760"/>
                            <a:ext cx="472320" cy="63360"/>
                            <a:chOff x="4974120" y="5765760"/>
                            <a:chExt cx="472320" cy="63360"/>
                          </a:xfrm>
                        </p:grpSpPr>
                        <p:sp>
                          <p:nvSpPr>
                            <p:cNvPr id="1257" name=""/>
                            <p:cNvSpPr/>
                            <p:nvPr/>
                          </p:nvSpPr>
                          <p:spPr>
                            <a:xfrm>
                              <a:off x="4974120" y="5765760"/>
                              <a:ext cx="444600" cy="17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1" h="11">
                                  <a:moveTo>
                                    <a:pt x="270" y="0"/>
                                  </a:moveTo>
                                  <a:lnTo>
                                    <a:pt x="261" y="10"/>
                                  </a:lnTo>
                                  <a:lnTo>
                                    <a:pt x="5" y="1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7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9160" bIns="-291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58" name=""/>
                            <p:cNvSpPr/>
                            <p:nvPr/>
                          </p:nvSpPr>
                          <p:spPr>
                            <a:xfrm>
                              <a:off x="5400720" y="5765760"/>
                              <a:ext cx="45720" cy="60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37">
                                  <a:moveTo>
                                    <a:pt x="10" y="0"/>
                                  </a:moveTo>
                                  <a:lnTo>
                                    <a:pt x="27" y="36"/>
                                  </a:lnTo>
                                  <a:lnTo>
                                    <a:pt x="8" y="27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10" y="0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3320" bIns="13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59" name=""/>
                            <p:cNvSpPr/>
                            <p:nvPr/>
                          </p:nvSpPr>
                          <p:spPr>
                            <a:xfrm>
                              <a:off x="4997160" y="5809680"/>
                              <a:ext cx="449280" cy="1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4" h="12">
                                  <a:moveTo>
                                    <a:pt x="273" y="10"/>
                                  </a:moveTo>
                                  <a:lnTo>
                                    <a:pt x="253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5" y="11"/>
                                  </a:lnTo>
                                  <a:lnTo>
                                    <a:pt x="273" y="1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7360" bIns="-27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60" name=""/>
                            <p:cNvSpPr/>
                            <p:nvPr/>
                          </p:nvSpPr>
                          <p:spPr>
                            <a:xfrm>
                              <a:off x="4982040" y="5781960"/>
                              <a:ext cx="433440" cy="29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4" h="18">
                                  <a:moveTo>
                                    <a:pt x="0" y="0"/>
                                  </a:moveTo>
                                  <a:lnTo>
                                    <a:pt x="256" y="0"/>
                                  </a:lnTo>
                                  <a:lnTo>
                                    <a:pt x="263" y="17"/>
                                  </a:lnTo>
                                  <a:lnTo>
                                    <a:pt x="9" y="1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640" bIns="-176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61" name=""/>
                          <p:cNvSpPr/>
                          <p:nvPr/>
                        </p:nvSpPr>
                        <p:spPr>
                          <a:xfrm>
                            <a:off x="4936680" y="5895000"/>
                            <a:ext cx="861480" cy="537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5" h="328">
                                <a:moveTo>
                                  <a:pt x="372" y="0"/>
                                </a:moveTo>
                                <a:lnTo>
                                  <a:pt x="0" y="12"/>
                                </a:lnTo>
                                <a:lnTo>
                                  <a:pt x="139" y="327"/>
                                </a:lnTo>
                                <a:lnTo>
                                  <a:pt x="524" y="292"/>
                                </a:lnTo>
                                <a:lnTo>
                                  <a:pt x="372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2" name=""/>
                        <p:cNvGrpSpPr/>
                        <p:nvPr/>
                      </p:nvGrpSpPr>
                      <p:grpSpPr>
                        <a:xfrm>
                          <a:off x="5502960" y="5741280"/>
                          <a:ext cx="297000" cy="633600"/>
                          <a:chOff x="5502960" y="5741280"/>
                          <a:chExt cx="297000" cy="633600"/>
                        </a:xfrm>
                      </p:grpSpPr>
                      <p:sp>
                        <p:nvSpPr>
                          <p:cNvPr id="1263" name=""/>
                          <p:cNvSpPr/>
                          <p:nvPr/>
                        </p:nvSpPr>
                        <p:spPr>
                          <a:xfrm>
                            <a:off x="5547240" y="5870520"/>
                            <a:ext cx="252720" cy="50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4" h="308">
                                <a:moveTo>
                                  <a:pt x="12" y="0"/>
                                </a:moveTo>
                                <a:lnTo>
                                  <a:pt x="0" y="15"/>
                                </a:lnTo>
                                <a:lnTo>
                                  <a:pt x="153" y="307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64" name=""/>
                          <p:cNvSpPr/>
                          <p:nvPr/>
                        </p:nvSpPr>
                        <p:spPr>
                          <a:xfrm>
                            <a:off x="5502960" y="5741280"/>
                            <a:ext cx="65520" cy="130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80">
                                <a:moveTo>
                                  <a:pt x="0" y="0"/>
                                </a:moveTo>
                                <a:lnTo>
                                  <a:pt x="39" y="79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5002560" y="5949720"/>
                        <a:ext cx="404280" cy="421200"/>
                        <a:chOff x="5002560" y="5949720"/>
                        <a:chExt cx="404280" cy="421200"/>
                      </a:xfrm>
                    </p:grpSpPr>
                    <p:grpSp>
                      <p:nvGrpSpPr>
                        <p:cNvPr id="1266" name=""/>
                        <p:cNvGrpSpPr/>
                        <p:nvPr/>
                      </p:nvGrpSpPr>
                      <p:grpSpPr>
                        <a:xfrm>
                          <a:off x="5114160" y="5949720"/>
                          <a:ext cx="292680" cy="413280"/>
                          <a:chOff x="5114160" y="5949720"/>
                          <a:chExt cx="292680" cy="413280"/>
                        </a:xfrm>
                      </p:grpSpPr>
                      <p:grpSp>
                        <p:nvGrpSpPr>
                          <p:cNvPr id="1267" name=""/>
                          <p:cNvGrpSpPr/>
                          <p:nvPr/>
                        </p:nvGrpSpPr>
                        <p:grpSpPr>
                          <a:xfrm>
                            <a:off x="5114160" y="5949720"/>
                            <a:ext cx="127080" cy="56160"/>
                            <a:chOff x="5114160" y="5949720"/>
                            <a:chExt cx="127080" cy="56160"/>
                          </a:xfrm>
                        </p:grpSpPr>
                        <p:grpSp>
                          <p:nvGrpSpPr>
                            <p:cNvPr id="1268" name=""/>
                            <p:cNvGrpSpPr/>
                            <p:nvPr/>
                          </p:nvGrpSpPr>
                          <p:grpSpPr>
                            <a:xfrm>
                              <a:off x="5114160" y="5949720"/>
                              <a:ext cx="127080" cy="56160"/>
                              <a:chOff x="5114160" y="5949720"/>
                              <a:chExt cx="127080" cy="56160"/>
                            </a:xfrm>
                          </p:grpSpPr>
                          <p:sp>
                            <p:nvSpPr>
                              <p:cNvPr id="1269" name=""/>
                              <p:cNvSpPr/>
                              <p:nvPr/>
                            </p:nvSpPr>
                            <p:spPr>
                              <a:xfrm>
                                <a:off x="5120640" y="59497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0" name=""/>
                              <p:cNvSpPr/>
                              <p:nvPr/>
                            </p:nvSpPr>
                            <p:spPr>
                              <a:xfrm>
                                <a:off x="5133600" y="59900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1" name=""/>
                              <p:cNvSpPr/>
                              <p:nvPr/>
                            </p:nvSpPr>
                            <p:spPr>
                              <a:xfrm>
                                <a:off x="5114160" y="59544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72" name=""/>
                            <p:cNvSpPr/>
                            <p:nvPr/>
                          </p:nvSpPr>
                          <p:spPr>
                            <a:xfrm>
                              <a:off x="5197680" y="59511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73" name=""/>
                            <p:cNvSpPr/>
                            <p:nvPr/>
                          </p:nvSpPr>
                          <p:spPr>
                            <a:xfrm>
                              <a:off x="5213880" y="5959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74" name=""/>
                            <p:cNvSpPr/>
                            <p:nvPr/>
                          </p:nvSpPr>
                          <p:spPr>
                            <a:xfrm>
                              <a:off x="5222160" y="59752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5" name=""/>
                          <p:cNvGrpSpPr/>
                          <p:nvPr/>
                        </p:nvGrpSpPr>
                        <p:grpSpPr>
                          <a:xfrm>
                            <a:off x="5137200" y="6000120"/>
                            <a:ext cx="127080" cy="56880"/>
                            <a:chOff x="5137200" y="6000120"/>
                            <a:chExt cx="127080" cy="56880"/>
                          </a:xfrm>
                        </p:grpSpPr>
                        <p:grpSp>
                          <p:nvGrpSpPr>
                            <p:cNvPr id="1276" name=""/>
                            <p:cNvGrpSpPr/>
                            <p:nvPr/>
                          </p:nvGrpSpPr>
                          <p:grpSpPr>
                            <a:xfrm>
                              <a:off x="5137200" y="6000120"/>
                              <a:ext cx="127080" cy="56880"/>
                              <a:chOff x="5137200" y="6000120"/>
                              <a:chExt cx="127080" cy="56880"/>
                            </a:xfrm>
                          </p:grpSpPr>
                          <p:sp>
                            <p:nvSpPr>
                              <p:cNvPr id="1277" name=""/>
                              <p:cNvSpPr/>
                              <p:nvPr/>
                            </p:nvSpPr>
                            <p:spPr>
                              <a:xfrm>
                                <a:off x="5143680" y="60001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8" name=""/>
                              <p:cNvSpPr/>
                              <p:nvPr/>
                            </p:nvSpPr>
                            <p:spPr>
                              <a:xfrm>
                                <a:off x="5156640" y="60390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9" name=""/>
                              <p:cNvSpPr/>
                              <p:nvPr/>
                            </p:nvSpPr>
                            <p:spPr>
                              <a:xfrm>
                                <a:off x="5137200" y="60033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80" name=""/>
                            <p:cNvSpPr/>
                            <p:nvPr/>
                          </p:nvSpPr>
                          <p:spPr>
                            <a:xfrm>
                              <a:off x="5222160" y="60019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1" name=""/>
                            <p:cNvSpPr/>
                            <p:nvPr/>
                          </p:nvSpPr>
                          <p:spPr>
                            <a:xfrm>
                              <a:off x="5236920" y="60098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2" name=""/>
                            <p:cNvSpPr/>
                            <p:nvPr/>
                          </p:nvSpPr>
                          <p:spPr>
                            <a:xfrm>
                              <a:off x="5246640" y="602460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83" name=""/>
                          <p:cNvGrpSpPr/>
                          <p:nvPr/>
                        </p:nvGrpSpPr>
                        <p:grpSpPr>
                          <a:xfrm>
                            <a:off x="5161680" y="6050880"/>
                            <a:ext cx="127080" cy="58320"/>
                            <a:chOff x="5161680" y="6050880"/>
                            <a:chExt cx="127080" cy="58320"/>
                          </a:xfrm>
                        </p:grpSpPr>
                        <p:grpSp>
                          <p:nvGrpSpPr>
                            <p:cNvPr id="1284" name=""/>
                            <p:cNvGrpSpPr/>
                            <p:nvPr/>
                          </p:nvGrpSpPr>
                          <p:grpSpPr>
                            <a:xfrm>
                              <a:off x="5161680" y="6050880"/>
                              <a:ext cx="127080" cy="58320"/>
                              <a:chOff x="5161680" y="6050880"/>
                              <a:chExt cx="127080" cy="58320"/>
                            </a:xfrm>
                          </p:grpSpPr>
                          <p:sp>
                            <p:nvSpPr>
                              <p:cNvPr id="1285" name=""/>
                              <p:cNvSpPr/>
                              <p:nvPr/>
                            </p:nvSpPr>
                            <p:spPr>
                              <a:xfrm>
                                <a:off x="5168160" y="6050880"/>
                                <a:ext cx="12060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6" name=""/>
                              <p:cNvSpPr/>
                              <p:nvPr/>
                            </p:nvSpPr>
                            <p:spPr>
                              <a:xfrm>
                                <a:off x="5181120" y="6091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7" name=""/>
                              <p:cNvSpPr/>
                              <p:nvPr/>
                            </p:nvSpPr>
                            <p:spPr>
                              <a:xfrm>
                                <a:off x="5161680" y="605556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88" name=""/>
                            <p:cNvSpPr/>
                            <p:nvPr/>
                          </p:nvSpPr>
                          <p:spPr>
                            <a:xfrm>
                              <a:off x="5246640" y="6052320"/>
                              <a:ext cx="2124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9" name=""/>
                            <p:cNvSpPr/>
                            <p:nvPr/>
                          </p:nvSpPr>
                          <p:spPr>
                            <a:xfrm>
                              <a:off x="5261400" y="6062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0" name=""/>
                            <p:cNvSpPr/>
                            <p:nvPr/>
                          </p:nvSpPr>
                          <p:spPr>
                            <a:xfrm>
                              <a:off x="5271480" y="6077160"/>
                              <a:ext cx="28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1" name=""/>
                          <p:cNvGrpSpPr/>
                          <p:nvPr/>
                        </p:nvGrpSpPr>
                        <p:grpSpPr>
                          <a:xfrm>
                            <a:off x="5184720" y="6102000"/>
                            <a:ext cx="128520" cy="56160"/>
                            <a:chOff x="5184720" y="6102000"/>
                            <a:chExt cx="128520" cy="56160"/>
                          </a:xfrm>
                        </p:grpSpPr>
                        <p:grpSp>
                          <p:nvGrpSpPr>
                            <p:cNvPr id="1292" name=""/>
                            <p:cNvGrpSpPr/>
                            <p:nvPr/>
                          </p:nvGrpSpPr>
                          <p:grpSpPr>
                            <a:xfrm>
                              <a:off x="5184720" y="6102000"/>
                              <a:ext cx="128520" cy="56160"/>
                              <a:chOff x="5184720" y="6102000"/>
                              <a:chExt cx="128520" cy="56160"/>
                            </a:xfrm>
                          </p:grpSpPr>
                          <p:sp>
                            <p:nvSpPr>
                              <p:cNvPr id="1293" name=""/>
                              <p:cNvSpPr/>
                              <p:nvPr/>
                            </p:nvSpPr>
                            <p:spPr>
                              <a:xfrm>
                                <a:off x="5190840" y="6102000"/>
                                <a:ext cx="1224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4" name=""/>
                              <p:cNvSpPr/>
                              <p:nvPr/>
                            </p:nvSpPr>
                            <p:spPr>
                              <a:xfrm>
                                <a:off x="5205600" y="614052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5" name=""/>
                              <p:cNvSpPr/>
                              <p:nvPr/>
                            </p:nvSpPr>
                            <p:spPr>
                              <a:xfrm>
                                <a:off x="5184720" y="61066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96" name=""/>
                            <p:cNvSpPr/>
                            <p:nvPr/>
                          </p:nvSpPr>
                          <p:spPr>
                            <a:xfrm>
                              <a:off x="5269680" y="6103440"/>
                              <a:ext cx="208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7" name=""/>
                            <p:cNvSpPr/>
                            <p:nvPr/>
                          </p:nvSpPr>
                          <p:spPr>
                            <a:xfrm>
                              <a:off x="5285880" y="61113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8" name=""/>
                            <p:cNvSpPr/>
                            <p:nvPr/>
                          </p:nvSpPr>
                          <p:spPr>
                            <a:xfrm>
                              <a:off x="5294160" y="61275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9" name=""/>
                          <p:cNvGrpSpPr/>
                          <p:nvPr/>
                        </p:nvGrpSpPr>
                        <p:grpSpPr>
                          <a:xfrm>
                            <a:off x="5207760" y="6152400"/>
                            <a:ext cx="128520" cy="56880"/>
                            <a:chOff x="5207760" y="6152400"/>
                            <a:chExt cx="128520" cy="56880"/>
                          </a:xfrm>
                        </p:grpSpPr>
                        <p:grpSp>
                          <p:nvGrpSpPr>
                            <p:cNvPr id="1300" name=""/>
                            <p:cNvGrpSpPr/>
                            <p:nvPr/>
                          </p:nvGrpSpPr>
                          <p:grpSpPr>
                            <a:xfrm>
                              <a:off x="5207760" y="6152400"/>
                              <a:ext cx="128520" cy="56880"/>
                              <a:chOff x="5207760" y="6152400"/>
                              <a:chExt cx="128520" cy="56880"/>
                            </a:xfrm>
                          </p:grpSpPr>
                          <p:sp>
                            <p:nvSpPr>
                              <p:cNvPr id="1301" name=""/>
                              <p:cNvSpPr/>
                              <p:nvPr/>
                            </p:nvSpPr>
                            <p:spPr>
                              <a:xfrm>
                                <a:off x="5215680" y="615240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2" name=""/>
                              <p:cNvSpPr/>
                              <p:nvPr/>
                            </p:nvSpPr>
                            <p:spPr>
                              <a:xfrm>
                                <a:off x="5228640" y="619128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3" name=""/>
                              <p:cNvSpPr/>
                              <p:nvPr/>
                            </p:nvSpPr>
                            <p:spPr>
                              <a:xfrm>
                                <a:off x="5207760" y="6155640"/>
                                <a:ext cx="3060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04" name=""/>
                            <p:cNvSpPr/>
                            <p:nvPr/>
                          </p:nvSpPr>
                          <p:spPr>
                            <a:xfrm>
                              <a:off x="5292720" y="615240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5" name=""/>
                            <p:cNvSpPr/>
                            <p:nvPr/>
                          </p:nvSpPr>
                          <p:spPr>
                            <a:xfrm>
                              <a:off x="5308920" y="61621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6" name=""/>
                            <p:cNvSpPr/>
                            <p:nvPr/>
                          </p:nvSpPr>
                          <p:spPr>
                            <a:xfrm>
                              <a:off x="5317200" y="6177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7" name=""/>
                          <p:cNvGrpSpPr/>
                          <p:nvPr/>
                        </p:nvGrpSpPr>
                        <p:grpSpPr>
                          <a:xfrm>
                            <a:off x="5232240" y="6203520"/>
                            <a:ext cx="127080" cy="56160"/>
                            <a:chOff x="5232240" y="6203520"/>
                            <a:chExt cx="127080" cy="56160"/>
                          </a:xfrm>
                        </p:grpSpPr>
                        <p:grpSp>
                          <p:nvGrpSpPr>
                            <p:cNvPr id="1308" name=""/>
                            <p:cNvGrpSpPr/>
                            <p:nvPr/>
                          </p:nvGrpSpPr>
                          <p:grpSpPr>
                            <a:xfrm>
                              <a:off x="5232240" y="6203520"/>
                              <a:ext cx="127080" cy="56160"/>
                              <a:chOff x="5232240" y="6203520"/>
                              <a:chExt cx="127080" cy="56160"/>
                            </a:xfrm>
                          </p:grpSpPr>
                          <p:sp>
                            <p:nvSpPr>
                              <p:cNvPr id="1309" name=""/>
                              <p:cNvSpPr/>
                              <p:nvPr/>
                            </p:nvSpPr>
                            <p:spPr>
                              <a:xfrm>
                                <a:off x="5238360" y="6203520"/>
                                <a:ext cx="12096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0" name=""/>
                              <p:cNvSpPr/>
                              <p:nvPr/>
                            </p:nvSpPr>
                            <p:spPr>
                              <a:xfrm>
                                <a:off x="5251680" y="62438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/>
                              <p:nvPr/>
                            </p:nvSpPr>
                            <p:spPr>
                              <a:xfrm>
                                <a:off x="5232240" y="620820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12" name=""/>
                            <p:cNvSpPr/>
                            <p:nvPr/>
                          </p:nvSpPr>
                          <p:spPr>
                            <a:xfrm>
                              <a:off x="5315760" y="6204960"/>
                              <a:ext cx="2232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3" name=""/>
                            <p:cNvSpPr/>
                            <p:nvPr/>
                          </p:nvSpPr>
                          <p:spPr>
                            <a:xfrm>
                              <a:off x="5331960" y="62132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4" name=""/>
                            <p:cNvSpPr/>
                            <p:nvPr/>
                          </p:nvSpPr>
                          <p:spPr>
                            <a:xfrm>
                              <a:off x="5340240" y="62294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5" name=""/>
                          <p:cNvGrpSpPr/>
                          <p:nvPr/>
                        </p:nvGrpSpPr>
                        <p:grpSpPr>
                          <a:xfrm>
                            <a:off x="5256720" y="6254280"/>
                            <a:ext cx="127080" cy="56160"/>
                            <a:chOff x="5256720" y="6254280"/>
                            <a:chExt cx="127080" cy="56160"/>
                          </a:xfrm>
                        </p:grpSpPr>
                        <p:grpSp>
                          <p:nvGrpSpPr>
                            <p:cNvPr id="1316" name=""/>
                            <p:cNvGrpSpPr/>
                            <p:nvPr/>
                          </p:nvGrpSpPr>
                          <p:grpSpPr>
                            <a:xfrm>
                              <a:off x="5256720" y="6254280"/>
                              <a:ext cx="127080" cy="56160"/>
                              <a:chOff x="5256720" y="6254280"/>
                              <a:chExt cx="127080" cy="56160"/>
                            </a:xfrm>
                          </p:grpSpPr>
                          <p:sp>
                            <p:nvSpPr>
                              <p:cNvPr id="1317" name=""/>
                              <p:cNvSpPr/>
                              <p:nvPr/>
                            </p:nvSpPr>
                            <p:spPr>
                              <a:xfrm>
                                <a:off x="5263200" y="625428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8" name=""/>
                              <p:cNvSpPr/>
                              <p:nvPr/>
                            </p:nvSpPr>
                            <p:spPr>
                              <a:xfrm>
                                <a:off x="5276160" y="629316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9" name=""/>
                              <p:cNvSpPr/>
                              <p:nvPr/>
                            </p:nvSpPr>
                            <p:spPr>
                              <a:xfrm>
                                <a:off x="5256720" y="6257520"/>
                                <a:ext cx="291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20" name=""/>
                            <p:cNvSpPr/>
                            <p:nvPr/>
                          </p:nvSpPr>
                          <p:spPr>
                            <a:xfrm>
                              <a:off x="5340240" y="6255720"/>
                              <a:ext cx="22680" cy="38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4">
                                  <a:moveTo>
                                    <a:pt x="0" y="0"/>
                                  </a:moveTo>
                                  <a:lnTo>
                                    <a:pt x="13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920" bIns="-79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1" name=""/>
                            <p:cNvSpPr/>
                            <p:nvPr/>
                          </p:nvSpPr>
                          <p:spPr>
                            <a:xfrm>
                              <a:off x="5356440" y="62636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2" name=""/>
                            <p:cNvSpPr/>
                            <p:nvPr/>
                          </p:nvSpPr>
                          <p:spPr>
                            <a:xfrm>
                              <a:off x="5364720" y="627840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3" name=""/>
                          <p:cNvGrpSpPr/>
                          <p:nvPr/>
                        </p:nvGrpSpPr>
                        <p:grpSpPr>
                          <a:xfrm>
                            <a:off x="5279760" y="6304680"/>
                            <a:ext cx="127080" cy="58320"/>
                            <a:chOff x="5279760" y="6304680"/>
                            <a:chExt cx="127080" cy="58320"/>
                          </a:xfrm>
                        </p:grpSpPr>
                        <p:grpSp>
                          <p:nvGrpSpPr>
                            <p:cNvPr id="1324" name=""/>
                            <p:cNvGrpSpPr/>
                            <p:nvPr/>
                          </p:nvGrpSpPr>
                          <p:grpSpPr>
                            <a:xfrm>
                              <a:off x="5279760" y="6304680"/>
                              <a:ext cx="127080" cy="58320"/>
                              <a:chOff x="5279760" y="6304680"/>
                              <a:chExt cx="127080" cy="58320"/>
                            </a:xfrm>
                          </p:grpSpPr>
                          <p:sp>
                            <p:nvSpPr>
                              <p:cNvPr id="1325" name=""/>
                              <p:cNvSpPr/>
                              <p:nvPr/>
                            </p:nvSpPr>
                            <p:spPr>
                              <a:xfrm>
                                <a:off x="5285880" y="6304680"/>
                                <a:ext cx="12096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9">
                                    <a:moveTo>
                                      <a:pt x="73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6" name=""/>
                              <p:cNvSpPr/>
                              <p:nvPr/>
                            </p:nvSpPr>
                            <p:spPr>
                              <a:xfrm>
                                <a:off x="5299200" y="63453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7" name=""/>
                              <p:cNvSpPr/>
                              <p:nvPr/>
                            </p:nvSpPr>
                            <p:spPr>
                              <a:xfrm>
                                <a:off x="5279760" y="6309720"/>
                                <a:ext cx="2916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28" name=""/>
                            <p:cNvSpPr/>
                            <p:nvPr/>
                          </p:nvSpPr>
                          <p:spPr>
                            <a:xfrm>
                              <a:off x="5364720" y="63064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9" name=""/>
                            <p:cNvSpPr/>
                            <p:nvPr/>
                          </p:nvSpPr>
                          <p:spPr>
                            <a:xfrm>
                              <a:off x="5379480" y="631584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0" name=""/>
                            <p:cNvSpPr/>
                            <p:nvPr/>
                          </p:nvSpPr>
                          <p:spPr>
                            <a:xfrm>
                              <a:off x="5389200" y="633096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31" name=""/>
                        <p:cNvGrpSpPr/>
                        <p:nvPr/>
                      </p:nvGrpSpPr>
                      <p:grpSpPr>
                        <a:xfrm>
                          <a:off x="5002560" y="5957640"/>
                          <a:ext cx="294120" cy="413280"/>
                          <a:chOff x="5002560" y="5957640"/>
                          <a:chExt cx="294120" cy="413280"/>
                        </a:xfrm>
                      </p:grpSpPr>
                      <p:grpSp>
                        <p:nvGrpSpPr>
                          <p:cNvPr id="1332" name=""/>
                          <p:cNvGrpSpPr/>
                          <p:nvPr/>
                        </p:nvGrpSpPr>
                        <p:grpSpPr>
                          <a:xfrm>
                            <a:off x="5002560" y="5957640"/>
                            <a:ext cx="128880" cy="57960"/>
                            <a:chOff x="5002560" y="5957640"/>
                            <a:chExt cx="128880" cy="57960"/>
                          </a:xfrm>
                        </p:grpSpPr>
                        <p:grpSp>
                          <p:nvGrpSpPr>
                            <p:cNvPr id="1333" name=""/>
                            <p:cNvGrpSpPr/>
                            <p:nvPr/>
                          </p:nvGrpSpPr>
                          <p:grpSpPr>
                            <a:xfrm>
                              <a:off x="5002560" y="5957640"/>
                              <a:ext cx="128880" cy="57960"/>
                              <a:chOff x="5002560" y="5957640"/>
                              <a:chExt cx="128880" cy="57960"/>
                            </a:xfrm>
                          </p:grpSpPr>
                          <p:sp>
                            <p:nvSpPr>
                              <p:cNvPr id="1334" name=""/>
                              <p:cNvSpPr/>
                              <p:nvPr/>
                            </p:nvSpPr>
                            <p:spPr>
                              <a:xfrm>
                                <a:off x="5009040" y="5957640"/>
                                <a:ext cx="122400" cy="4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5" name=""/>
                              <p:cNvSpPr/>
                              <p:nvPr/>
                            </p:nvSpPr>
                            <p:spPr>
                              <a:xfrm>
                                <a:off x="5023800" y="5997960"/>
                                <a:ext cx="10764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6" name=""/>
                              <p:cNvSpPr/>
                              <p:nvPr/>
                            </p:nvSpPr>
                            <p:spPr>
                              <a:xfrm>
                                <a:off x="5002560" y="5962320"/>
                                <a:ext cx="29520" cy="53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480" bIns="64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37" name=""/>
                            <p:cNvSpPr/>
                            <p:nvPr/>
                          </p:nvSpPr>
                          <p:spPr>
                            <a:xfrm>
                              <a:off x="5087880" y="5959080"/>
                              <a:ext cx="2088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8" name=""/>
                            <p:cNvSpPr/>
                            <p:nvPr/>
                          </p:nvSpPr>
                          <p:spPr>
                            <a:xfrm>
                              <a:off x="5104080" y="596844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9" name=""/>
                            <p:cNvSpPr/>
                            <p:nvPr/>
                          </p:nvSpPr>
                          <p:spPr>
                            <a:xfrm>
                              <a:off x="5112360" y="598356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0" name=""/>
                          <p:cNvGrpSpPr/>
                          <p:nvPr/>
                        </p:nvGrpSpPr>
                        <p:grpSpPr>
                          <a:xfrm>
                            <a:off x="5025600" y="6008040"/>
                            <a:ext cx="128520" cy="56880"/>
                            <a:chOff x="5025600" y="6008040"/>
                            <a:chExt cx="128520" cy="56880"/>
                          </a:xfrm>
                        </p:grpSpPr>
                        <p:grpSp>
                          <p:nvGrpSpPr>
                            <p:cNvPr id="1341" name=""/>
                            <p:cNvGrpSpPr/>
                            <p:nvPr/>
                          </p:nvGrpSpPr>
                          <p:grpSpPr>
                            <a:xfrm>
                              <a:off x="5025600" y="6008040"/>
                              <a:ext cx="128520" cy="56880"/>
                              <a:chOff x="5025600" y="6008040"/>
                              <a:chExt cx="128520" cy="56880"/>
                            </a:xfrm>
                          </p:grpSpPr>
                          <p:sp>
                            <p:nvSpPr>
                              <p:cNvPr id="1342" name=""/>
                              <p:cNvSpPr/>
                              <p:nvPr/>
                            </p:nvSpPr>
                            <p:spPr>
                              <a:xfrm>
                                <a:off x="5033520" y="600804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3" name=""/>
                              <p:cNvSpPr/>
                              <p:nvPr/>
                            </p:nvSpPr>
                            <p:spPr>
                              <a:xfrm>
                                <a:off x="5046480" y="6048720"/>
                                <a:ext cx="107640" cy="1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4" name=""/>
                              <p:cNvSpPr/>
                              <p:nvPr/>
                            </p:nvSpPr>
                            <p:spPr>
                              <a:xfrm>
                                <a:off x="5025600" y="6013080"/>
                                <a:ext cx="30960" cy="51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2">
                                    <a:moveTo>
                                      <a:pt x="18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040" bIns="50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45" name=""/>
                            <p:cNvSpPr/>
                            <p:nvPr/>
                          </p:nvSpPr>
                          <p:spPr>
                            <a:xfrm>
                              <a:off x="5110560" y="60098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46" name=""/>
                            <p:cNvSpPr/>
                            <p:nvPr/>
                          </p:nvSpPr>
                          <p:spPr>
                            <a:xfrm>
                              <a:off x="5127120" y="601776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47" name=""/>
                            <p:cNvSpPr/>
                            <p:nvPr/>
                          </p:nvSpPr>
                          <p:spPr>
                            <a:xfrm>
                              <a:off x="5135400" y="603432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8" name=""/>
                          <p:cNvGrpSpPr/>
                          <p:nvPr/>
                        </p:nvGrpSpPr>
                        <p:grpSpPr>
                          <a:xfrm>
                            <a:off x="5050080" y="6060240"/>
                            <a:ext cx="128880" cy="56880"/>
                            <a:chOff x="5050080" y="6060240"/>
                            <a:chExt cx="128880" cy="56880"/>
                          </a:xfrm>
                        </p:grpSpPr>
                        <p:grpSp>
                          <p:nvGrpSpPr>
                            <p:cNvPr id="1349" name=""/>
                            <p:cNvGrpSpPr/>
                            <p:nvPr/>
                          </p:nvGrpSpPr>
                          <p:grpSpPr>
                            <a:xfrm>
                              <a:off x="5050080" y="6060240"/>
                              <a:ext cx="128880" cy="56880"/>
                              <a:chOff x="5050080" y="6060240"/>
                              <a:chExt cx="128880" cy="56880"/>
                            </a:xfrm>
                          </p:grpSpPr>
                          <p:sp>
                            <p:nvSpPr>
                              <p:cNvPr id="1350" name=""/>
                              <p:cNvSpPr/>
                              <p:nvPr/>
                            </p:nvSpPr>
                            <p:spPr>
                              <a:xfrm>
                                <a:off x="5058000" y="6060240"/>
                                <a:ext cx="1209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1" name=""/>
                              <p:cNvSpPr/>
                              <p:nvPr/>
                            </p:nvSpPr>
                            <p:spPr>
                              <a:xfrm>
                                <a:off x="5071320" y="609912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2" name=""/>
                              <p:cNvSpPr/>
                              <p:nvPr/>
                            </p:nvSpPr>
                            <p:spPr>
                              <a:xfrm>
                                <a:off x="5050080" y="6063480"/>
                                <a:ext cx="309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53" name=""/>
                            <p:cNvSpPr/>
                            <p:nvPr/>
                          </p:nvSpPr>
                          <p:spPr>
                            <a:xfrm>
                              <a:off x="5135400" y="6060240"/>
                              <a:ext cx="208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4" name=""/>
                            <p:cNvSpPr/>
                            <p:nvPr/>
                          </p:nvSpPr>
                          <p:spPr>
                            <a:xfrm>
                              <a:off x="5151600" y="606996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5" name=""/>
                            <p:cNvSpPr/>
                            <p:nvPr/>
                          </p:nvSpPr>
                          <p:spPr>
                            <a:xfrm>
                              <a:off x="5159880" y="60850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6" name=""/>
                          <p:cNvGrpSpPr/>
                          <p:nvPr/>
                        </p:nvGrpSpPr>
                        <p:grpSpPr>
                          <a:xfrm>
                            <a:off x="5074560" y="6109920"/>
                            <a:ext cx="127080" cy="56160"/>
                            <a:chOff x="5074560" y="6109920"/>
                            <a:chExt cx="127080" cy="56160"/>
                          </a:xfrm>
                        </p:grpSpPr>
                        <p:grpSp>
                          <p:nvGrpSpPr>
                            <p:cNvPr id="1357" name=""/>
                            <p:cNvGrpSpPr/>
                            <p:nvPr/>
                          </p:nvGrpSpPr>
                          <p:grpSpPr>
                            <a:xfrm>
                              <a:off x="5074560" y="6109920"/>
                              <a:ext cx="127080" cy="56160"/>
                              <a:chOff x="5074560" y="6109920"/>
                              <a:chExt cx="127080" cy="56160"/>
                            </a:xfrm>
                          </p:grpSpPr>
                          <p:sp>
                            <p:nvSpPr>
                              <p:cNvPr id="1358" name=""/>
                              <p:cNvSpPr/>
                              <p:nvPr/>
                            </p:nvSpPr>
                            <p:spPr>
                              <a:xfrm>
                                <a:off x="5081040" y="610992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9" name=""/>
                              <p:cNvSpPr/>
                              <p:nvPr/>
                            </p:nvSpPr>
                            <p:spPr>
                              <a:xfrm>
                                <a:off x="5094000" y="615024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0" name=""/>
                              <p:cNvSpPr/>
                              <p:nvPr/>
                            </p:nvSpPr>
                            <p:spPr>
                              <a:xfrm>
                                <a:off x="5074560" y="6114600"/>
                                <a:ext cx="2952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61" name=""/>
                            <p:cNvSpPr/>
                            <p:nvPr/>
                          </p:nvSpPr>
                          <p:spPr>
                            <a:xfrm>
                              <a:off x="5158080" y="6111360"/>
                              <a:ext cx="226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5">
                                  <a:moveTo>
                                    <a:pt x="0" y="0"/>
                                  </a:moveTo>
                                  <a:lnTo>
                                    <a:pt x="13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2" name=""/>
                            <p:cNvSpPr/>
                            <p:nvPr/>
                          </p:nvSpPr>
                          <p:spPr>
                            <a:xfrm>
                              <a:off x="5174280" y="612108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3" name=""/>
                            <p:cNvSpPr/>
                            <p:nvPr/>
                          </p:nvSpPr>
                          <p:spPr>
                            <a:xfrm>
                              <a:off x="5182560" y="613548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4" name=""/>
                          <p:cNvGrpSpPr/>
                          <p:nvPr/>
                        </p:nvGrpSpPr>
                        <p:grpSpPr>
                          <a:xfrm>
                            <a:off x="5097600" y="6160320"/>
                            <a:ext cx="127080" cy="56880"/>
                            <a:chOff x="5097600" y="6160320"/>
                            <a:chExt cx="127080" cy="56880"/>
                          </a:xfrm>
                        </p:grpSpPr>
                        <p:grpSp>
                          <p:nvGrpSpPr>
                            <p:cNvPr id="1365" name=""/>
                            <p:cNvGrpSpPr/>
                            <p:nvPr/>
                          </p:nvGrpSpPr>
                          <p:grpSpPr>
                            <a:xfrm>
                              <a:off x="5097600" y="6160320"/>
                              <a:ext cx="127080" cy="56880"/>
                              <a:chOff x="5097600" y="6160320"/>
                              <a:chExt cx="127080" cy="56880"/>
                            </a:xfrm>
                          </p:grpSpPr>
                          <p:sp>
                            <p:nvSpPr>
                              <p:cNvPr id="1366" name=""/>
                              <p:cNvSpPr/>
                              <p:nvPr/>
                            </p:nvSpPr>
                            <p:spPr>
                              <a:xfrm>
                                <a:off x="5104080" y="6160320"/>
                                <a:ext cx="12060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7" name=""/>
                              <p:cNvSpPr/>
                              <p:nvPr/>
                            </p:nvSpPr>
                            <p:spPr>
                              <a:xfrm>
                                <a:off x="5117040" y="619920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8" name=""/>
                              <p:cNvSpPr/>
                              <p:nvPr/>
                            </p:nvSpPr>
                            <p:spPr>
                              <a:xfrm>
                                <a:off x="5097600" y="6163560"/>
                                <a:ext cx="2952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2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69" name=""/>
                            <p:cNvSpPr/>
                            <p:nvPr/>
                          </p:nvSpPr>
                          <p:spPr>
                            <a:xfrm>
                              <a:off x="5182560" y="6162120"/>
                              <a:ext cx="21240" cy="3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4">
                                  <a:moveTo>
                                    <a:pt x="0" y="0"/>
                                  </a:moveTo>
                                  <a:lnTo>
                                    <a:pt x="12" y="23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560" bIns="-75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0" name=""/>
                            <p:cNvSpPr/>
                            <p:nvPr/>
                          </p:nvSpPr>
                          <p:spPr>
                            <a:xfrm>
                              <a:off x="5197320" y="617004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1" name=""/>
                            <p:cNvSpPr/>
                            <p:nvPr/>
                          </p:nvSpPr>
                          <p:spPr>
                            <a:xfrm>
                              <a:off x="5207400" y="6185160"/>
                              <a:ext cx="28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2" name=""/>
                          <p:cNvGrpSpPr/>
                          <p:nvPr/>
                        </p:nvGrpSpPr>
                        <p:grpSpPr>
                          <a:xfrm>
                            <a:off x="5120640" y="6211440"/>
                            <a:ext cx="128520" cy="58320"/>
                            <a:chOff x="5120640" y="6211440"/>
                            <a:chExt cx="128520" cy="58320"/>
                          </a:xfrm>
                        </p:grpSpPr>
                        <p:grpSp>
                          <p:nvGrpSpPr>
                            <p:cNvPr id="1373" name=""/>
                            <p:cNvGrpSpPr/>
                            <p:nvPr/>
                          </p:nvGrpSpPr>
                          <p:grpSpPr>
                            <a:xfrm>
                              <a:off x="5120640" y="6211440"/>
                              <a:ext cx="128520" cy="58320"/>
                              <a:chOff x="5120640" y="6211440"/>
                              <a:chExt cx="128520" cy="58320"/>
                            </a:xfrm>
                          </p:grpSpPr>
                          <p:sp>
                            <p:nvSpPr>
                              <p:cNvPr id="1374" name=""/>
                              <p:cNvSpPr/>
                              <p:nvPr/>
                            </p:nvSpPr>
                            <p:spPr>
                              <a:xfrm>
                                <a:off x="5127120" y="6211440"/>
                                <a:ext cx="122040" cy="47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9">
                                    <a:moveTo>
                                      <a:pt x="74" y="25"/>
                                    </a:moveTo>
                                    <a:lnTo>
                                      <a:pt x="13" y="28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5" name=""/>
                              <p:cNvSpPr/>
                              <p:nvPr/>
                            </p:nvSpPr>
                            <p:spPr>
                              <a:xfrm>
                                <a:off x="5141520" y="6251760"/>
                                <a:ext cx="10764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6" name=""/>
                              <p:cNvSpPr/>
                              <p:nvPr/>
                            </p:nvSpPr>
                            <p:spPr>
                              <a:xfrm>
                                <a:off x="5120640" y="6216120"/>
                                <a:ext cx="29160" cy="5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3">
                                    <a:moveTo>
                                      <a:pt x="17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77" name=""/>
                            <p:cNvSpPr/>
                            <p:nvPr/>
                          </p:nvSpPr>
                          <p:spPr>
                            <a:xfrm>
                              <a:off x="5205600" y="6213240"/>
                              <a:ext cx="212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8" name=""/>
                            <p:cNvSpPr/>
                            <p:nvPr/>
                          </p:nvSpPr>
                          <p:spPr>
                            <a:xfrm>
                              <a:off x="5221800" y="622260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9" name=""/>
                            <p:cNvSpPr/>
                            <p:nvPr/>
                          </p:nvSpPr>
                          <p:spPr>
                            <a:xfrm>
                              <a:off x="5230080" y="6237720"/>
                              <a:ext cx="50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0" name=""/>
                          <p:cNvGrpSpPr/>
                          <p:nvPr/>
                        </p:nvGrpSpPr>
                        <p:grpSpPr>
                          <a:xfrm>
                            <a:off x="5145120" y="6262200"/>
                            <a:ext cx="128520" cy="56160"/>
                            <a:chOff x="5145120" y="6262200"/>
                            <a:chExt cx="128520" cy="56160"/>
                          </a:xfrm>
                        </p:grpSpPr>
                        <p:grpSp>
                          <p:nvGrpSpPr>
                            <p:cNvPr id="1381" name=""/>
                            <p:cNvGrpSpPr/>
                            <p:nvPr/>
                          </p:nvGrpSpPr>
                          <p:grpSpPr>
                            <a:xfrm>
                              <a:off x="5145120" y="6262200"/>
                              <a:ext cx="128520" cy="56160"/>
                              <a:chOff x="5145120" y="6262200"/>
                              <a:chExt cx="128520" cy="56160"/>
                            </a:xfrm>
                          </p:grpSpPr>
                          <p:sp>
                            <p:nvSpPr>
                              <p:cNvPr id="1382" name=""/>
                              <p:cNvSpPr/>
                              <p:nvPr/>
                            </p:nvSpPr>
                            <p:spPr>
                              <a:xfrm>
                                <a:off x="5151600" y="6262200"/>
                                <a:ext cx="12204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28">
                                    <a:moveTo>
                                      <a:pt x="74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4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3" name=""/>
                              <p:cNvSpPr/>
                              <p:nvPr/>
                            </p:nvSpPr>
                            <p:spPr>
                              <a:xfrm>
                                <a:off x="5166000" y="6302520"/>
                                <a:ext cx="107640" cy="15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0">
                                    <a:moveTo>
                                      <a:pt x="65" y="0"/>
                                    </a:moveTo>
                                    <a:lnTo>
                                      <a:pt x="60" y="6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5" y="2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960" bIns="-3096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84" name=""/>
                              <p:cNvSpPr/>
                              <p:nvPr/>
                            </p:nvSpPr>
                            <p:spPr>
                              <a:xfrm>
                                <a:off x="5145120" y="6266880"/>
                                <a:ext cx="29160" cy="5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32">
                                    <a:moveTo>
                                      <a:pt x="17" y="24"/>
                                    </a:moveTo>
                                    <a:lnTo>
                                      <a:pt x="13" y="31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17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" bIns="468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85" name=""/>
                            <p:cNvSpPr/>
                            <p:nvPr/>
                          </p:nvSpPr>
                          <p:spPr>
                            <a:xfrm>
                              <a:off x="5230080" y="6263640"/>
                              <a:ext cx="2124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6" name=""/>
                            <p:cNvSpPr/>
                            <p:nvPr/>
                          </p:nvSpPr>
                          <p:spPr>
                            <a:xfrm>
                              <a:off x="5246280" y="6271560"/>
                              <a:ext cx="32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7" name=""/>
                            <p:cNvSpPr/>
                            <p:nvPr/>
                          </p:nvSpPr>
                          <p:spPr>
                            <a:xfrm>
                              <a:off x="5254560" y="6287760"/>
                              <a:ext cx="504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8" name=""/>
                          <p:cNvGrpSpPr/>
                          <p:nvPr/>
                        </p:nvGrpSpPr>
                        <p:grpSpPr>
                          <a:xfrm>
                            <a:off x="5168160" y="6314760"/>
                            <a:ext cx="128520" cy="56160"/>
                            <a:chOff x="5168160" y="6314760"/>
                            <a:chExt cx="128520" cy="56160"/>
                          </a:xfrm>
                        </p:grpSpPr>
                        <p:grpSp>
                          <p:nvGrpSpPr>
                            <p:cNvPr id="1389" name=""/>
                            <p:cNvGrpSpPr/>
                            <p:nvPr/>
                          </p:nvGrpSpPr>
                          <p:grpSpPr>
                            <a:xfrm>
                              <a:off x="5168160" y="6314760"/>
                              <a:ext cx="128520" cy="56160"/>
                              <a:chOff x="5168160" y="6314760"/>
                              <a:chExt cx="128520" cy="56160"/>
                            </a:xfrm>
                          </p:grpSpPr>
                          <p:sp>
                            <p:nvSpPr>
                              <p:cNvPr id="1390" name=""/>
                              <p:cNvSpPr/>
                              <p:nvPr/>
                            </p:nvSpPr>
                            <p:spPr>
                              <a:xfrm>
                                <a:off x="5176080" y="6314760"/>
                                <a:ext cx="120600" cy="45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28">
                                    <a:moveTo>
                                      <a:pt x="73" y="24"/>
                                    </a:moveTo>
                                    <a:lnTo>
                                      <a:pt x="13" y="27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73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1" name=""/>
                              <p:cNvSpPr/>
                              <p:nvPr/>
                            </p:nvSpPr>
                            <p:spPr>
                              <a:xfrm>
                                <a:off x="5189040" y="6353640"/>
                                <a:ext cx="1076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11">
                                    <a:moveTo>
                                      <a:pt x="65" y="0"/>
                                    </a:moveTo>
                                    <a:lnTo>
                                      <a:pt x="60" y="7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6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92" name=""/>
                              <p:cNvSpPr/>
                              <p:nvPr/>
                            </p:nvSpPr>
                            <p:spPr>
                              <a:xfrm>
                                <a:off x="5168160" y="6318000"/>
                                <a:ext cx="30960" cy="5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" h="33">
                                    <a:moveTo>
                                      <a:pt x="18" y="25"/>
                                    </a:moveTo>
                                    <a:lnTo>
                                      <a:pt x="13" y="3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5" y="0"/>
                                    </a:lnTo>
                                    <a:lnTo>
                                      <a:pt x="18" y="25"/>
                                    </a:lnTo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cap="rnd"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r" rtl="1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93" name=""/>
                            <p:cNvSpPr/>
                            <p:nvPr/>
                          </p:nvSpPr>
                          <p:spPr>
                            <a:xfrm>
                              <a:off x="5253120" y="6314760"/>
                              <a:ext cx="20880" cy="40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25">
                                  <a:moveTo>
                                    <a:pt x="0" y="0"/>
                                  </a:moveTo>
                                  <a:lnTo>
                                    <a:pt x="12" y="24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480" bIns="-64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94" name=""/>
                            <p:cNvSpPr/>
                            <p:nvPr/>
                          </p:nvSpPr>
                          <p:spPr>
                            <a:xfrm>
                              <a:off x="5269320" y="6324120"/>
                              <a:ext cx="4680" cy="18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000" bIns="-4500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95" name=""/>
                            <p:cNvSpPr/>
                            <p:nvPr/>
                          </p:nvSpPr>
                          <p:spPr>
                            <a:xfrm>
                              <a:off x="5277600" y="633888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45360" bIns="-45360" anchor="ctr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5409720" y="6028200"/>
                        <a:ext cx="284400" cy="228600"/>
                        <a:chOff x="5409720" y="6028200"/>
                        <a:chExt cx="284400" cy="228600"/>
                      </a:xfrm>
                    </p:grpSpPr>
                    <p:grpSp>
                      <p:nvGrpSpPr>
                        <p:cNvPr id="1397" name=""/>
                        <p:cNvGrpSpPr/>
                        <p:nvPr/>
                      </p:nvGrpSpPr>
                      <p:grpSpPr>
                        <a:xfrm>
                          <a:off x="5534280" y="6028200"/>
                          <a:ext cx="159840" cy="223560"/>
                          <a:chOff x="5534280" y="6028200"/>
                          <a:chExt cx="159840" cy="223560"/>
                        </a:xfrm>
                      </p:grpSpPr>
                      <p:grpSp>
                        <p:nvGrpSpPr>
                          <p:cNvPr id="1398" name=""/>
                          <p:cNvGrpSpPr/>
                          <p:nvPr/>
                        </p:nvGrpSpPr>
                        <p:grpSpPr>
                          <a:xfrm>
                            <a:off x="5534280" y="6028200"/>
                            <a:ext cx="74880" cy="53640"/>
                            <a:chOff x="5534280" y="6028200"/>
                            <a:chExt cx="74880" cy="53640"/>
                          </a:xfrm>
                        </p:grpSpPr>
                        <p:sp>
                          <p:nvSpPr>
                            <p:cNvPr id="1399" name=""/>
                            <p:cNvSpPr/>
                            <p:nvPr/>
                          </p:nvSpPr>
                          <p:spPr>
                            <a:xfrm>
                              <a:off x="5537520" y="602820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0" name=""/>
                            <p:cNvSpPr/>
                            <p:nvPr/>
                          </p:nvSpPr>
                          <p:spPr>
                            <a:xfrm>
                              <a:off x="5558400" y="607536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1" name=""/>
                            <p:cNvSpPr/>
                            <p:nvPr/>
                          </p:nvSpPr>
                          <p:spPr>
                            <a:xfrm>
                              <a:off x="5534280" y="603144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2" name=""/>
                          <p:cNvGrpSpPr/>
                          <p:nvPr/>
                        </p:nvGrpSpPr>
                        <p:grpSpPr>
                          <a:xfrm>
                            <a:off x="5562000" y="6083640"/>
                            <a:ext cx="76320" cy="53640"/>
                            <a:chOff x="5562000" y="6083640"/>
                            <a:chExt cx="76320" cy="53640"/>
                          </a:xfrm>
                        </p:grpSpPr>
                        <p:sp>
                          <p:nvSpPr>
                            <p:cNvPr id="1403" name=""/>
                            <p:cNvSpPr/>
                            <p:nvPr/>
                          </p:nvSpPr>
                          <p:spPr>
                            <a:xfrm>
                              <a:off x="5566680" y="608364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4" name=""/>
                            <p:cNvSpPr/>
                            <p:nvPr/>
                          </p:nvSpPr>
                          <p:spPr>
                            <a:xfrm>
                              <a:off x="5586120" y="61322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5" name=""/>
                            <p:cNvSpPr/>
                            <p:nvPr/>
                          </p:nvSpPr>
                          <p:spPr>
                            <a:xfrm>
                              <a:off x="5562000" y="608688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6" name=""/>
                          <p:cNvGrpSpPr/>
                          <p:nvPr/>
                        </p:nvGrpSpPr>
                        <p:grpSpPr>
                          <a:xfrm>
                            <a:off x="5591160" y="6140880"/>
                            <a:ext cx="74880" cy="53640"/>
                            <a:chOff x="5591160" y="6140880"/>
                            <a:chExt cx="74880" cy="53640"/>
                          </a:xfrm>
                        </p:grpSpPr>
                        <p:sp>
                          <p:nvSpPr>
                            <p:cNvPr id="1407" name=""/>
                            <p:cNvSpPr/>
                            <p:nvPr/>
                          </p:nvSpPr>
                          <p:spPr>
                            <a:xfrm>
                              <a:off x="5594400" y="614088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8" name=""/>
                            <p:cNvSpPr/>
                            <p:nvPr/>
                          </p:nvSpPr>
                          <p:spPr>
                            <a:xfrm>
                              <a:off x="5613840" y="61898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09" name=""/>
                            <p:cNvSpPr/>
                            <p:nvPr/>
                          </p:nvSpPr>
                          <p:spPr>
                            <a:xfrm>
                              <a:off x="5591160" y="6144120"/>
                              <a:ext cx="2124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0" name=""/>
                          <p:cNvGrpSpPr/>
                          <p:nvPr/>
                        </p:nvGrpSpPr>
                        <p:grpSpPr>
                          <a:xfrm>
                            <a:off x="5619240" y="6198480"/>
                            <a:ext cx="74880" cy="53280"/>
                            <a:chOff x="5619240" y="6198480"/>
                            <a:chExt cx="74880" cy="53280"/>
                          </a:xfrm>
                        </p:grpSpPr>
                        <p:sp>
                          <p:nvSpPr>
                            <p:cNvPr id="1411" name=""/>
                            <p:cNvSpPr/>
                            <p:nvPr/>
                          </p:nvSpPr>
                          <p:spPr>
                            <a:xfrm>
                              <a:off x="5622480" y="61984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2" name=""/>
                            <p:cNvSpPr/>
                            <p:nvPr/>
                          </p:nvSpPr>
                          <p:spPr>
                            <a:xfrm>
                              <a:off x="5641920" y="62456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3" name=""/>
                            <p:cNvSpPr/>
                            <p:nvPr/>
                          </p:nvSpPr>
                          <p:spPr>
                            <a:xfrm>
                              <a:off x="5619240" y="620172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14" name=""/>
                        <p:cNvGrpSpPr/>
                        <p:nvPr/>
                      </p:nvGrpSpPr>
                      <p:grpSpPr>
                        <a:xfrm>
                          <a:off x="5473440" y="6030000"/>
                          <a:ext cx="159840" cy="223560"/>
                          <a:chOff x="5473440" y="6030000"/>
                          <a:chExt cx="159840" cy="223560"/>
                        </a:xfrm>
                      </p:grpSpPr>
                      <p:grpSp>
                        <p:nvGrpSpPr>
                          <p:cNvPr id="1415" name=""/>
                          <p:cNvGrpSpPr/>
                          <p:nvPr/>
                        </p:nvGrpSpPr>
                        <p:grpSpPr>
                          <a:xfrm>
                            <a:off x="5473440" y="6030000"/>
                            <a:ext cx="74880" cy="53280"/>
                            <a:chOff x="5473440" y="6030000"/>
                            <a:chExt cx="74880" cy="53280"/>
                          </a:xfrm>
                        </p:grpSpPr>
                        <p:sp>
                          <p:nvSpPr>
                            <p:cNvPr id="1416" name=""/>
                            <p:cNvSpPr/>
                            <p:nvPr/>
                          </p:nvSpPr>
                          <p:spPr>
                            <a:xfrm>
                              <a:off x="5476680" y="603000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7" name=""/>
                            <p:cNvSpPr/>
                            <p:nvPr/>
                          </p:nvSpPr>
                          <p:spPr>
                            <a:xfrm>
                              <a:off x="5496120" y="607860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18" name=""/>
                            <p:cNvSpPr/>
                            <p:nvPr/>
                          </p:nvSpPr>
                          <p:spPr>
                            <a:xfrm>
                              <a:off x="5473440" y="6032880"/>
                              <a:ext cx="208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0" y="30"/>
                                  </a:lnTo>
                                  <a:lnTo>
                                    <a:pt x="12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9" name=""/>
                          <p:cNvGrpSpPr/>
                          <p:nvPr/>
                        </p:nvGrpSpPr>
                        <p:grpSpPr>
                          <a:xfrm>
                            <a:off x="5501160" y="6086880"/>
                            <a:ext cx="74880" cy="51840"/>
                            <a:chOff x="5501160" y="6086880"/>
                            <a:chExt cx="74880" cy="51840"/>
                          </a:xfrm>
                        </p:grpSpPr>
                        <p:sp>
                          <p:nvSpPr>
                            <p:cNvPr id="1420" name=""/>
                            <p:cNvSpPr/>
                            <p:nvPr/>
                          </p:nvSpPr>
                          <p:spPr>
                            <a:xfrm>
                              <a:off x="5504400" y="6086880"/>
                              <a:ext cx="7164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1" name=""/>
                            <p:cNvSpPr/>
                            <p:nvPr/>
                          </p:nvSpPr>
                          <p:spPr>
                            <a:xfrm>
                              <a:off x="5523840" y="613404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2" name=""/>
                            <p:cNvSpPr/>
                            <p:nvPr/>
                          </p:nvSpPr>
                          <p:spPr>
                            <a:xfrm>
                              <a:off x="5501160" y="6090120"/>
                              <a:ext cx="2268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0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29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3" name=""/>
                          <p:cNvGrpSpPr/>
                          <p:nvPr/>
                        </p:nvGrpSpPr>
                        <p:grpSpPr>
                          <a:xfrm>
                            <a:off x="5528880" y="6144120"/>
                            <a:ext cx="74880" cy="53640"/>
                            <a:chOff x="5528880" y="6144120"/>
                            <a:chExt cx="74880" cy="53640"/>
                          </a:xfrm>
                        </p:grpSpPr>
                        <p:sp>
                          <p:nvSpPr>
                            <p:cNvPr id="1424" name=""/>
                            <p:cNvSpPr/>
                            <p:nvPr/>
                          </p:nvSpPr>
                          <p:spPr>
                            <a:xfrm>
                              <a:off x="5532120" y="614412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5" name=""/>
                            <p:cNvSpPr/>
                            <p:nvPr/>
                          </p:nvSpPr>
                          <p:spPr>
                            <a:xfrm>
                              <a:off x="5553000" y="619128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6" name=""/>
                            <p:cNvSpPr/>
                            <p:nvPr/>
                          </p:nvSpPr>
                          <p:spPr>
                            <a:xfrm>
                              <a:off x="5528880" y="61473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7" name=""/>
                          <p:cNvGrpSpPr/>
                          <p:nvPr/>
                        </p:nvGrpSpPr>
                        <p:grpSpPr>
                          <a:xfrm>
                            <a:off x="5556960" y="6199920"/>
                            <a:ext cx="76320" cy="53640"/>
                            <a:chOff x="5556960" y="6199920"/>
                            <a:chExt cx="76320" cy="53640"/>
                          </a:xfrm>
                        </p:grpSpPr>
                        <p:sp>
                          <p:nvSpPr>
                            <p:cNvPr id="1428" name=""/>
                            <p:cNvSpPr/>
                            <p:nvPr/>
                          </p:nvSpPr>
                          <p:spPr>
                            <a:xfrm>
                              <a:off x="5561640" y="6199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29" name=""/>
                            <p:cNvSpPr/>
                            <p:nvPr/>
                          </p:nvSpPr>
                          <p:spPr>
                            <a:xfrm>
                              <a:off x="5581080" y="624888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0" name=""/>
                            <p:cNvSpPr/>
                            <p:nvPr/>
                          </p:nvSpPr>
                          <p:spPr>
                            <a:xfrm>
                              <a:off x="5556960" y="62031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31" name=""/>
                        <p:cNvGrpSpPr/>
                        <p:nvPr/>
                      </p:nvGrpSpPr>
                      <p:grpSpPr>
                        <a:xfrm>
                          <a:off x="5409720" y="6032880"/>
                          <a:ext cx="159840" cy="223920"/>
                          <a:chOff x="5409720" y="6032880"/>
                          <a:chExt cx="159840" cy="223920"/>
                        </a:xfrm>
                      </p:grpSpPr>
                      <p:grpSp>
                        <p:nvGrpSpPr>
                          <p:cNvPr id="1432" name=""/>
                          <p:cNvGrpSpPr/>
                          <p:nvPr/>
                        </p:nvGrpSpPr>
                        <p:grpSpPr>
                          <a:xfrm>
                            <a:off x="5409720" y="6032880"/>
                            <a:ext cx="74880" cy="53640"/>
                            <a:chOff x="5409720" y="6032880"/>
                            <a:chExt cx="74880" cy="53640"/>
                          </a:xfrm>
                        </p:grpSpPr>
                        <p:sp>
                          <p:nvSpPr>
                            <p:cNvPr id="1433" name=""/>
                            <p:cNvSpPr/>
                            <p:nvPr/>
                          </p:nvSpPr>
                          <p:spPr>
                            <a:xfrm>
                              <a:off x="5412960" y="603288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4" name=""/>
                            <p:cNvSpPr/>
                            <p:nvPr/>
                          </p:nvSpPr>
                          <p:spPr>
                            <a:xfrm>
                              <a:off x="5432400" y="6080040"/>
                              <a:ext cx="5220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5" name=""/>
                            <p:cNvSpPr/>
                            <p:nvPr/>
                          </p:nvSpPr>
                          <p:spPr>
                            <a:xfrm>
                              <a:off x="5409720" y="603612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36" name=""/>
                          <p:cNvGrpSpPr/>
                          <p:nvPr/>
                        </p:nvGrpSpPr>
                        <p:grpSpPr>
                          <a:xfrm>
                            <a:off x="5437440" y="6088320"/>
                            <a:ext cx="74880" cy="53640"/>
                            <a:chOff x="5437440" y="6088320"/>
                            <a:chExt cx="74880" cy="53640"/>
                          </a:xfrm>
                        </p:grpSpPr>
                        <p:sp>
                          <p:nvSpPr>
                            <p:cNvPr id="1437" name=""/>
                            <p:cNvSpPr/>
                            <p:nvPr/>
                          </p:nvSpPr>
                          <p:spPr>
                            <a:xfrm>
                              <a:off x="5440680" y="60883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8" name=""/>
                            <p:cNvSpPr/>
                            <p:nvPr/>
                          </p:nvSpPr>
                          <p:spPr>
                            <a:xfrm>
                              <a:off x="5460120" y="6135480"/>
                              <a:ext cx="522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4">
                                  <a:moveTo>
                                    <a:pt x="31" y="0"/>
                                  </a:moveTo>
                                  <a:lnTo>
                                    <a:pt x="28" y="2"/>
                                  </a:lnTo>
                                  <a:lnTo>
                                    <a:pt x="0" y="3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39" name=""/>
                            <p:cNvSpPr/>
                            <p:nvPr/>
                          </p:nvSpPr>
                          <p:spPr>
                            <a:xfrm>
                              <a:off x="5437440" y="609156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0" name=""/>
                          <p:cNvGrpSpPr/>
                          <p:nvPr/>
                        </p:nvGrpSpPr>
                        <p:grpSpPr>
                          <a:xfrm>
                            <a:off x="5465160" y="6145920"/>
                            <a:ext cx="74880" cy="53280"/>
                            <a:chOff x="5465160" y="6145920"/>
                            <a:chExt cx="74880" cy="53280"/>
                          </a:xfrm>
                        </p:grpSpPr>
                        <p:sp>
                          <p:nvSpPr>
                            <p:cNvPr id="1441" name=""/>
                            <p:cNvSpPr/>
                            <p:nvPr/>
                          </p:nvSpPr>
                          <p:spPr>
                            <a:xfrm>
                              <a:off x="5468400" y="6145920"/>
                              <a:ext cx="7164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9">
                                  <a:moveTo>
                                    <a:pt x="29" y="0"/>
                                  </a:moveTo>
                                  <a:lnTo>
                                    <a:pt x="43" y="26"/>
                                  </a:lnTo>
                                  <a:lnTo>
                                    <a:pt x="13" y="28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2" name=""/>
                            <p:cNvSpPr/>
                            <p:nvPr/>
                          </p:nvSpPr>
                          <p:spPr>
                            <a:xfrm>
                              <a:off x="5489280" y="6194520"/>
                              <a:ext cx="5076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" h="3">
                                  <a:moveTo>
                                    <a:pt x="30" y="0"/>
                                  </a:moveTo>
                                  <a:lnTo>
                                    <a:pt x="27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0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3" name=""/>
                            <p:cNvSpPr/>
                            <p:nvPr/>
                          </p:nvSpPr>
                          <p:spPr>
                            <a:xfrm>
                              <a:off x="5465160" y="6149160"/>
                              <a:ext cx="22680" cy="50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" bIns="324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4" name=""/>
                          <p:cNvGrpSpPr/>
                          <p:nvPr/>
                        </p:nvGrpSpPr>
                        <p:grpSpPr>
                          <a:xfrm>
                            <a:off x="5493240" y="6203160"/>
                            <a:ext cx="76320" cy="53640"/>
                            <a:chOff x="5493240" y="6203160"/>
                            <a:chExt cx="76320" cy="53640"/>
                          </a:xfrm>
                        </p:grpSpPr>
                        <p:sp>
                          <p:nvSpPr>
                            <p:cNvPr id="1445" name=""/>
                            <p:cNvSpPr/>
                            <p:nvPr/>
                          </p:nvSpPr>
                          <p:spPr>
                            <a:xfrm>
                              <a:off x="5497920" y="6203160"/>
                              <a:ext cx="7164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" h="28">
                                  <a:moveTo>
                                    <a:pt x="29" y="0"/>
                                  </a:moveTo>
                                  <a:lnTo>
                                    <a:pt x="43" y="25"/>
                                  </a:lnTo>
                                  <a:lnTo>
                                    <a:pt x="13" y="27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9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6" name=""/>
                            <p:cNvSpPr/>
                            <p:nvPr/>
                          </p:nvSpPr>
                          <p:spPr>
                            <a:xfrm>
                              <a:off x="5517360" y="6250320"/>
                              <a:ext cx="52200" cy="4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3">
                                  <a:moveTo>
                                    <a:pt x="31" y="0"/>
                                  </a:moveTo>
                                  <a:lnTo>
                                    <a:pt x="28" y="1"/>
                                  </a:lnTo>
                                  <a:lnTo>
                                    <a:pt x="0" y="2"/>
                                  </a:lnTo>
                                  <a:lnTo>
                                    <a:pt x="2" y="1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447" name=""/>
                            <p:cNvSpPr/>
                            <p:nvPr/>
                          </p:nvSpPr>
                          <p:spPr>
                            <a:xfrm>
                              <a:off x="5493240" y="6206400"/>
                              <a:ext cx="2268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31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11" y="30"/>
                                  </a:lnTo>
                                  <a:lnTo>
                                    <a:pt x="13" y="26"/>
                                  </a:lnTo>
                                  <a:lnTo>
                                    <a:pt x="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pPr algn="r" rtl="1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5983200" y="6307200"/>
                      <a:ext cx="244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5">
                          <a:moveTo>
                            <a:pt x="7" y="0"/>
                          </a:moveTo>
                          <a:lnTo>
                            <a:pt x="13" y="10"/>
                          </a:lnTo>
                          <a:lnTo>
                            <a:pt x="14" y="13"/>
                          </a:lnTo>
                          <a:lnTo>
                            <a:pt x="13" y="16"/>
                          </a:lnTo>
                          <a:lnTo>
                            <a:pt x="13" y="18"/>
                          </a:lnTo>
                          <a:lnTo>
                            <a:pt x="11" y="20"/>
                          </a:lnTo>
                          <a:lnTo>
                            <a:pt x="9" y="22"/>
                          </a:lnTo>
                          <a:lnTo>
                            <a:pt x="7" y="23"/>
                          </a:lnTo>
                          <a:lnTo>
                            <a:pt x="4" y="24"/>
                          </a:lnTo>
                          <a:lnTo>
                            <a:pt x="0" y="24"/>
                          </a:lnTo>
                          <a:lnTo>
                            <a:pt x="2" y="23"/>
                          </a:lnTo>
                          <a:lnTo>
                            <a:pt x="5" y="18"/>
                          </a:lnTo>
                          <a:lnTo>
                            <a:pt x="5" y="16"/>
                          </a:lnTo>
                          <a:lnTo>
                            <a:pt x="5" y="14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3f3f3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9" name=""/>
                  <p:cNvSpPr/>
                  <p:nvPr/>
                </p:nvSpPr>
                <p:spPr>
                  <a:xfrm>
                    <a:off x="5742360" y="6166440"/>
                    <a:ext cx="22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13" y="0"/>
                        </a:move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9" y="2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541840" y="5708520"/>
                  <a:ext cx="466200" cy="652680"/>
                  <a:chOff x="5541840" y="5708520"/>
                  <a:chExt cx="466200" cy="65268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756760" y="6154920"/>
                    <a:ext cx="2383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26">
                        <a:moveTo>
                          <a:pt x="140" y="117"/>
                        </a:moveTo>
                        <a:lnTo>
                          <a:pt x="142" y="112"/>
                        </a:lnTo>
                        <a:lnTo>
                          <a:pt x="143" y="108"/>
                        </a:lnTo>
                        <a:lnTo>
                          <a:pt x="144" y="104"/>
                        </a:lnTo>
                        <a:lnTo>
                          <a:pt x="144" y="101"/>
                        </a:lnTo>
                        <a:lnTo>
                          <a:pt x="144" y="96"/>
                        </a:lnTo>
                        <a:lnTo>
                          <a:pt x="144" y="93"/>
                        </a:lnTo>
                        <a:lnTo>
                          <a:pt x="141" y="98"/>
                        </a:lnTo>
                        <a:lnTo>
                          <a:pt x="139" y="101"/>
                        </a:lnTo>
                        <a:lnTo>
                          <a:pt x="135" y="103"/>
                        </a:lnTo>
                        <a:lnTo>
                          <a:pt x="87" y="108"/>
                        </a:lnTo>
                        <a:lnTo>
                          <a:pt x="80" y="108"/>
                        </a:lnTo>
                        <a:lnTo>
                          <a:pt x="76" y="107"/>
                        </a:lnTo>
                        <a:lnTo>
                          <a:pt x="72" y="107"/>
                        </a:lnTo>
                        <a:lnTo>
                          <a:pt x="67" y="105"/>
                        </a:lnTo>
                        <a:lnTo>
                          <a:pt x="63" y="103"/>
                        </a:lnTo>
                        <a:lnTo>
                          <a:pt x="59" y="101"/>
                        </a:lnTo>
                        <a:lnTo>
                          <a:pt x="55" y="98"/>
                        </a:lnTo>
                        <a:lnTo>
                          <a:pt x="52" y="94"/>
                        </a:lnTo>
                        <a:lnTo>
                          <a:pt x="48" y="89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10" y="2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9"/>
                        </a:lnTo>
                        <a:lnTo>
                          <a:pt x="0" y="32"/>
                        </a:lnTo>
                        <a:lnTo>
                          <a:pt x="40" y="122"/>
                        </a:lnTo>
                        <a:lnTo>
                          <a:pt x="44" y="124"/>
                        </a:lnTo>
                        <a:lnTo>
                          <a:pt x="48" y="125"/>
                        </a:lnTo>
                        <a:lnTo>
                          <a:pt x="52" y="125"/>
                        </a:lnTo>
                        <a:lnTo>
                          <a:pt x="140" y="11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5541840" y="5710320"/>
                    <a:ext cx="466200" cy="62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380">
                        <a:moveTo>
                          <a:pt x="276" y="365"/>
                        </a:moveTo>
                        <a:lnTo>
                          <a:pt x="278" y="359"/>
                        </a:lnTo>
                        <a:lnTo>
                          <a:pt x="280" y="352"/>
                        </a:lnTo>
                        <a:lnTo>
                          <a:pt x="281" y="346"/>
                        </a:lnTo>
                        <a:lnTo>
                          <a:pt x="282" y="339"/>
                        </a:lnTo>
                        <a:lnTo>
                          <a:pt x="283" y="330"/>
                        </a:lnTo>
                        <a:lnTo>
                          <a:pt x="283" y="320"/>
                        </a:lnTo>
                        <a:lnTo>
                          <a:pt x="283" y="313"/>
                        </a:lnTo>
                        <a:lnTo>
                          <a:pt x="232" y="313"/>
                        </a:lnTo>
                        <a:lnTo>
                          <a:pt x="222" y="281"/>
                        </a:lnTo>
                        <a:lnTo>
                          <a:pt x="204" y="238"/>
                        </a:lnTo>
                        <a:lnTo>
                          <a:pt x="169" y="159"/>
                        </a:lnTo>
                        <a:lnTo>
                          <a:pt x="153" y="127"/>
                        </a:lnTo>
                        <a:lnTo>
                          <a:pt x="132" y="95"/>
                        </a:lnTo>
                        <a:lnTo>
                          <a:pt x="94" y="50"/>
                        </a:lnTo>
                        <a:lnTo>
                          <a:pt x="68" y="21"/>
                        </a:lnTo>
                        <a:lnTo>
                          <a:pt x="46" y="0"/>
                        </a:lnTo>
                        <a:lnTo>
                          <a:pt x="18" y="18"/>
                        </a:lnTo>
                        <a:lnTo>
                          <a:pt x="6" y="25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1" y="38"/>
                        </a:lnTo>
                        <a:lnTo>
                          <a:pt x="4" y="42"/>
                        </a:lnTo>
                        <a:lnTo>
                          <a:pt x="25" y="61"/>
                        </a:lnTo>
                        <a:lnTo>
                          <a:pt x="37" y="74"/>
                        </a:lnTo>
                        <a:lnTo>
                          <a:pt x="58" y="97"/>
                        </a:lnTo>
                        <a:lnTo>
                          <a:pt x="61" y="98"/>
                        </a:lnTo>
                        <a:lnTo>
                          <a:pt x="65" y="98"/>
                        </a:lnTo>
                        <a:lnTo>
                          <a:pt x="81" y="97"/>
                        </a:lnTo>
                        <a:lnTo>
                          <a:pt x="86" y="96"/>
                        </a:lnTo>
                        <a:lnTo>
                          <a:pt x="91" y="97"/>
                        </a:lnTo>
                        <a:lnTo>
                          <a:pt x="96" y="98"/>
                        </a:lnTo>
                        <a:lnTo>
                          <a:pt x="100" y="100"/>
                        </a:lnTo>
                        <a:lnTo>
                          <a:pt x="104" y="103"/>
                        </a:lnTo>
                        <a:lnTo>
                          <a:pt x="113" y="114"/>
                        </a:lnTo>
                        <a:lnTo>
                          <a:pt x="129" y="143"/>
                        </a:lnTo>
                        <a:lnTo>
                          <a:pt x="139" y="163"/>
                        </a:lnTo>
                        <a:lnTo>
                          <a:pt x="149" y="185"/>
                        </a:lnTo>
                        <a:lnTo>
                          <a:pt x="157" y="203"/>
                        </a:lnTo>
                        <a:lnTo>
                          <a:pt x="163" y="219"/>
                        </a:lnTo>
                        <a:lnTo>
                          <a:pt x="147" y="271"/>
                        </a:lnTo>
                        <a:lnTo>
                          <a:pt x="180" y="360"/>
                        </a:lnTo>
                        <a:lnTo>
                          <a:pt x="183" y="366"/>
                        </a:lnTo>
                        <a:lnTo>
                          <a:pt x="188" y="371"/>
                        </a:lnTo>
                        <a:lnTo>
                          <a:pt x="198" y="377"/>
                        </a:lnTo>
                        <a:lnTo>
                          <a:pt x="207" y="379"/>
                        </a:lnTo>
                        <a:lnTo>
                          <a:pt x="219" y="379"/>
                        </a:lnTo>
                        <a:lnTo>
                          <a:pt x="268" y="374"/>
                        </a:lnTo>
                        <a:lnTo>
                          <a:pt x="271" y="371"/>
                        </a:lnTo>
                        <a:lnTo>
                          <a:pt x="273" y="368"/>
                        </a:lnTo>
                        <a:lnTo>
                          <a:pt x="276" y="3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5547960" y="5779080"/>
                    <a:ext cx="2628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87">
                        <a:moveTo>
                          <a:pt x="159" y="177"/>
                        </a:moveTo>
                        <a:lnTo>
                          <a:pt x="153" y="160"/>
                        </a:lnTo>
                        <a:lnTo>
                          <a:pt x="143" y="138"/>
                        </a:lnTo>
                        <a:lnTo>
                          <a:pt x="130" y="110"/>
                        </a:lnTo>
                        <a:lnTo>
                          <a:pt x="125" y="100"/>
                        </a:lnTo>
                        <a:lnTo>
                          <a:pt x="109" y="72"/>
                        </a:lnTo>
                        <a:lnTo>
                          <a:pt x="100" y="61"/>
                        </a:lnTo>
                        <a:lnTo>
                          <a:pt x="95" y="57"/>
                        </a:lnTo>
                        <a:lnTo>
                          <a:pt x="91" y="55"/>
                        </a:lnTo>
                        <a:lnTo>
                          <a:pt x="88" y="54"/>
                        </a:lnTo>
                        <a:lnTo>
                          <a:pt x="83" y="54"/>
                        </a:lnTo>
                        <a:lnTo>
                          <a:pt x="67" y="55"/>
                        </a:lnTo>
                        <a:lnTo>
                          <a:pt x="61" y="56"/>
                        </a:lnTo>
                        <a:lnTo>
                          <a:pt x="57" y="56"/>
                        </a:lnTo>
                        <a:lnTo>
                          <a:pt x="56" y="55"/>
                        </a:lnTo>
                        <a:lnTo>
                          <a:pt x="54" y="54"/>
                        </a:lnTo>
                        <a:lnTo>
                          <a:pt x="36" y="35"/>
                        </a:lnTo>
                        <a:lnTo>
                          <a:pt x="22" y="18"/>
                        </a:lnTo>
                        <a:lnTo>
                          <a:pt x="0" y="0"/>
                        </a:lnTo>
                        <a:lnTo>
                          <a:pt x="39" y="67"/>
                        </a:lnTo>
                        <a:lnTo>
                          <a:pt x="41" y="69"/>
                        </a:lnTo>
                        <a:lnTo>
                          <a:pt x="43" y="71"/>
                        </a:lnTo>
                        <a:lnTo>
                          <a:pt x="45" y="73"/>
                        </a:lnTo>
                        <a:lnTo>
                          <a:pt x="52" y="73"/>
                        </a:lnTo>
                        <a:lnTo>
                          <a:pt x="62" y="75"/>
                        </a:lnTo>
                        <a:lnTo>
                          <a:pt x="70" y="75"/>
                        </a:lnTo>
                        <a:lnTo>
                          <a:pt x="79" y="75"/>
                        </a:lnTo>
                        <a:lnTo>
                          <a:pt x="86" y="75"/>
                        </a:lnTo>
                        <a:lnTo>
                          <a:pt x="91" y="75"/>
                        </a:lnTo>
                        <a:lnTo>
                          <a:pt x="98" y="74"/>
                        </a:lnTo>
                        <a:lnTo>
                          <a:pt x="101" y="76"/>
                        </a:lnTo>
                        <a:lnTo>
                          <a:pt x="103" y="78"/>
                        </a:lnTo>
                        <a:lnTo>
                          <a:pt x="104" y="81"/>
                        </a:lnTo>
                        <a:lnTo>
                          <a:pt x="117" y="105"/>
                        </a:lnTo>
                        <a:lnTo>
                          <a:pt x="131" y="132"/>
                        </a:lnTo>
                        <a:lnTo>
                          <a:pt x="140" y="152"/>
                        </a:lnTo>
                        <a:lnTo>
                          <a:pt x="156" y="186"/>
                        </a:lnTo>
                        <a:lnTo>
                          <a:pt x="159" y="177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5615280" y="5708520"/>
                    <a:ext cx="392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4">
                        <a:moveTo>
                          <a:pt x="238" y="313"/>
                        </a:moveTo>
                        <a:lnTo>
                          <a:pt x="237" y="304"/>
                        </a:lnTo>
                        <a:lnTo>
                          <a:pt x="235" y="295"/>
                        </a:lnTo>
                        <a:lnTo>
                          <a:pt x="233" y="288"/>
                        </a:lnTo>
                        <a:lnTo>
                          <a:pt x="230" y="279"/>
                        </a:lnTo>
                        <a:lnTo>
                          <a:pt x="221" y="257"/>
                        </a:lnTo>
                        <a:lnTo>
                          <a:pt x="214" y="239"/>
                        </a:lnTo>
                        <a:lnTo>
                          <a:pt x="201" y="210"/>
                        </a:lnTo>
                        <a:lnTo>
                          <a:pt x="185" y="180"/>
                        </a:lnTo>
                        <a:lnTo>
                          <a:pt x="169" y="146"/>
                        </a:lnTo>
                        <a:lnTo>
                          <a:pt x="145" y="107"/>
                        </a:lnTo>
                        <a:lnTo>
                          <a:pt x="138" y="96"/>
                        </a:lnTo>
                        <a:lnTo>
                          <a:pt x="129" y="84"/>
                        </a:lnTo>
                        <a:lnTo>
                          <a:pt x="117" y="67"/>
                        </a:lnTo>
                        <a:lnTo>
                          <a:pt x="105" y="53"/>
                        </a:lnTo>
                        <a:lnTo>
                          <a:pt x="90" y="36"/>
                        </a:lnTo>
                        <a:lnTo>
                          <a:pt x="55" y="1"/>
                        </a:lnTo>
                        <a:lnTo>
                          <a:pt x="0" y="0"/>
                        </a:lnTo>
                        <a:lnTo>
                          <a:pt x="23" y="22"/>
                        </a:lnTo>
                        <a:lnTo>
                          <a:pt x="39" y="39"/>
                        </a:lnTo>
                        <a:lnTo>
                          <a:pt x="70" y="75"/>
                        </a:lnTo>
                        <a:lnTo>
                          <a:pt x="87" y="95"/>
                        </a:lnTo>
                        <a:lnTo>
                          <a:pt x="107" y="127"/>
                        </a:lnTo>
                        <a:lnTo>
                          <a:pt x="125" y="161"/>
                        </a:lnTo>
                        <a:lnTo>
                          <a:pt x="159" y="239"/>
                        </a:lnTo>
                        <a:lnTo>
                          <a:pt x="176" y="280"/>
                        </a:lnTo>
                        <a:lnTo>
                          <a:pt x="187" y="313"/>
                        </a:lnTo>
                        <a:lnTo>
                          <a:pt x="238" y="3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5673600" y="5979240"/>
                  <a:ext cx="129240" cy="111240"/>
                  <a:chOff x="5673600" y="5979240"/>
                  <a:chExt cx="129240" cy="11124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5673600" y="5979240"/>
                    <a:ext cx="83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">
                        <a:moveTo>
                          <a:pt x="50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5682960" y="5995440"/>
                    <a:ext cx="80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">
                        <a:moveTo>
                          <a:pt x="48" y="0"/>
                        </a:move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5692680" y="6011640"/>
                    <a:ext cx="78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">
                        <a:moveTo>
                          <a:pt x="47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702760" y="6030000"/>
                    <a:ext cx="7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">
                        <a:moveTo>
                          <a:pt x="46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5712480" y="6048000"/>
                    <a:ext cx="75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5" y="0"/>
                        </a:move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5720760" y="6064200"/>
                    <a:ext cx="7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">
                        <a:moveTo>
                          <a:pt x="44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5730840" y="6082560"/>
                    <a:ext cx="72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3" y="0"/>
                        </a:moveTo>
                        <a:lnTo>
                          <a:pt x="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3" name=""/>
              <p:cNvGrpSpPr/>
              <p:nvPr/>
            </p:nvGrpSpPr>
            <p:grpSpPr>
              <a:xfrm>
                <a:off x="5941440" y="6255360"/>
                <a:ext cx="37440" cy="24120"/>
                <a:chOff x="5941440" y="6255360"/>
                <a:chExt cx="37440" cy="241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5941440" y="6255360"/>
                  <a:ext cx="37440" cy="2412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2" y="0"/>
                      </a:move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9" y="1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941440" y="6261480"/>
                  <a:ext cx="32760" cy="1476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9" y="0"/>
                      </a:move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6" name=""/>
            <p:cNvGrpSpPr/>
            <p:nvPr/>
          </p:nvGrpSpPr>
          <p:grpSpPr>
            <a:xfrm>
              <a:off x="5935320" y="6261840"/>
              <a:ext cx="65880" cy="268560"/>
              <a:chOff x="5935320" y="6261840"/>
              <a:chExt cx="65880" cy="268560"/>
            </a:xfrm>
          </p:grpSpPr>
          <p:grpSp>
            <p:nvGrpSpPr>
              <p:cNvPr id="1467" name=""/>
              <p:cNvGrpSpPr/>
              <p:nvPr/>
            </p:nvGrpSpPr>
            <p:grpSpPr>
              <a:xfrm>
                <a:off x="5952960" y="6386760"/>
                <a:ext cx="48240" cy="143640"/>
                <a:chOff x="5952960" y="6386760"/>
                <a:chExt cx="48240" cy="14364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5964120" y="6469920"/>
                  <a:ext cx="37080" cy="60480"/>
                  <a:chOff x="5964120" y="6469920"/>
                  <a:chExt cx="37080" cy="604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5970600" y="6471720"/>
                    <a:ext cx="2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5964120" y="6469920"/>
                    <a:ext cx="3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5960880" y="6428880"/>
                  <a:ext cx="35280" cy="60120"/>
                  <a:chOff x="5960880" y="6428880"/>
                  <a:chExt cx="35280" cy="6012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5965560" y="642888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5960880" y="6428880"/>
                    <a:ext cx="352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3"/>
                        </a:lnTo>
                        <a:lnTo>
                          <a:pt x="3" y="10"/>
                        </a:ln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2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5952960" y="6386760"/>
                  <a:ext cx="37440" cy="60120"/>
                  <a:chOff x="5952960" y="6386760"/>
                  <a:chExt cx="37440" cy="6012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5959440" y="6388200"/>
                    <a:ext cx="20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12" y="0"/>
                        </a:moveTo>
                        <a:lnTo>
                          <a:pt x="12" y="7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5952960" y="638676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10" y="18"/>
                        </a:lnTo>
                        <a:lnTo>
                          <a:pt x="7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7" name=""/>
              <p:cNvGrpSpPr/>
              <p:nvPr/>
            </p:nvGrpSpPr>
            <p:grpSpPr>
              <a:xfrm>
                <a:off x="5935320" y="6261840"/>
                <a:ext cx="48240" cy="143640"/>
                <a:chOff x="5935320" y="6261840"/>
                <a:chExt cx="48240" cy="14364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5946480" y="6345360"/>
                  <a:ext cx="37080" cy="60120"/>
                  <a:chOff x="5946480" y="6345360"/>
                  <a:chExt cx="37080" cy="60120"/>
                </a:xfrm>
              </p:grpSpPr>
              <p:sp>
                <p:nvSpPr>
                  <p:cNvPr id="1479" name=""/>
                  <p:cNvSpPr/>
                  <p:nvPr/>
                </p:nvSpPr>
                <p:spPr>
                  <a:xfrm>
                    <a:off x="5952600" y="6347160"/>
                    <a:ext cx="22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13" y="0"/>
                        </a:moveTo>
                        <a:lnTo>
                          <a:pt x="13" y="7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5" y="11"/>
                        </a:lnTo>
                        <a:lnTo>
                          <a:pt x="3" y="13"/>
                        </a:lnTo>
                        <a:lnTo>
                          <a:pt x="1" y="10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946480" y="6345360"/>
                    <a:ext cx="37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3"/>
                        </a:lnTo>
                        <a:lnTo>
                          <a:pt x="15" y="35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20"/>
                        </a:lnTo>
                        <a:lnTo>
                          <a:pt x="10" y="19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10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5941440" y="6304320"/>
                  <a:ext cx="37440" cy="60120"/>
                  <a:chOff x="5941440" y="6304320"/>
                  <a:chExt cx="37440" cy="6012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5947920" y="6304320"/>
                    <a:ext cx="22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941440" y="6304320"/>
                    <a:ext cx="374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7">
                        <a:moveTo>
                          <a:pt x="18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6" y="29"/>
                        </a:lnTo>
                        <a:lnTo>
                          <a:pt x="8" y="31"/>
                        </a:lnTo>
                        <a:lnTo>
                          <a:pt x="11" y="32"/>
                        </a:lnTo>
                        <a:lnTo>
                          <a:pt x="15" y="34"/>
                        </a:lnTo>
                        <a:lnTo>
                          <a:pt x="19" y="36"/>
                        </a:lnTo>
                        <a:lnTo>
                          <a:pt x="22" y="36"/>
                        </a:lnTo>
                        <a:lnTo>
                          <a:pt x="22" y="23"/>
                        </a:lnTo>
                        <a:lnTo>
                          <a:pt x="18" y="22"/>
                        </a:lnTo>
                        <a:lnTo>
                          <a:pt x="14" y="21"/>
                        </a:lnTo>
                        <a:lnTo>
                          <a:pt x="12" y="19"/>
                        </a:lnTo>
                        <a:lnTo>
                          <a:pt x="10" y="18"/>
                        </a:lnTo>
                        <a:lnTo>
                          <a:pt x="8" y="17"/>
                        </a:lnTo>
                        <a:lnTo>
                          <a:pt x="6" y="15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10" y="3"/>
                        </a:lnTo>
                        <a:lnTo>
                          <a:pt x="14" y="1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5935320" y="6261840"/>
                  <a:ext cx="35280" cy="60480"/>
                  <a:chOff x="5935320" y="6261840"/>
                  <a:chExt cx="35280" cy="6048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5940000" y="6261840"/>
                    <a:ext cx="22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13" y="0"/>
                        </a:moveTo>
                        <a:lnTo>
                          <a:pt x="13" y="8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3" y="4"/>
                        </a:lnTo>
                        <a:lnTo>
                          <a:pt x="7" y="2"/>
                        </a:lnTo>
                        <a:lnTo>
                          <a:pt x="9" y="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5935320" y="6261840"/>
                    <a:ext cx="35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7">
                        <a:moveTo>
                          <a:pt x="17" y="0"/>
                        </a:moveTo>
                        <a:lnTo>
                          <a:pt x="13" y="1"/>
                        </a:lnTo>
                        <a:lnTo>
                          <a:pt x="9" y="2"/>
                        </a:lnTo>
                        <a:lnTo>
                          <a:pt x="5" y="4"/>
                        </a:lnTo>
                        <a:lnTo>
                          <a:pt x="3" y="5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4" y="34"/>
                        </a:lnTo>
                        <a:lnTo>
                          <a:pt x="18" y="36"/>
                        </a:lnTo>
                        <a:lnTo>
                          <a:pt x="21" y="36"/>
                        </a:lnTo>
                        <a:lnTo>
                          <a:pt x="21" y="23"/>
                        </a:lnTo>
                        <a:lnTo>
                          <a:pt x="17" y="22"/>
                        </a:lnTo>
                        <a:lnTo>
                          <a:pt x="14" y="21"/>
                        </a:lnTo>
                        <a:lnTo>
                          <a:pt x="11" y="20"/>
                        </a:lnTo>
                        <a:lnTo>
                          <a:pt x="9" y="18"/>
                        </a:lnTo>
                        <a:lnTo>
                          <a:pt x="7" y="17"/>
                        </a:lnTo>
                        <a:lnTo>
                          <a:pt x="5" y="15"/>
                        </a:lnTo>
                        <a:lnTo>
                          <a:pt x="4" y="12"/>
                        </a:lnTo>
                        <a:lnTo>
                          <a:pt x="3" y="10"/>
                        </a:ln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9" y="3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87" name=""/>
          <p:cNvSpPr/>
          <p:nvPr/>
        </p:nvSpPr>
        <p:spPr>
          <a:xfrm>
            <a:off x="4974840" y="4675320"/>
            <a:ext cx="101232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751560" y="4921200"/>
            <a:ext cx="74736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C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35000" y="4921200"/>
            <a:ext cx="960480" cy="430920"/>
          </a:xfrm>
          <a:prstGeom prst="rect">
            <a:avLst/>
          </a:prstGeom>
          <a:gradFill rotWithShape="0">
            <a:gsLst>
              <a:gs pos="0">
                <a:srgbClr val="0430b8"/>
              </a:gs>
              <a:gs pos="100000">
                <a:srgbClr val="063de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62320" y="5484960"/>
            <a:ext cx="50328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46720" y="5246640"/>
            <a:ext cx="0" cy="3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879880" y="5445000"/>
            <a:ext cx="936360" cy="18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11160" y="513396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940560" y="56134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612120" y="5557680"/>
            <a:ext cx="699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880" rIns="47880" tIns="24840" bIns="24840" anchor="t">
            <a:spAutoFit/>
          </a:bodyPr>
          <a:p>
            <a:pPr algn="r" rtl="1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$0.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038560" y="2217600"/>
            <a:ext cx="3230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355680" indent="-355680" rtl="1">
              <a:lnSpc>
                <a:spcPct val="90000"/>
              </a:lnSpc>
              <a:spcBef>
                <a:spcPts val="108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Carriers have </a:t>
            </a:r>
            <a:r>
              <a:rPr b="1" i="1" lang="en-US" sz="2900" spc="-1" strike="noStrike">
                <a:solidFill>
                  <a:srgbClr val="000000"/>
                </a:solidFill>
                <a:latin typeface="Book Antiqua"/>
              </a:rPr>
              <a:t>no</a:t>
            </a: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 incentive to invest effort in strategic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270080" y="4921200"/>
            <a:ext cx="2329560" cy="1658520"/>
            <a:chOff x="1270080" y="4921200"/>
            <a:chExt cx="2329560" cy="1658520"/>
          </a:xfrm>
        </p:grpSpPr>
        <p:sp>
          <p:nvSpPr>
            <p:cNvPr id="1498" name=""/>
            <p:cNvSpPr/>
            <p:nvPr/>
          </p:nvSpPr>
          <p:spPr>
            <a:xfrm>
              <a:off x="1270080" y="5125320"/>
              <a:ext cx="1980000" cy="1454400"/>
            </a:xfrm>
            <a:custGeom>
              <a:avLst/>
              <a:gdLst/>
              <a:ahLst/>
              <a:rect l="l" t="t" r="r" b="b"/>
              <a:pathLst>
                <a:path w="1204" h="884">
                  <a:moveTo>
                    <a:pt x="1012" y="674"/>
                  </a:moveTo>
                  <a:lnTo>
                    <a:pt x="1002" y="698"/>
                  </a:lnTo>
                  <a:lnTo>
                    <a:pt x="987" y="724"/>
                  </a:lnTo>
                  <a:lnTo>
                    <a:pt x="963" y="743"/>
                  </a:lnTo>
                  <a:lnTo>
                    <a:pt x="933" y="759"/>
                  </a:lnTo>
                  <a:lnTo>
                    <a:pt x="908" y="768"/>
                  </a:lnTo>
                  <a:lnTo>
                    <a:pt x="877" y="777"/>
                  </a:lnTo>
                  <a:lnTo>
                    <a:pt x="831" y="781"/>
                  </a:lnTo>
                  <a:lnTo>
                    <a:pt x="786" y="777"/>
                  </a:lnTo>
                  <a:lnTo>
                    <a:pt x="744" y="767"/>
                  </a:lnTo>
                  <a:lnTo>
                    <a:pt x="713" y="755"/>
                  </a:lnTo>
                  <a:lnTo>
                    <a:pt x="695" y="795"/>
                  </a:lnTo>
                  <a:lnTo>
                    <a:pt x="672" y="826"/>
                  </a:lnTo>
                  <a:lnTo>
                    <a:pt x="640" y="851"/>
                  </a:lnTo>
                  <a:lnTo>
                    <a:pt x="598" y="869"/>
                  </a:lnTo>
                  <a:lnTo>
                    <a:pt x="547" y="882"/>
                  </a:lnTo>
                  <a:lnTo>
                    <a:pt x="497" y="883"/>
                  </a:lnTo>
                  <a:lnTo>
                    <a:pt x="452" y="876"/>
                  </a:lnTo>
                  <a:lnTo>
                    <a:pt x="401" y="860"/>
                  </a:lnTo>
                  <a:lnTo>
                    <a:pt x="363" y="833"/>
                  </a:lnTo>
                  <a:lnTo>
                    <a:pt x="335" y="806"/>
                  </a:lnTo>
                  <a:lnTo>
                    <a:pt x="317" y="780"/>
                  </a:lnTo>
                  <a:lnTo>
                    <a:pt x="314" y="746"/>
                  </a:lnTo>
                  <a:lnTo>
                    <a:pt x="278" y="757"/>
                  </a:lnTo>
                  <a:lnTo>
                    <a:pt x="237" y="753"/>
                  </a:lnTo>
                  <a:lnTo>
                    <a:pt x="202" y="743"/>
                  </a:lnTo>
                  <a:lnTo>
                    <a:pt x="172" y="719"/>
                  </a:lnTo>
                  <a:lnTo>
                    <a:pt x="151" y="688"/>
                  </a:lnTo>
                  <a:lnTo>
                    <a:pt x="143" y="654"/>
                  </a:lnTo>
                  <a:lnTo>
                    <a:pt x="144" y="629"/>
                  </a:lnTo>
                  <a:lnTo>
                    <a:pt x="124" y="631"/>
                  </a:lnTo>
                  <a:lnTo>
                    <a:pt x="99" y="625"/>
                  </a:lnTo>
                  <a:lnTo>
                    <a:pt x="74" y="613"/>
                  </a:lnTo>
                  <a:lnTo>
                    <a:pt x="53" y="600"/>
                  </a:lnTo>
                  <a:lnTo>
                    <a:pt x="40" y="588"/>
                  </a:lnTo>
                  <a:lnTo>
                    <a:pt x="29" y="573"/>
                  </a:lnTo>
                  <a:lnTo>
                    <a:pt x="15" y="554"/>
                  </a:lnTo>
                  <a:lnTo>
                    <a:pt x="8" y="530"/>
                  </a:lnTo>
                  <a:lnTo>
                    <a:pt x="7" y="512"/>
                  </a:lnTo>
                  <a:lnTo>
                    <a:pt x="11" y="493"/>
                  </a:lnTo>
                  <a:lnTo>
                    <a:pt x="19" y="469"/>
                  </a:lnTo>
                  <a:lnTo>
                    <a:pt x="8" y="444"/>
                  </a:lnTo>
                  <a:lnTo>
                    <a:pt x="4" y="423"/>
                  </a:lnTo>
                  <a:lnTo>
                    <a:pt x="1" y="398"/>
                  </a:lnTo>
                  <a:lnTo>
                    <a:pt x="7" y="368"/>
                  </a:lnTo>
                  <a:lnTo>
                    <a:pt x="12" y="351"/>
                  </a:lnTo>
                  <a:lnTo>
                    <a:pt x="25" y="329"/>
                  </a:lnTo>
                  <a:lnTo>
                    <a:pt x="7" y="299"/>
                  </a:lnTo>
                  <a:lnTo>
                    <a:pt x="1" y="280"/>
                  </a:lnTo>
                  <a:lnTo>
                    <a:pt x="0" y="252"/>
                  </a:lnTo>
                  <a:lnTo>
                    <a:pt x="4" y="225"/>
                  </a:lnTo>
                  <a:lnTo>
                    <a:pt x="14" y="194"/>
                  </a:lnTo>
                  <a:lnTo>
                    <a:pt x="29" y="172"/>
                  </a:lnTo>
                  <a:lnTo>
                    <a:pt x="50" y="152"/>
                  </a:lnTo>
                  <a:lnTo>
                    <a:pt x="86" y="132"/>
                  </a:lnTo>
                  <a:lnTo>
                    <a:pt x="124" y="125"/>
                  </a:lnTo>
                  <a:lnTo>
                    <a:pt x="158" y="131"/>
                  </a:lnTo>
                  <a:lnTo>
                    <a:pt x="181" y="141"/>
                  </a:lnTo>
                  <a:lnTo>
                    <a:pt x="196" y="120"/>
                  </a:lnTo>
                  <a:lnTo>
                    <a:pt x="213" y="103"/>
                  </a:lnTo>
                  <a:lnTo>
                    <a:pt x="227" y="93"/>
                  </a:lnTo>
                  <a:lnTo>
                    <a:pt x="254" y="78"/>
                  </a:lnTo>
                  <a:lnTo>
                    <a:pt x="278" y="69"/>
                  </a:lnTo>
                  <a:lnTo>
                    <a:pt x="314" y="62"/>
                  </a:lnTo>
                  <a:lnTo>
                    <a:pt x="348" y="63"/>
                  </a:lnTo>
                  <a:lnTo>
                    <a:pt x="383" y="72"/>
                  </a:lnTo>
                  <a:lnTo>
                    <a:pt x="414" y="89"/>
                  </a:lnTo>
                  <a:lnTo>
                    <a:pt x="432" y="61"/>
                  </a:lnTo>
                  <a:lnTo>
                    <a:pt x="448" y="44"/>
                  </a:lnTo>
                  <a:lnTo>
                    <a:pt x="470" y="30"/>
                  </a:lnTo>
                  <a:lnTo>
                    <a:pt x="495" y="18"/>
                  </a:lnTo>
                  <a:lnTo>
                    <a:pt x="523" y="13"/>
                  </a:lnTo>
                  <a:lnTo>
                    <a:pt x="549" y="13"/>
                  </a:lnTo>
                  <a:lnTo>
                    <a:pt x="574" y="18"/>
                  </a:lnTo>
                  <a:lnTo>
                    <a:pt x="605" y="33"/>
                  </a:lnTo>
                  <a:lnTo>
                    <a:pt x="623" y="48"/>
                  </a:lnTo>
                  <a:lnTo>
                    <a:pt x="640" y="30"/>
                  </a:lnTo>
                  <a:lnTo>
                    <a:pt x="657" y="18"/>
                  </a:lnTo>
                  <a:lnTo>
                    <a:pt x="679" y="8"/>
                  </a:lnTo>
                  <a:lnTo>
                    <a:pt x="710" y="0"/>
                  </a:lnTo>
                  <a:lnTo>
                    <a:pt x="742" y="2"/>
                  </a:lnTo>
                  <a:lnTo>
                    <a:pt x="775" y="11"/>
                  </a:lnTo>
                  <a:lnTo>
                    <a:pt x="800" y="25"/>
                  </a:lnTo>
                  <a:lnTo>
                    <a:pt x="824" y="49"/>
                  </a:lnTo>
                  <a:lnTo>
                    <a:pt x="838" y="72"/>
                  </a:lnTo>
                  <a:lnTo>
                    <a:pt x="863" y="64"/>
                  </a:lnTo>
                  <a:lnTo>
                    <a:pt x="892" y="58"/>
                  </a:lnTo>
                  <a:lnTo>
                    <a:pt x="926" y="61"/>
                  </a:lnTo>
                  <a:lnTo>
                    <a:pt x="956" y="71"/>
                  </a:lnTo>
                  <a:lnTo>
                    <a:pt x="978" y="87"/>
                  </a:lnTo>
                  <a:lnTo>
                    <a:pt x="997" y="103"/>
                  </a:lnTo>
                  <a:lnTo>
                    <a:pt x="1013" y="127"/>
                  </a:lnTo>
                  <a:lnTo>
                    <a:pt x="1016" y="152"/>
                  </a:lnTo>
                  <a:lnTo>
                    <a:pt x="1033" y="146"/>
                  </a:lnTo>
                  <a:lnTo>
                    <a:pt x="1060" y="145"/>
                  </a:lnTo>
                  <a:lnTo>
                    <a:pt x="1091" y="152"/>
                  </a:lnTo>
                  <a:lnTo>
                    <a:pt x="1122" y="169"/>
                  </a:lnTo>
                  <a:lnTo>
                    <a:pt x="1144" y="191"/>
                  </a:lnTo>
                  <a:lnTo>
                    <a:pt x="1161" y="221"/>
                  </a:lnTo>
                  <a:lnTo>
                    <a:pt x="1172" y="252"/>
                  </a:lnTo>
                  <a:lnTo>
                    <a:pt x="1176" y="295"/>
                  </a:lnTo>
                  <a:lnTo>
                    <a:pt x="1174" y="323"/>
                  </a:lnTo>
                  <a:lnTo>
                    <a:pt x="1165" y="365"/>
                  </a:lnTo>
                  <a:lnTo>
                    <a:pt x="1186" y="389"/>
                  </a:lnTo>
                  <a:lnTo>
                    <a:pt x="1197" y="420"/>
                  </a:lnTo>
                  <a:lnTo>
                    <a:pt x="1203" y="453"/>
                  </a:lnTo>
                  <a:lnTo>
                    <a:pt x="1203" y="487"/>
                  </a:lnTo>
                  <a:lnTo>
                    <a:pt x="1196" y="524"/>
                  </a:lnTo>
                  <a:lnTo>
                    <a:pt x="1182" y="551"/>
                  </a:lnTo>
                  <a:lnTo>
                    <a:pt x="1158" y="581"/>
                  </a:lnTo>
                  <a:lnTo>
                    <a:pt x="1133" y="604"/>
                  </a:lnTo>
                  <a:lnTo>
                    <a:pt x="1103" y="625"/>
                  </a:lnTo>
                  <a:lnTo>
                    <a:pt x="1065" y="639"/>
                  </a:lnTo>
                  <a:lnTo>
                    <a:pt x="1029" y="648"/>
                  </a:lnTo>
                  <a:lnTo>
                    <a:pt x="1013" y="651"/>
                  </a:lnTo>
                  <a:lnTo>
                    <a:pt x="1012" y="6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26280" bIns="26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3077280" y="4921200"/>
              <a:ext cx="522360" cy="450720"/>
              <a:chOff x="3077280" y="4921200"/>
              <a:chExt cx="522360" cy="450720"/>
            </a:xfrm>
          </p:grpSpPr>
          <p:sp>
            <p:nvSpPr>
              <p:cNvPr id="1500" name=""/>
              <p:cNvSpPr/>
              <p:nvPr/>
            </p:nvSpPr>
            <p:spPr>
              <a:xfrm>
                <a:off x="3077280" y="5085720"/>
                <a:ext cx="198360" cy="286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31800" y="4955760"/>
                <a:ext cx="129600" cy="218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499560" y="4921200"/>
                <a:ext cx="100080" cy="123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"/>
            <p:cNvSpPr/>
            <p:nvPr/>
          </p:nvSpPr>
          <p:spPr>
            <a:xfrm>
              <a:off x="1572840" y="5403600"/>
              <a:ext cx="1685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I have no reason to overbid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.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D68-6520-47DC-BADC-2F7715886B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4952880" cy="111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atabase Dom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972160" y="2448000"/>
            <a:ext cx="333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26280" bIns="26280" anchor="t">
            <a:spAutoFit/>
          </a:bodyPr>
          <a:p>
            <a:pPr algn="r" rtl="1">
              <a:lnSpc>
                <a:spcPct val="86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ommon Data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334800" y="3475080"/>
            <a:ext cx="2981880" cy="1886400"/>
            <a:chOff x="334800" y="3475080"/>
            <a:chExt cx="2981880" cy="1886400"/>
          </a:xfrm>
        </p:grpSpPr>
        <p:grpSp>
          <p:nvGrpSpPr>
            <p:cNvPr id="1507" name=""/>
            <p:cNvGrpSpPr/>
            <p:nvPr/>
          </p:nvGrpSpPr>
          <p:grpSpPr>
            <a:xfrm>
              <a:off x="334800" y="3475080"/>
              <a:ext cx="2981880" cy="1886400"/>
              <a:chOff x="334800" y="3475080"/>
              <a:chExt cx="2981880" cy="1886400"/>
            </a:xfrm>
          </p:grpSpPr>
          <p:sp>
            <p:nvSpPr>
              <p:cNvPr id="1508" name=""/>
              <p:cNvSpPr/>
              <p:nvPr/>
            </p:nvSpPr>
            <p:spPr>
              <a:xfrm>
                <a:off x="334800" y="3475080"/>
                <a:ext cx="239868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1225" y="254"/>
                    </a:moveTo>
                    <a:lnTo>
                      <a:pt x="1214" y="225"/>
                    </a:lnTo>
                    <a:lnTo>
                      <a:pt x="1195" y="193"/>
                    </a:lnTo>
                    <a:lnTo>
                      <a:pt x="1166" y="170"/>
                    </a:lnTo>
                    <a:lnTo>
                      <a:pt x="1130" y="150"/>
                    </a:lnTo>
                    <a:lnTo>
                      <a:pt x="1100" y="140"/>
                    </a:lnTo>
                    <a:lnTo>
                      <a:pt x="1063" y="128"/>
                    </a:lnTo>
                    <a:lnTo>
                      <a:pt x="1006" y="124"/>
                    </a:lnTo>
                    <a:lnTo>
                      <a:pt x="952" y="128"/>
                    </a:lnTo>
                    <a:lnTo>
                      <a:pt x="901" y="141"/>
                    </a:lnTo>
                    <a:lnTo>
                      <a:pt x="864" y="156"/>
                    </a:lnTo>
                    <a:lnTo>
                      <a:pt x="842" y="107"/>
                    </a:lnTo>
                    <a:lnTo>
                      <a:pt x="813" y="69"/>
                    </a:lnTo>
                    <a:lnTo>
                      <a:pt x="775" y="39"/>
                    </a:lnTo>
                    <a:lnTo>
                      <a:pt x="724" y="17"/>
                    </a:lnTo>
                    <a:lnTo>
                      <a:pt x="662" y="1"/>
                    </a:lnTo>
                    <a:lnTo>
                      <a:pt x="602" y="0"/>
                    </a:lnTo>
                    <a:lnTo>
                      <a:pt x="547" y="9"/>
                    </a:lnTo>
                    <a:lnTo>
                      <a:pt x="485" y="27"/>
                    </a:lnTo>
                    <a:lnTo>
                      <a:pt x="439" y="61"/>
                    </a:lnTo>
                    <a:lnTo>
                      <a:pt x="406" y="94"/>
                    </a:lnTo>
                    <a:lnTo>
                      <a:pt x="384" y="125"/>
                    </a:lnTo>
                    <a:lnTo>
                      <a:pt x="380" y="166"/>
                    </a:lnTo>
                    <a:lnTo>
                      <a:pt x="337" y="153"/>
                    </a:lnTo>
                    <a:lnTo>
                      <a:pt x="287" y="157"/>
                    </a:lnTo>
                    <a:lnTo>
                      <a:pt x="245" y="170"/>
                    </a:lnTo>
                    <a:lnTo>
                      <a:pt x="209" y="199"/>
                    </a:lnTo>
                    <a:lnTo>
                      <a:pt x="183" y="236"/>
                    </a:lnTo>
                    <a:lnTo>
                      <a:pt x="173" y="278"/>
                    </a:lnTo>
                    <a:lnTo>
                      <a:pt x="174" y="308"/>
                    </a:lnTo>
                    <a:lnTo>
                      <a:pt x="150" y="306"/>
                    </a:lnTo>
                    <a:lnTo>
                      <a:pt x="119" y="313"/>
                    </a:lnTo>
                    <a:lnTo>
                      <a:pt x="89" y="327"/>
                    </a:lnTo>
                    <a:lnTo>
                      <a:pt x="65" y="343"/>
                    </a:lnTo>
                    <a:lnTo>
                      <a:pt x="49" y="357"/>
                    </a:lnTo>
                    <a:lnTo>
                      <a:pt x="35" y="376"/>
                    </a:lnTo>
                    <a:lnTo>
                      <a:pt x="19" y="399"/>
                    </a:lnTo>
                    <a:lnTo>
                      <a:pt x="10" y="428"/>
                    </a:lnTo>
                    <a:lnTo>
                      <a:pt x="9" y="450"/>
                    </a:lnTo>
                    <a:lnTo>
                      <a:pt x="13" y="473"/>
                    </a:lnTo>
                    <a:lnTo>
                      <a:pt x="23" y="502"/>
                    </a:lnTo>
                    <a:lnTo>
                      <a:pt x="10" y="532"/>
                    </a:lnTo>
                    <a:lnTo>
                      <a:pt x="4" y="558"/>
                    </a:lnTo>
                    <a:lnTo>
                      <a:pt x="1" y="588"/>
                    </a:lnTo>
                    <a:lnTo>
                      <a:pt x="9" y="624"/>
                    </a:lnTo>
                    <a:lnTo>
                      <a:pt x="14" y="646"/>
                    </a:lnTo>
                    <a:lnTo>
                      <a:pt x="30" y="672"/>
                    </a:lnTo>
                    <a:lnTo>
                      <a:pt x="9" y="708"/>
                    </a:lnTo>
                    <a:lnTo>
                      <a:pt x="1" y="731"/>
                    </a:lnTo>
                    <a:lnTo>
                      <a:pt x="0" y="765"/>
                    </a:lnTo>
                    <a:lnTo>
                      <a:pt x="4" y="799"/>
                    </a:lnTo>
                    <a:lnTo>
                      <a:pt x="17" y="836"/>
                    </a:lnTo>
                    <a:lnTo>
                      <a:pt x="35" y="862"/>
                    </a:lnTo>
                    <a:lnTo>
                      <a:pt x="60" y="886"/>
                    </a:lnTo>
                    <a:lnTo>
                      <a:pt x="104" y="911"/>
                    </a:lnTo>
                    <a:lnTo>
                      <a:pt x="150" y="920"/>
                    </a:lnTo>
                    <a:lnTo>
                      <a:pt x="191" y="912"/>
                    </a:lnTo>
                    <a:lnTo>
                      <a:pt x="219" y="899"/>
                    </a:lnTo>
                    <a:lnTo>
                      <a:pt x="238" y="925"/>
                    </a:lnTo>
                    <a:lnTo>
                      <a:pt x="258" y="946"/>
                    </a:lnTo>
                    <a:lnTo>
                      <a:pt x="275" y="959"/>
                    </a:lnTo>
                    <a:lnTo>
                      <a:pt x="308" y="976"/>
                    </a:lnTo>
                    <a:lnTo>
                      <a:pt x="337" y="987"/>
                    </a:lnTo>
                    <a:lnTo>
                      <a:pt x="380" y="996"/>
                    </a:lnTo>
                    <a:lnTo>
                      <a:pt x="422" y="995"/>
                    </a:lnTo>
                    <a:lnTo>
                      <a:pt x="464" y="983"/>
                    </a:lnTo>
                    <a:lnTo>
                      <a:pt x="501" y="963"/>
                    </a:lnTo>
                    <a:lnTo>
                      <a:pt x="523" y="997"/>
                    </a:lnTo>
                    <a:lnTo>
                      <a:pt x="543" y="1018"/>
                    </a:lnTo>
                    <a:lnTo>
                      <a:pt x="569" y="1035"/>
                    </a:lnTo>
                    <a:lnTo>
                      <a:pt x="599" y="1049"/>
                    </a:lnTo>
                    <a:lnTo>
                      <a:pt x="633" y="1055"/>
                    </a:lnTo>
                    <a:lnTo>
                      <a:pt x="665" y="1055"/>
                    </a:lnTo>
                    <a:lnTo>
                      <a:pt x="695" y="1049"/>
                    </a:lnTo>
                    <a:lnTo>
                      <a:pt x="733" y="1031"/>
                    </a:lnTo>
                    <a:lnTo>
                      <a:pt x="754" y="1013"/>
                    </a:lnTo>
                    <a:lnTo>
                      <a:pt x="775" y="1035"/>
                    </a:lnTo>
                    <a:lnTo>
                      <a:pt x="796" y="1049"/>
                    </a:lnTo>
                    <a:lnTo>
                      <a:pt x="822" y="1061"/>
                    </a:lnTo>
                    <a:lnTo>
                      <a:pt x="860" y="1071"/>
                    </a:lnTo>
                    <a:lnTo>
                      <a:pt x="898" y="1068"/>
                    </a:lnTo>
                    <a:lnTo>
                      <a:pt x="939" y="1058"/>
                    </a:lnTo>
                    <a:lnTo>
                      <a:pt x="969" y="1041"/>
                    </a:lnTo>
                    <a:lnTo>
                      <a:pt x="998" y="1012"/>
                    </a:lnTo>
                    <a:lnTo>
                      <a:pt x="1015" y="983"/>
                    </a:lnTo>
                    <a:lnTo>
                      <a:pt x="1045" y="993"/>
                    </a:lnTo>
                    <a:lnTo>
                      <a:pt x="1080" y="1000"/>
                    </a:lnTo>
                    <a:lnTo>
                      <a:pt x="1122" y="997"/>
                    </a:lnTo>
                    <a:lnTo>
                      <a:pt x="1158" y="985"/>
                    </a:lnTo>
                    <a:lnTo>
                      <a:pt x="1185" y="966"/>
                    </a:lnTo>
                    <a:lnTo>
                      <a:pt x="1208" y="946"/>
                    </a:lnTo>
                    <a:lnTo>
                      <a:pt x="1227" y="917"/>
                    </a:lnTo>
                    <a:lnTo>
                      <a:pt x="1231" y="886"/>
                    </a:lnTo>
                    <a:lnTo>
                      <a:pt x="1251" y="894"/>
                    </a:lnTo>
                    <a:lnTo>
                      <a:pt x="1284" y="895"/>
                    </a:lnTo>
                    <a:lnTo>
                      <a:pt x="1322" y="886"/>
                    </a:lnTo>
                    <a:lnTo>
                      <a:pt x="1359" y="866"/>
                    </a:lnTo>
                    <a:lnTo>
                      <a:pt x="1385" y="839"/>
                    </a:lnTo>
                    <a:lnTo>
                      <a:pt x="1407" y="803"/>
                    </a:lnTo>
                    <a:lnTo>
                      <a:pt x="1420" y="765"/>
                    </a:lnTo>
                    <a:lnTo>
                      <a:pt x="1424" y="714"/>
                    </a:lnTo>
                    <a:lnTo>
                      <a:pt x="1422" y="679"/>
                    </a:lnTo>
                    <a:lnTo>
                      <a:pt x="1411" y="628"/>
                    </a:lnTo>
                    <a:lnTo>
                      <a:pt x="1437" y="600"/>
                    </a:lnTo>
                    <a:lnTo>
                      <a:pt x="1450" y="562"/>
                    </a:lnTo>
                    <a:lnTo>
                      <a:pt x="1457" y="522"/>
                    </a:lnTo>
                    <a:lnTo>
                      <a:pt x="1457" y="480"/>
                    </a:lnTo>
                    <a:lnTo>
                      <a:pt x="1448" y="435"/>
                    </a:lnTo>
                    <a:lnTo>
                      <a:pt x="1431" y="402"/>
                    </a:lnTo>
                    <a:lnTo>
                      <a:pt x="1402" y="366"/>
                    </a:lnTo>
                    <a:lnTo>
                      <a:pt x="1372" y="339"/>
                    </a:lnTo>
                    <a:lnTo>
                      <a:pt x="1336" y="313"/>
                    </a:lnTo>
                    <a:lnTo>
                      <a:pt x="1290" y="295"/>
                    </a:lnTo>
                    <a:lnTo>
                      <a:pt x="1247" y="285"/>
                    </a:lnTo>
                    <a:lnTo>
                      <a:pt x="1227" y="281"/>
                    </a:lnTo>
                    <a:lnTo>
                      <a:pt x="1225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2680560" y="4815720"/>
                <a:ext cx="636120" cy="545760"/>
                <a:chOff x="2680560" y="4815720"/>
                <a:chExt cx="636120" cy="5457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2680560" y="4815720"/>
                  <a:ext cx="244800" cy="347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991240" y="5052240"/>
                  <a:ext cx="159480" cy="266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3191760" y="5210640"/>
                  <a:ext cx="124920" cy="15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520" rIns="65520" tIns="26280" bIns="2628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3" name=""/>
            <p:cNvSpPr/>
            <p:nvPr/>
          </p:nvSpPr>
          <p:spPr>
            <a:xfrm>
              <a:off x="883800" y="37267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with more than thre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children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649440" y="1792440"/>
            <a:ext cx="1504800" cy="958680"/>
          </a:xfrm>
          <a:prstGeom prst="rect">
            <a:avLst/>
          </a:prstGeom>
          <a:ln w="0">
            <a:noFill/>
          </a:ln>
        </p:spPr>
      </p:pic>
      <p:grpSp>
        <p:nvGrpSpPr>
          <p:cNvPr id="1515" name=""/>
          <p:cNvGrpSpPr/>
          <p:nvPr/>
        </p:nvGrpSpPr>
        <p:grpSpPr>
          <a:xfrm>
            <a:off x="6627960" y="4287960"/>
            <a:ext cx="729360" cy="1293120"/>
            <a:chOff x="6627960" y="4287960"/>
            <a:chExt cx="729360" cy="1293120"/>
          </a:xfrm>
        </p:grpSpPr>
        <p:grpSp>
          <p:nvGrpSpPr>
            <p:cNvPr id="1516" name=""/>
            <p:cNvGrpSpPr/>
            <p:nvPr/>
          </p:nvGrpSpPr>
          <p:grpSpPr>
            <a:xfrm>
              <a:off x="6627960" y="4287960"/>
              <a:ext cx="729360" cy="1293120"/>
              <a:chOff x="6627960" y="4287960"/>
              <a:chExt cx="729360" cy="1293120"/>
            </a:xfrm>
          </p:grpSpPr>
          <p:sp>
            <p:nvSpPr>
              <p:cNvPr id="1517" name=""/>
              <p:cNvSpPr/>
              <p:nvPr/>
            </p:nvSpPr>
            <p:spPr>
              <a:xfrm>
                <a:off x="6905520" y="428796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652440" y="4514760"/>
                <a:ext cx="622800" cy="50040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378" y="90"/>
                    </a:moveTo>
                    <a:lnTo>
                      <a:pt x="378" y="258"/>
                    </a:lnTo>
                    <a:lnTo>
                      <a:pt x="345" y="303"/>
                    </a:lnTo>
                    <a:lnTo>
                      <a:pt x="324" y="303"/>
                    </a:lnTo>
                    <a:lnTo>
                      <a:pt x="324" y="140"/>
                    </a:lnTo>
                    <a:lnTo>
                      <a:pt x="312" y="133"/>
                    </a:lnTo>
                    <a:lnTo>
                      <a:pt x="312" y="182"/>
                    </a:lnTo>
                    <a:lnTo>
                      <a:pt x="79" y="182"/>
                    </a:lnTo>
                    <a:lnTo>
                      <a:pt x="0" y="152"/>
                    </a:lnTo>
                    <a:lnTo>
                      <a:pt x="0" y="128"/>
                    </a:lnTo>
                    <a:lnTo>
                      <a:pt x="159" y="128"/>
                    </a:lnTo>
                    <a:lnTo>
                      <a:pt x="159" y="65"/>
                    </a:lnTo>
                    <a:lnTo>
                      <a:pt x="159" y="58"/>
                    </a:lnTo>
                    <a:lnTo>
                      <a:pt x="161" y="52"/>
                    </a:lnTo>
                    <a:lnTo>
                      <a:pt x="163" y="47"/>
                    </a:lnTo>
                    <a:lnTo>
                      <a:pt x="165" y="41"/>
                    </a:lnTo>
                    <a:lnTo>
                      <a:pt x="168" y="37"/>
                    </a:lnTo>
                    <a:lnTo>
                      <a:pt x="170" y="32"/>
                    </a:lnTo>
                    <a:lnTo>
                      <a:pt x="173" y="29"/>
                    </a:lnTo>
                    <a:lnTo>
                      <a:pt x="179" y="23"/>
                    </a:lnTo>
                    <a:lnTo>
                      <a:pt x="184" y="19"/>
                    </a:lnTo>
                    <a:lnTo>
                      <a:pt x="190" y="14"/>
                    </a:lnTo>
                    <a:lnTo>
                      <a:pt x="195" y="10"/>
                    </a:lnTo>
                    <a:lnTo>
                      <a:pt x="201" y="8"/>
                    </a:lnTo>
                    <a:lnTo>
                      <a:pt x="208" y="5"/>
                    </a:lnTo>
                    <a:lnTo>
                      <a:pt x="215" y="3"/>
                    </a:lnTo>
                    <a:lnTo>
                      <a:pt x="223" y="1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1"/>
                    </a:lnTo>
                    <a:lnTo>
                      <a:pt x="255" y="3"/>
                    </a:lnTo>
                    <a:lnTo>
                      <a:pt x="263" y="5"/>
                    </a:lnTo>
                    <a:lnTo>
                      <a:pt x="270" y="8"/>
                    </a:lnTo>
                    <a:lnTo>
                      <a:pt x="277" y="11"/>
                    </a:lnTo>
                    <a:lnTo>
                      <a:pt x="281" y="14"/>
                    </a:lnTo>
                    <a:lnTo>
                      <a:pt x="378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27960" y="4853880"/>
                <a:ext cx="729360" cy="72720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328" y="0"/>
                    </a:moveTo>
                    <a:lnTo>
                      <a:pt x="174" y="0"/>
                    </a:lnTo>
                    <a:lnTo>
                      <a:pt x="174" y="62"/>
                    </a:lnTo>
                    <a:lnTo>
                      <a:pt x="77" y="393"/>
                    </a:lnTo>
                    <a:lnTo>
                      <a:pt x="0" y="411"/>
                    </a:lnTo>
                    <a:lnTo>
                      <a:pt x="0" y="441"/>
                    </a:lnTo>
                    <a:lnTo>
                      <a:pt x="126" y="441"/>
                    </a:lnTo>
                    <a:lnTo>
                      <a:pt x="243" y="102"/>
                    </a:lnTo>
                    <a:lnTo>
                      <a:pt x="225" y="91"/>
                    </a:lnTo>
                    <a:lnTo>
                      <a:pt x="229" y="82"/>
                    </a:lnTo>
                    <a:lnTo>
                      <a:pt x="249" y="95"/>
                    </a:lnTo>
                    <a:lnTo>
                      <a:pt x="249" y="210"/>
                    </a:lnTo>
                    <a:lnTo>
                      <a:pt x="359" y="375"/>
                    </a:lnTo>
                    <a:lnTo>
                      <a:pt x="324" y="439"/>
                    </a:lnTo>
                    <a:lnTo>
                      <a:pt x="360" y="439"/>
                    </a:lnTo>
                    <a:lnTo>
                      <a:pt x="443" y="362"/>
                    </a:lnTo>
                    <a:lnTo>
                      <a:pt x="328" y="190"/>
                    </a:lnTo>
                    <a:lnTo>
                      <a:pt x="3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6918840" y="454284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137040" y="5354640"/>
            <a:ext cx="729360" cy="1291680"/>
            <a:chOff x="3137040" y="5354640"/>
            <a:chExt cx="729360" cy="1291680"/>
          </a:xfrm>
        </p:grpSpPr>
        <p:grpSp>
          <p:nvGrpSpPr>
            <p:cNvPr id="1522" name=""/>
            <p:cNvGrpSpPr/>
            <p:nvPr/>
          </p:nvGrpSpPr>
          <p:grpSpPr>
            <a:xfrm>
              <a:off x="3137040" y="5354640"/>
              <a:ext cx="729360" cy="1291680"/>
              <a:chOff x="3137040" y="5354640"/>
              <a:chExt cx="729360" cy="1291680"/>
            </a:xfrm>
          </p:grpSpPr>
          <p:sp>
            <p:nvSpPr>
              <p:cNvPr id="1523" name=""/>
              <p:cNvSpPr/>
              <p:nvPr/>
            </p:nvSpPr>
            <p:spPr>
              <a:xfrm>
                <a:off x="3399840" y="5354640"/>
                <a:ext cx="187200" cy="18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219120" y="5581440"/>
                <a:ext cx="622440" cy="499320"/>
              </a:xfrm>
              <a:custGeom>
                <a:avLst/>
                <a:gdLst/>
                <a:ahLst/>
                <a:rect l="l" t="t" r="r" b="b"/>
                <a:pathLst>
                  <a:path w="379" h="304">
                    <a:moveTo>
                      <a:pt x="0" y="90"/>
                    </a:moveTo>
                    <a:lnTo>
                      <a:pt x="0" y="258"/>
                    </a:lnTo>
                    <a:lnTo>
                      <a:pt x="33" y="303"/>
                    </a:lnTo>
                    <a:lnTo>
                      <a:pt x="54" y="303"/>
                    </a:lnTo>
                    <a:lnTo>
                      <a:pt x="54" y="140"/>
                    </a:lnTo>
                    <a:lnTo>
                      <a:pt x="66" y="133"/>
                    </a:lnTo>
                    <a:lnTo>
                      <a:pt x="66" y="182"/>
                    </a:lnTo>
                    <a:lnTo>
                      <a:pt x="299" y="182"/>
                    </a:lnTo>
                    <a:lnTo>
                      <a:pt x="378" y="152"/>
                    </a:lnTo>
                    <a:lnTo>
                      <a:pt x="378" y="128"/>
                    </a:lnTo>
                    <a:lnTo>
                      <a:pt x="219" y="128"/>
                    </a:lnTo>
                    <a:lnTo>
                      <a:pt x="219" y="65"/>
                    </a:lnTo>
                    <a:lnTo>
                      <a:pt x="219" y="58"/>
                    </a:lnTo>
                    <a:lnTo>
                      <a:pt x="217" y="52"/>
                    </a:lnTo>
                    <a:lnTo>
                      <a:pt x="215" y="47"/>
                    </a:lnTo>
                    <a:lnTo>
                      <a:pt x="213" y="41"/>
                    </a:lnTo>
                    <a:lnTo>
                      <a:pt x="210" y="37"/>
                    </a:lnTo>
                    <a:lnTo>
                      <a:pt x="208" y="32"/>
                    </a:lnTo>
                    <a:lnTo>
                      <a:pt x="205" y="29"/>
                    </a:lnTo>
                    <a:lnTo>
                      <a:pt x="199" y="23"/>
                    </a:lnTo>
                    <a:lnTo>
                      <a:pt x="194" y="19"/>
                    </a:lnTo>
                    <a:lnTo>
                      <a:pt x="188" y="14"/>
                    </a:lnTo>
                    <a:lnTo>
                      <a:pt x="183" y="10"/>
                    </a:lnTo>
                    <a:lnTo>
                      <a:pt x="177" y="8"/>
                    </a:lnTo>
                    <a:lnTo>
                      <a:pt x="170" y="5"/>
                    </a:lnTo>
                    <a:lnTo>
                      <a:pt x="163" y="3"/>
                    </a:lnTo>
                    <a:lnTo>
                      <a:pt x="155" y="1"/>
                    </a:lnTo>
                    <a:lnTo>
                      <a:pt x="147" y="0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23" y="3"/>
                    </a:lnTo>
                    <a:lnTo>
                      <a:pt x="115" y="5"/>
                    </a:lnTo>
                    <a:lnTo>
                      <a:pt x="108" y="8"/>
                    </a:lnTo>
                    <a:lnTo>
                      <a:pt x="101" y="11"/>
                    </a:lnTo>
                    <a:lnTo>
                      <a:pt x="97" y="14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37040" y="5919840"/>
                <a:ext cx="729360" cy="726480"/>
              </a:xfrm>
              <a:custGeom>
                <a:avLst/>
                <a:gdLst/>
                <a:ahLst/>
                <a:rect l="l" t="t" r="r" b="b"/>
                <a:pathLst>
                  <a:path w="444" h="442">
                    <a:moveTo>
                      <a:pt x="115" y="0"/>
                    </a:moveTo>
                    <a:lnTo>
                      <a:pt x="269" y="0"/>
                    </a:lnTo>
                    <a:lnTo>
                      <a:pt x="269" y="62"/>
                    </a:lnTo>
                    <a:lnTo>
                      <a:pt x="366" y="393"/>
                    </a:lnTo>
                    <a:lnTo>
                      <a:pt x="443" y="411"/>
                    </a:lnTo>
                    <a:lnTo>
                      <a:pt x="443" y="441"/>
                    </a:lnTo>
                    <a:lnTo>
                      <a:pt x="317" y="441"/>
                    </a:lnTo>
                    <a:lnTo>
                      <a:pt x="200" y="102"/>
                    </a:lnTo>
                    <a:lnTo>
                      <a:pt x="218" y="91"/>
                    </a:lnTo>
                    <a:lnTo>
                      <a:pt x="214" y="82"/>
                    </a:lnTo>
                    <a:lnTo>
                      <a:pt x="194" y="95"/>
                    </a:lnTo>
                    <a:lnTo>
                      <a:pt x="194" y="210"/>
                    </a:lnTo>
                    <a:lnTo>
                      <a:pt x="84" y="375"/>
                    </a:lnTo>
                    <a:lnTo>
                      <a:pt x="119" y="439"/>
                    </a:lnTo>
                    <a:lnTo>
                      <a:pt x="83" y="439"/>
                    </a:lnTo>
                    <a:lnTo>
                      <a:pt x="0" y="362"/>
                    </a:lnTo>
                    <a:lnTo>
                      <a:pt x="115" y="190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3327480" y="5602680"/>
              <a:ext cx="26676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450360" y="2778120"/>
            <a:ext cx="10994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ff0000"/>
                </a:solidFill>
                <a:latin typeface="Century Schoolbook"/>
              </a:rPr>
              <a:t>T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6573960" y="1914480"/>
            <a:ext cx="2399400" cy="2291760"/>
            <a:chOff x="6573960" y="1914480"/>
            <a:chExt cx="2399400" cy="2291760"/>
          </a:xfrm>
        </p:grpSpPr>
        <p:grpSp>
          <p:nvGrpSpPr>
            <p:cNvPr id="1529" name=""/>
            <p:cNvGrpSpPr/>
            <p:nvPr/>
          </p:nvGrpSpPr>
          <p:grpSpPr>
            <a:xfrm>
              <a:off x="6573960" y="1914480"/>
              <a:ext cx="2399400" cy="2291760"/>
              <a:chOff x="6573960" y="1914480"/>
              <a:chExt cx="2399400" cy="2291760"/>
            </a:xfrm>
          </p:grpSpPr>
          <p:sp>
            <p:nvSpPr>
              <p:cNvPr id="1530" name=""/>
              <p:cNvSpPr/>
              <p:nvPr/>
            </p:nvSpPr>
            <p:spPr>
              <a:xfrm>
                <a:off x="6576840" y="1914480"/>
                <a:ext cx="2396520" cy="1763640"/>
              </a:xfrm>
              <a:custGeom>
                <a:avLst/>
                <a:gdLst/>
                <a:ahLst/>
                <a:rect l="l" t="t" r="r" b="b"/>
                <a:pathLst>
                  <a:path w="1458" h="1072">
                    <a:moveTo>
                      <a:pt x="232" y="254"/>
                    </a:moveTo>
                    <a:lnTo>
                      <a:pt x="243" y="225"/>
                    </a:lnTo>
                    <a:lnTo>
                      <a:pt x="262" y="193"/>
                    </a:lnTo>
                    <a:lnTo>
                      <a:pt x="291" y="170"/>
                    </a:lnTo>
                    <a:lnTo>
                      <a:pt x="327" y="150"/>
                    </a:lnTo>
                    <a:lnTo>
                      <a:pt x="357" y="140"/>
                    </a:lnTo>
                    <a:lnTo>
                      <a:pt x="394" y="128"/>
                    </a:lnTo>
                    <a:lnTo>
                      <a:pt x="451" y="124"/>
                    </a:lnTo>
                    <a:lnTo>
                      <a:pt x="505" y="128"/>
                    </a:lnTo>
                    <a:lnTo>
                      <a:pt x="556" y="141"/>
                    </a:lnTo>
                    <a:lnTo>
                      <a:pt x="593" y="156"/>
                    </a:lnTo>
                    <a:lnTo>
                      <a:pt x="615" y="107"/>
                    </a:lnTo>
                    <a:lnTo>
                      <a:pt x="644" y="69"/>
                    </a:lnTo>
                    <a:lnTo>
                      <a:pt x="682" y="39"/>
                    </a:lnTo>
                    <a:lnTo>
                      <a:pt x="733" y="17"/>
                    </a:lnTo>
                    <a:lnTo>
                      <a:pt x="795" y="1"/>
                    </a:lnTo>
                    <a:lnTo>
                      <a:pt x="855" y="0"/>
                    </a:lnTo>
                    <a:lnTo>
                      <a:pt x="910" y="9"/>
                    </a:lnTo>
                    <a:lnTo>
                      <a:pt x="972" y="27"/>
                    </a:lnTo>
                    <a:lnTo>
                      <a:pt x="1018" y="61"/>
                    </a:lnTo>
                    <a:lnTo>
                      <a:pt x="1051" y="94"/>
                    </a:lnTo>
                    <a:lnTo>
                      <a:pt x="1073" y="125"/>
                    </a:lnTo>
                    <a:lnTo>
                      <a:pt x="1077" y="166"/>
                    </a:lnTo>
                    <a:lnTo>
                      <a:pt x="1120" y="153"/>
                    </a:lnTo>
                    <a:lnTo>
                      <a:pt x="1170" y="157"/>
                    </a:lnTo>
                    <a:lnTo>
                      <a:pt x="1212" y="170"/>
                    </a:lnTo>
                    <a:lnTo>
                      <a:pt x="1248" y="199"/>
                    </a:lnTo>
                    <a:lnTo>
                      <a:pt x="1274" y="236"/>
                    </a:lnTo>
                    <a:lnTo>
                      <a:pt x="1284" y="278"/>
                    </a:lnTo>
                    <a:lnTo>
                      <a:pt x="1283" y="308"/>
                    </a:lnTo>
                    <a:lnTo>
                      <a:pt x="1307" y="306"/>
                    </a:lnTo>
                    <a:lnTo>
                      <a:pt x="1338" y="313"/>
                    </a:lnTo>
                    <a:lnTo>
                      <a:pt x="1368" y="327"/>
                    </a:lnTo>
                    <a:lnTo>
                      <a:pt x="1392" y="343"/>
                    </a:lnTo>
                    <a:lnTo>
                      <a:pt x="1408" y="357"/>
                    </a:lnTo>
                    <a:lnTo>
                      <a:pt x="1422" y="376"/>
                    </a:lnTo>
                    <a:lnTo>
                      <a:pt x="1438" y="399"/>
                    </a:lnTo>
                    <a:lnTo>
                      <a:pt x="1447" y="428"/>
                    </a:lnTo>
                    <a:lnTo>
                      <a:pt x="1448" y="450"/>
                    </a:lnTo>
                    <a:lnTo>
                      <a:pt x="1444" y="473"/>
                    </a:lnTo>
                    <a:lnTo>
                      <a:pt x="1434" y="502"/>
                    </a:lnTo>
                    <a:lnTo>
                      <a:pt x="1447" y="532"/>
                    </a:lnTo>
                    <a:lnTo>
                      <a:pt x="1453" y="558"/>
                    </a:lnTo>
                    <a:lnTo>
                      <a:pt x="1456" y="588"/>
                    </a:lnTo>
                    <a:lnTo>
                      <a:pt x="1448" y="624"/>
                    </a:lnTo>
                    <a:lnTo>
                      <a:pt x="1443" y="646"/>
                    </a:lnTo>
                    <a:lnTo>
                      <a:pt x="1427" y="672"/>
                    </a:lnTo>
                    <a:lnTo>
                      <a:pt x="1448" y="708"/>
                    </a:lnTo>
                    <a:lnTo>
                      <a:pt x="1456" y="731"/>
                    </a:lnTo>
                    <a:lnTo>
                      <a:pt x="1457" y="765"/>
                    </a:lnTo>
                    <a:lnTo>
                      <a:pt x="1453" y="799"/>
                    </a:lnTo>
                    <a:lnTo>
                      <a:pt x="1440" y="836"/>
                    </a:lnTo>
                    <a:lnTo>
                      <a:pt x="1422" y="862"/>
                    </a:lnTo>
                    <a:lnTo>
                      <a:pt x="1397" y="886"/>
                    </a:lnTo>
                    <a:lnTo>
                      <a:pt x="1353" y="911"/>
                    </a:lnTo>
                    <a:lnTo>
                      <a:pt x="1307" y="920"/>
                    </a:lnTo>
                    <a:lnTo>
                      <a:pt x="1266" y="912"/>
                    </a:lnTo>
                    <a:lnTo>
                      <a:pt x="1238" y="899"/>
                    </a:lnTo>
                    <a:lnTo>
                      <a:pt x="1219" y="925"/>
                    </a:lnTo>
                    <a:lnTo>
                      <a:pt x="1199" y="946"/>
                    </a:lnTo>
                    <a:lnTo>
                      <a:pt x="1182" y="959"/>
                    </a:lnTo>
                    <a:lnTo>
                      <a:pt x="1149" y="976"/>
                    </a:lnTo>
                    <a:lnTo>
                      <a:pt x="1120" y="987"/>
                    </a:lnTo>
                    <a:lnTo>
                      <a:pt x="1077" y="996"/>
                    </a:lnTo>
                    <a:lnTo>
                      <a:pt x="1035" y="995"/>
                    </a:lnTo>
                    <a:lnTo>
                      <a:pt x="993" y="983"/>
                    </a:lnTo>
                    <a:lnTo>
                      <a:pt x="956" y="963"/>
                    </a:lnTo>
                    <a:lnTo>
                      <a:pt x="934" y="997"/>
                    </a:lnTo>
                    <a:lnTo>
                      <a:pt x="914" y="1018"/>
                    </a:lnTo>
                    <a:lnTo>
                      <a:pt x="888" y="1035"/>
                    </a:lnTo>
                    <a:lnTo>
                      <a:pt x="858" y="1049"/>
                    </a:lnTo>
                    <a:lnTo>
                      <a:pt x="824" y="1055"/>
                    </a:lnTo>
                    <a:lnTo>
                      <a:pt x="792" y="1055"/>
                    </a:lnTo>
                    <a:lnTo>
                      <a:pt x="762" y="1049"/>
                    </a:lnTo>
                    <a:lnTo>
                      <a:pt x="724" y="1031"/>
                    </a:lnTo>
                    <a:lnTo>
                      <a:pt x="703" y="1013"/>
                    </a:lnTo>
                    <a:lnTo>
                      <a:pt x="682" y="1035"/>
                    </a:lnTo>
                    <a:lnTo>
                      <a:pt x="661" y="1049"/>
                    </a:lnTo>
                    <a:lnTo>
                      <a:pt x="635" y="1061"/>
                    </a:lnTo>
                    <a:lnTo>
                      <a:pt x="597" y="1071"/>
                    </a:lnTo>
                    <a:lnTo>
                      <a:pt x="559" y="1068"/>
                    </a:lnTo>
                    <a:lnTo>
                      <a:pt x="518" y="1058"/>
                    </a:lnTo>
                    <a:lnTo>
                      <a:pt x="488" y="1041"/>
                    </a:lnTo>
                    <a:lnTo>
                      <a:pt x="459" y="1012"/>
                    </a:lnTo>
                    <a:lnTo>
                      <a:pt x="442" y="983"/>
                    </a:lnTo>
                    <a:lnTo>
                      <a:pt x="412" y="993"/>
                    </a:lnTo>
                    <a:lnTo>
                      <a:pt x="377" y="1000"/>
                    </a:lnTo>
                    <a:lnTo>
                      <a:pt x="335" y="997"/>
                    </a:lnTo>
                    <a:lnTo>
                      <a:pt x="299" y="985"/>
                    </a:lnTo>
                    <a:lnTo>
                      <a:pt x="272" y="966"/>
                    </a:lnTo>
                    <a:lnTo>
                      <a:pt x="249" y="946"/>
                    </a:lnTo>
                    <a:lnTo>
                      <a:pt x="230" y="917"/>
                    </a:lnTo>
                    <a:lnTo>
                      <a:pt x="226" y="886"/>
                    </a:lnTo>
                    <a:lnTo>
                      <a:pt x="206" y="894"/>
                    </a:lnTo>
                    <a:lnTo>
                      <a:pt x="173" y="895"/>
                    </a:lnTo>
                    <a:lnTo>
                      <a:pt x="135" y="886"/>
                    </a:lnTo>
                    <a:lnTo>
                      <a:pt x="98" y="866"/>
                    </a:lnTo>
                    <a:lnTo>
                      <a:pt x="72" y="839"/>
                    </a:lnTo>
                    <a:lnTo>
                      <a:pt x="50" y="803"/>
                    </a:lnTo>
                    <a:lnTo>
                      <a:pt x="37" y="765"/>
                    </a:lnTo>
                    <a:lnTo>
                      <a:pt x="33" y="714"/>
                    </a:lnTo>
                    <a:lnTo>
                      <a:pt x="35" y="679"/>
                    </a:lnTo>
                    <a:lnTo>
                      <a:pt x="46" y="628"/>
                    </a:lnTo>
                    <a:lnTo>
                      <a:pt x="20" y="600"/>
                    </a:lnTo>
                    <a:lnTo>
                      <a:pt x="7" y="562"/>
                    </a:lnTo>
                    <a:lnTo>
                      <a:pt x="0" y="522"/>
                    </a:lnTo>
                    <a:lnTo>
                      <a:pt x="0" y="480"/>
                    </a:lnTo>
                    <a:lnTo>
                      <a:pt x="9" y="435"/>
                    </a:lnTo>
                    <a:lnTo>
                      <a:pt x="26" y="402"/>
                    </a:lnTo>
                    <a:lnTo>
                      <a:pt x="55" y="366"/>
                    </a:lnTo>
                    <a:lnTo>
                      <a:pt x="85" y="339"/>
                    </a:lnTo>
                    <a:lnTo>
                      <a:pt x="121" y="313"/>
                    </a:lnTo>
                    <a:lnTo>
                      <a:pt x="167" y="295"/>
                    </a:lnTo>
                    <a:lnTo>
                      <a:pt x="210" y="285"/>
                    </a:lnTo>
                    <a:lnTo>
                      <a:pt x="230" y="281"/>
                    </a:lnTo>
                    <a:lnTo>
                      <a:pt x="232" y="25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774480" y="3569400"/>
                <a:ext cx="346320" cy="244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16440" y="3880800"/>
                <a:ext cx="266400" cy="159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573960" y="4081320"/>
                <a:ext cx="150840" cy="12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26280" bIns="2628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7098120" y="2184120"/>
              <a:ext cx="168480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26280" bIns="26280" anchor="t">
              <a:spAutoFit/>
            </a:bodyPr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All female employe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making over $50,000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5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3440160" y="2908440"/>
            <a:ext cx="2476440" cy="19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E8E-9452-44E1-8291-F426ADA8F2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5667480" cy="721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63720" rIns="6372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049400" y="1736640"/>
            <a:ext cx="69055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25560" bIns="25560" anchor="t">
            <a:spAutoFit/>
          </a:bodyPr>
          <a:p>
            <a:pPr marL="228600" indent="-228600" rtl="1">
              <a:lnSpc>
                <a:spcPct val="91000"/>
              </a:lnSpc>
              <a:spcBef>
                <a:spcPts val="1687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discussion in which interested parties exchange information and come to an agreement.” — Davis and Smith, 197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23760" y="3208320"/>
            <a:ext cx="7143840" cy="2630160"/>
          </a:xfrm>
          <a:prstGeom prst="rect">
            <a:avLst/>
          </a:prstGeom>
          <a:noFill/>
          <a:ln w="0">
            <a:noFill/>
          </a:ln>
        </p:spPr>
        <p:txBody>
          <a:bodyPr lIns="63720" rIns="63720" tIns="25560" bIns="25560" anchor="t">
            <a:normAutofit fontScale="99000"/>
          </a:bodyPr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way exchange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rty evaluates information from its own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8000"/>
              </a:lnSpc>
              <a:spcBef>
                <a:spcPts val="1712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greement is reached by mutu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517-81A4-4448-8B4E-91EAEABDD5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ame Theory--Short Intro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ame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udy of decision making in multi-person situations where the outcome depends on everyone’s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Decision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theory of competitive equilibrium from economics the other participants actions are considered as an environmental  parameter. The effect of the of the decision-maker’s actions on the other participants is not taken into consid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D28-3812-4390-96BF-E8A49550E7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scribing a Ga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ssential element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layers, actions, information, strategies, payoffs, outcome, and equilib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ys to present social interactions as a ga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xtensive for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complete descrip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trategic for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ny details are omit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oalitional fo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ding agreements exi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477120" y="114480"/>
            <a:ext cx="2158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0FF-A470-4CD2-91D5-346698B6E9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 Agent is an Islan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onitoring electricity networks (Jenn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stributed design and engineering (Petrie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stributed meeting scheduling (Sen &amp; Dur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eams of robotic systems acting in hostile environments (Balch &amp; Arkin, Tam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llaborative Internet-agents (Etzioni &amp; Wel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s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llaborative interfaces (Grosz &amp; Ortiz, And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formation agent on the Internet (Klus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iv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duling (Fis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pporting hospital patient scheduling (Decker &amp; J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URSE2" descr=""/>
          <p:cNvPicPr/>
          <p:nvPr/>
        </p:nvPicPr>
        <p:blipFill>
          <a:blip r:embed="rId1"/>
          <a:stretch/>
        </p:blipFill>
        <p:spPr>
          <a:xfrm>
            <a:off x="533520" y="0"/>
            <a:ext cx="102528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760-01AB-4760-B0B6-2D63B1DE5C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1909800" y="487692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909800" y="335268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807732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9800" y="655308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94360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809880" y="2516040"/>
            <a:ext cx="0" cy="40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9907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90720" y="6858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of two players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105520" y="167652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920" y="440388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k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057400" y="388620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91120" y="251460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81080" y="54100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24382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962520" y="3262320"/>
            <a:ext cx="48006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43600" y="3186000"/>
            <a:ext cx="541008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172200" y="4786200"/>
            <a:ext cx="48006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09880" y="518148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09880" y="4862520"/>
            <a:ext cx="541044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CDD-2CB9-4B52-A21A-A3A7AF5D68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rofile is an order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1,…,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one action for each of the N players in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rofi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ash Equilibr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ash 53) of a strategic game, if each ag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does not have a different action yielding an outcome that it prefers to that generated when choo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j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at every other play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oo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B45-5052-4931-A74C-478FB8DE69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76320" y="4114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-76320" y="37339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219320" y="2514600"/>
            <a:ext cx="838080" cy="3505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228600" y="3093840"/>
            <a:ext cx="1376280" cy="10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243000" y="4309920"/>
            <a:ext cx="1484280" cy="1339200"/>
            <a:chOff x="243000" y="4309920"/>
            <a:chExt cx="1484280" cy="1339200"/>
          </a:xfrm>
        </p:grpSpPr>
        <p:sp>
          <p:nvSpPr>
            <p:cNvPr id="1571" name=""/>
            <p:cNvSpPr/>
            <p:nvPr/>
          </p:nvSpPr>
          <p:spPr>
            <a:xfrm rot="4800000">
              <a:off x="1480320" y="540216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3000" y="4309920"/>
              <a:ext cx="1263600" cy="11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380880" y="49528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" y="335268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219320" y="49528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219320" y="25146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1679400" y="2060640"/>
            <a:ext cx="90972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676520" y="2133720"/>
            <a:ext cx="7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flipV="1">
            <a:off x="1679400" y="5565240"/>
            <a:ext cx="757440" cy="9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600200" y="601992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438280" y="6324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828800" y="62485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14600" y="1905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16002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681200" y="5491080"/>
            <a:ext cx="205272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604880" y="548640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057400" y="54864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86000" y="50292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1828800" y="2666880"/>
            <a:ext cx="1370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754280" y="3049560"/>
            <a:ext cx="190332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733920" y="5334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657600" y="58672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99320" y="34290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88280" y="220968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497760" y="495288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504240" y="548640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963960" y="54864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11680" y="3962520"/>
            <a:ext cx="19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791320" y="38862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791320" y="54100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91120" y="51055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91120" y="35812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3268800" y="1844640"/>
            <a:ext cx="1162080" cy="8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3354480" y="2592000"/>
            <a:ext cx="12175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76720" y="182880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572000" y="24382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752480" y="18288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733920" y="22860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735360" y="2973240"/>
            <a:ext cx="83664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57600" y="26668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429000" y="3048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81280" y="228600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3811680" y="3201480"/>
            <a:ext cx="152244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267080" y="31240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257800" y="30481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715000" y="3505320"/>
            <a:ext cx="45720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486400" y="50292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486400" y="35053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21360" y="403848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21360" y="556272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21360" y="5564160"/>
            <a:ext cx="106524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021360" y="2973240"/>
            <a:ext cx="12938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086600" y="6248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315200" y="28195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51055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77120" y="35812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586728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248520" y="2971800"/>
            <a:ext cx="7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772400" y="53341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848720" y="38098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315200" y="609588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10040" y="3200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33720" y="243828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F3A-E48F-4D18-AF35-C73ACB9430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ic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737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llaborators: Jon Wilkenfeld, Rina Schwartz-Azoulay, Orna Shechter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sti Freitsis, Penina 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thcoming book “Strategic Negotiation in Multiagent Environments”, MIT P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CB6-4278-4FE2-8198-CE4C7F4A6A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I Overview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S                   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rategic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95680" y="259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3581280" y="3733920"/>
            <a:ext cx="10670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648320" y="3733920"/>
            <a:ext cx="12189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943600" y="4876920"/>
            <a:ext cx="76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304776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49568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3428640" y="487692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943600" y="4876920"/>
            <a:ext cx="25909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9D-AFD2-450E-A77C-77D5C4E29B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ic Negotiation 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f alternative offers (Rubinstein) which takes  negotiation time into consideration: reduces negotiatio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strategic-negotiations agents communicate their respective desires to reach mutually beneficial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provides a unified solution to man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7772400" y="390600"/>
          <a:ext cx="1370160" cy="28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90600"/>
                    <a:ext cx="13701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152-D143-4BDC-B11E-4956E0A47A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ucture of the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N self motivated agents, randomly designated 1,2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agents negotiate to reach an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gotiation process may include several equidistant iterations 0,1,2,…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 continue forever. In each ti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gent   j(t) =t mod  N makes an offer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9" name=""/>
          <p:cNvGraphicFramePr/>
          <p:nvPr/>
        </p:nvGraphicFramePr>
        <p:xfrm>
          <a:off x="8077320" y="4952880"/>
          <a:ext cx="7761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952880"/>
                    <a:ext cx="776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1" name=""/>
          <p:cNvGraphicFramePr/>
          <p:nvPr/>
        </p:nvGraphicFramePr>
        <p:xfrm>
          <a:off x="7954920" y="2666880"/>
          <a:ext cx="1111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4920" y="2666880"/>
                    <a:ext cx="1111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AB0-BA94-40F2-963F-1727E385C1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tructure of the Negotiation - cont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ther  agents respond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or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ll the ag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offer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t least one  ag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li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(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t least one  agent), the negotiation proceeds to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5" name=""/>
          <p:cNvGraphicFramePr/>
          <p:nvPr/>
        </p:nvGraphicFramePr>
        <p:xfrm>
          <a:off x="7740720" y="2133720"/>
          <a:ext cx="10080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2133720"/>
                    <a:ext cx="1008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7" name="BD05584_" descr=""/>
          <p:cNvPicPr/>
          <p:nvPr/>
        </p:nvPicPr>
        <p:blipFill>
          <a:blip r:embed="rId3"/>
          <a:stretch/>
        </p:blipFill>
        <p:spPr>
          <a:xfrm>
            <a:off x="7696080" y="3048120"/>
            <a:ext cx="11811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B09-2DBF-4121-B22F-ADB039622F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ing to an offer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quential response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agent responding to an offer is informed of the responses of the preceding agents (assuming that the agents are order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0" name="AMMISCOM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512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22A-3068-419E-8547-EA615FD05B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ervers (large databas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 sh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s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assisted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/management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hing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7C6-A2AA-478F-85EB-DB5C8DDF51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esign of automated agents to interact effectivel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rdin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ct upon one another in harmony (necess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pera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work together (benefic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iving in Tel-Aviv v.s. Driving in a convo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AR1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239920" cy="1209600"/>
          </a:xfrm>
          <a:prstGeom prst="rect">
            <a:avLst/>
          </a:prstGeom>
          <a:ln w="0">
            <a:noFill/>
          </a:ln>
        </p:spPr>
      </p:pic>
      <p:pic>
        <p:nvPicPr>
          <p:cNvPr id="96" name="CAR4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1523880" cy="412560"/>
          </a:xfrm>
          <a:prstGeom prst="rect">
            <a:avLst/>
          </a:prstGeom>
          <a:ln w="0">
            <a:noFill/>
          </a:ln>
        </p:spPr>
      </p:pic>
      <p:pic>
        <p:nvPicPr>
          <p:cNvPr id="97" name="CAR3" descr=""/>
          <p:cNvPicPr/>
          <p:nvPr/>
        </p:nvPicPr>
        <p:blipFill>
          <a:blip r:embed="rId3"/>
          <a:stretch/>
        </p:blipFill>
        <p:spPr>
          <a:xfrm>
            <a:off x="7543800" y="4648320"/>
            <a:ext cx="1143000" cy="444240"/>
          </a:xfrm>
          <a:prstGeom prst="rect">
            <a:avLst/>
          </a:prstGeom>
          <a:ln w="0">
            <a:noFill/>
          </a:ln>
        </p:spPr>
      </p:pic>
      <p:pic>
        <p:nvPicPr>
          <p:cNvPr id="98" name="SKATER" descr=""/>
          <p:cNvPicPr/>
          <p:nvPr/>
        </p:nvPicPr>
        <p:blipFill>
          <a:blip r:embed="rId4"/>
          <a:stretch/>
        </p:blipFill>
        <p:spPr>
          <a:xfrm>
            <a:off x="3449520" y="5562720"/>
            <a:ext cx="1122480" cy="1060200"/>
          </a:xfrm>
          <a:prstGeom prst="rect">
            <a:avLst/>
          </a:prstGeom>
          <a:ln w="0">
            <a:noFill/>
          </a:ln>
        </p:spPr>
      </p:pic>
      <p:pic>
        <p:nvPicPr>
          <p:cNvPr id="99" name="TAXI" descr=""/>
          <p:cNvPicPr/>
          <p:nvPr/>
        </p:nvPicPr>
        <p:blipFill>
          <a:blip r:embed="rId5"/>
          <a:stretch/>
        </p:blipFill>
        <p:spPr>
          <a:xfrm>
            <a:off x="0" y="5029200"/>
            <a:ext cx="3352680" cy="1335240"/>
          </a:xfrm>
          <a:prstGeom prst="rect">
            <a:avLst/>
          </a:prstGeom>
          <a:ln w="0">
            <a:noFill/>
          </a:ln>
        </p:spPr>
      </p:pic>
      <p:pic>
        <p:nvPicPr>
          <p:cNvPr id="100" name="STOP" descr=""/>
          <p:cNvPicPr/>
          <p:nvPr/>
        </p:nvPicPr>
        <p:blipFill>
          <a:blip r:embed="rId6"/>
          <a:stretch/>
        </p:blipFill>
        <p:spPr>
          <a:xfrm>
            <a:off x="5410080" y="5181480"/>
            <a:ext cx="822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050-37FD-439D-ACCD-D58C296EC3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Negotiation on data allocation in multi-server environment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or: Rina Azulay-Schwar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125-D1ED-46AE-BC51-A0DACCE098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information servers. Each server is located at a different geographical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receives queries from the clients in its area, and sends documents as responses to queries. These documents can be stored locally, or in another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340-2935-451F-A86F-7FD90D47BC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45360" y="2216160"/>
            <a:ext cx="368280" cy="368280"/>
          </a:xfrm>
          <a:prstGeom prst="ellipse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149480" y="2368440"/>
            <a:ext cx="368280" cy="368280"/>
          </a:xfrm>
          <a:prstGeom prst="ellipse">
            <a:avLst/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20440" y="2604960"/>
            <a:ext cx="122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(Hebrew)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765840" y="2514600"/>
            <a:ext cx="12225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(Hebrew)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92280" y="38926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682640" y="38163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54040" y="19875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63680" y="22924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58760" y="31305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702560" y="175896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2360" y="34354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9040" y="38926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540640" y="374004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523880" y="259092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9960" y="31989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a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927760" y="2208240"/>
            <a:ext cx="123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documen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2438280"/>
            <a:ext cx="137160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5943240" y="2514600"/>
            <a:ext cx="1143000" cy="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480" y="1758960"/>
            <a:ext cx="2806560" cy="32637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87840" y="478944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(Hebrew)"/>
              </a:rPr>
              <a:t>are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026040" y="1682640"/>
            <a:ext cx="2806920" cy="32641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994800" y="462456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(Hebrew)"/>
              </a:rPr>
              <a:t>area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6364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388360" y="2521080"/>
            <a:ext cx="139680" cy="139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flipV="1">
            <a:off x="1371600" y="2819520"/>
            <a:ext cx="380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432080" y="4014720"/>
            <a:ext cx="90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(Hebrew)"/>
              </a:rPr>
              <a:t>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 flipV="1">
            <a:off x="1294920" y="2971440"/>
            <a:ext cx="304920" cy="76212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523880" y="2971800"/>
            <a:ext cx="381240" cy="838080"/>
          </a:xfrm>
          <a:prstGeom prst="line">
            <a:avLst/>
          </a:prstGeom>
          <a:ln w="12600">
            <a:solidFill>
              <a:srgbClr val="9933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660680" y="3198960"/>
            <a:ext cx="157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the documen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737000" y="213192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  <a:ea typeface="Arial (Hebrew)"/>
              </a:rPr>
              <a:t>th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07E-9D1F-49B4-945E-1A55EDE607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ormation is clustered in datasets (corresponding to file, fragmen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ew dataset has to be allocated to one of the servers by mutual agreement among the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wants to store the datasets in a location which reduces its communication and storage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gotiation session is initiated when a set of new datasets arr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50A-AA3E-47F5-865C-55AE9DC601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on among servers with similar areas of interest (e.g., Web serv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and Information System component of the Earth Observing System (EOSDIS) of NAS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ributed knowledge system which supports archival and distribution of data at multiple and independent server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7924680" y="4295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FC6-0EDA-4D35-8F19-96522BD6F2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ta collection, or file, is called a dataset. The datasets are huge, so each dataset has only one c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policy for data allocation in NASA is static: old datasets are not reallocated; each new dataset is located by the server with the nearest topics (defined according to the topics of the datasets stored by this serv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E71-3866-48F0-A9FA-F569353592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ed Work -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le Alloc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al probl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istribute files among computers, in order to optimize the system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 probl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elf-motivated servers decide about distribution of files, when each server has its own ob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7391520" y="76320"/>
          <a:ext cx="158724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320"/>
                    <a:ext cx="15872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370-828F-4854-B916-F1B5F71003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Defini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the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SE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datasets (files) to be allo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pping of each dataset to one of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. The set of all possible allocation is denoted b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tility function of each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7086600" y="304920"/>
          <a:ext cx="1649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04920"/>
                    <a:ext cx="1649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A4B-DD99-4D15-B8A0-44188D42D0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Conflict Alloc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t least one serve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egotiation, then the conflict allocation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conflict_allo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conflict allocation to be the static allocation. (each dataset is stored in the server with closest topic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BB4-2887-4497-A0D2-73E52D87DC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tility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lloc,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cifies the uti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sist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tility from the assignment of each data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negotiation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lloc,0)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alloc(x)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e-IL" sz="16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973-E1BD-4017-BF6F-D70F74D962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eams and Individu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ams of 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need to coordinate joint activities; problems: distributed information, distributed decision solving, local conflicts (D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lf-motivated 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ing in the same environment; problems: need motivation to cooperate , conflict resolution, trust, distributed and hidden information (MA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GREE" descr=""/>
          <p:cNvPicPr/>
          <p:nvPr/>
        </p:nvPicPr>
        <p:blipFill>
          <a:blip r:embed="rId1"/>
          <a:stretch/>
        </p:blipFill>
        <p:spPr>
          <a:xfrm>
            <a:off x="228600" y="496800"/>
            <a:ext cx="160020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18C-6695-471B-A377-BDA82E949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ameters of  util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query price: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yment for retrieved doco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usage(ds,s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expected number of documents of datase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from clients in the area of serv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storage costs, retrieve costs, answer co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0ED-21D4-4CA7-9FC8-57BB8E3E04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over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communication and computation time of the negot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f unused information: new documents can not be used until the negotiation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s usage and storage cost are assumed to decrease over time, with the same discount ratio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(p-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re is a constant discount ratio of the utility from an allocation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alloc,t)=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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*U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alloc,0) - t*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7923240" y="152280"/>
            <a:ext cx="10666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95B-8286-44B4-A3B8-6455B22C71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prefers any agreement over continuation of the negotiation indefinitel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tility of each server from the conflict allocation is always greater or equal to 0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OFFERS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set of allocations that are preferred by all the agents over opting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F91-4898-443C-958F-7D04C02170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ash equilibriu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y pro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player has a different strategy yielding an outcome that he prefers to that generated when it choo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bgame Perfect Equilibriu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trategy profile induced in every subgame is a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is sub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7350120" y="0"/>
          <a:ext cx="16398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0120" y="0"/>
                    <a:ext cx="16398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B93-E72E-4188-91E9-BEA1E83CA8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gotiation Analysis -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ultaneous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rver, when responding,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heor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f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FF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subgame-perfect equilibrium of the bargaining game, with the out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ered and unanimously accepted in period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036-A2AF-4FDA-99D0-709133D0F3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osing the Allo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gners of the servers can agree in advance on a joint technique for choo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ing each server its conflict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ing a social welfare criter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server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generalized Nash product of the servers’ utilities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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Us(x)-Us(conflict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7075440" y="5410080"/>
          <a:ext cx="1444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5440" y="5410080"/>
                    <a:ext cx="1444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8BC-5385-4FB3-92E4-F26DE128FE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osing the Alloc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of finding an  optimal allocation is NP-complete (a reduction from the multiprocessors schedul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ind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tractable, we suggest the following protoc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will search for an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location which maximizes the predefined social welfare criterion will be chos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95C-8FF2-4CBE-826F-B115F99DA3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implemented the following 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tracking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the search space of the allocation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dom restart hill-climbing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with a random allocation and tries to improv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tic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by simulating an evolution process. Each individual represents an allocation. The algorithm involves: reproduction, crossover and mutation of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7790040" y="0"/>
          <a:ext cx="979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0040" y="0"/>
                    <a:ext cx="979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D5F-4DC0-4760-BA46-8281302FCF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al Evalu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parameters influence the results of the negot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cost(alloc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variable costs due to an allocation (excludes storage_cost and the gains due to queri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rati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using negotiation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static al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7743960" y="50472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F03-82A1-482E-A9E8-520B8A8D6A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ffect of Parameters on The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servers grow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reases (more complex computations) 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datasets grow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es (negotiation is more beneficial) 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the mean usage did not infl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ificantly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eases as the standard deviation of the usage increases</a:t>
            </a:r>
            <a:r>
              <a:rPr b="0" lang="en-US" sz="32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7924680" y="77760"/>
            <a:ext cx="1141560" cy="13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F5D-AA9C-4736-80E6-1C2400F73F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operation and Coordination by Oth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entities coordinate their actions and cooperate in multi-entities environments: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uma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nim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art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al theori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me-theory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heory, physics, log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n-formal theori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rganizational theories, political science theories, “advisory”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DOG1" descr=""/>
          <p:cNvPicPr/>
          <p:nvPr/>
        </p:nvPicPr>
        <p:blipFill>
          <a:blip r:embed="rId1"/>
          <a:stretch/>
        </p:blipFill>
        <p:spPr>
          <a:xfrm>
            <a:off x="5715000" y="5638680"/>
            <a:ext cx="1442880" cy="982800"/>
          </a:xfrm>
          <a:prstGeom prst="rect">
            <a:avLst/>
          </a:prstGeom>
          <a:ln w="0">
            <a:noFill/>
          </a:ln>
        </p:spPr>
      </p:pic>
      <p:pic>
        <p:nvPicPr>
          <p:cNvPr id="107" name="COMPUTR2" descr=""/>
          <p:cNvPicPr/>
          <p:nvPr/>
        </p:nvPicPr>
        <p:blipFill>
          <a:blip r:embed="rId2"/>
          <a:stretch/>
        </p:blipFill>
        <p:spPr>
          <a:xfrm>
            <a:off x="7791480" y="525780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108" name="AMSHAKE" descr=""/>
          <p:cNvPicPr/>
          <p:nvPr/>
        </p:nvPicPr>
        <p:blipFill>
          <a:blip r:embed="rId3"/>
          <a:stretch/>
        </p:blipFill>
        <p:spPr>
          <a:xfrm flipH="1" rot="10800000">
            <a:off x="7421400" y="3428640"/>
            <a:ext cx="1722600" cy="15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B2E-09D1-4EC2-9866-53A8114D1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fluence of Parameters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standard deviation of the distances between servers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</a:t>
            </a:r>
            <a:r>
              <a:rPr b="0" lang="en-US" sz="28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istance between servers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cost_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</a:t>
            </a:r>
            <a:r>
              <a:rPr b="0" lang="en-US" sz="28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domains tes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nswer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orage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trieve_cost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uery_price  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cost_ratio </a:t>
            </a:r>
            <a:r>
              <a:rPr b="0" lang="he-IL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6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484-6C50-46C0-9930-C0A9E092D8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cial Criter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tudied the effect of the choice of the social welfare criterion on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the following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of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the sum achieves lower vcost_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the product achieves lower dispersion of the agent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7C8-957B-4853-8813-251E5126C91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server know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sage frequency of all datasets, by clients from its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sage frequency of datasets stored in it, by all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7456320" y="4495680"/>
          <a:ext cx="143532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6320" y="4495680"/>
                    <a:ext cx="143532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86A-B21B-4540-9D19-4D3CEF769B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elation mechan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all the servers report simultaneously all their privat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dataset, the past usage of the dataset by th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erver, the past usage of each local dataset by th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the negotiation proceeds as in the complete information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2F5-A8EF-4196-80C4-0B13A8DA677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complete Information - cont.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Lemm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Nash equilibrium where each server tells the truth about its past usage of remote datasets, and the other servers usage of its local datase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s concerning details about local usage of local datasets are intrac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22B-EC8C-46AD-BEFB-5D6C8F9E32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ummary: negotiation on data allocation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considered the data allocation problem in a distribut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esented the utility function of the servers, which expresses their p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oposed using a negotiation protocol for solving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complete information situations, a revelation process was added to the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7921800" y="76320"/>
          <a:ext cx="12207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1800" y="76320"/>
                    <a:ext cx="1220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4FA-E35A-4388-B2B6-22A3345AE77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in the Pollution Sharing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or: Esti Freit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REFINERY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1319400" cy="1969920"/>
          </a:xfrm>
          <a:prstGeom prst="rect">
            <a:avLst/>
          </a:prstGeom>
          <a:ln w="0">
            <a:noFill/>
          </a:ln>
        </p:spPr>
      </p:pic>
      <p:pic>
        <p:nvPicPr>
          <p:cNvPr id="1774" name="LAKE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495E-66F6-4BF6-89BF-FC472E4C51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There are some closely grouped plants in an industrial reg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can produce several types of products and. has a utility function (profit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There are several types of polluta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has norms, restricting maximal emission of each pollutant that it emits. We refer to the situation when only these norms have to be carried out as </a:t>
            </a:r>
            <a:r>
              <a:rPr b="0" lang="en-US" sz="3000" spc="-1" strike="noStrike">
                <a:solidFill>
                  <a:srgbClr val="000000"/>
                </a:solidFill>
                <a:latin typeface="David"/>
                <a:ea typeface="David"/>
              </a:rPr>
              <a:t>usual circumstances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OIL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1752480" cy="12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177-A27E-4193-9EF4-30D31220368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David"/>
                <a:ea typeface="David"/>
              </a:rPr>
              <a:t>Special circumsta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Sometimes there is a need to </a:t>
            </a:r>
            <a:r>
              <a:rPr b="0" lang="en-US" sz="3600" spc="-1" strike="noStrike">
                <a:solidFill>
                  <a:srgbClr val="990066"/>
                </a:solidFill>
                <a:latin typeface="Times New Roman"/>
                <a:ea typeface="David"/>
              </a:rPr>
              <a:t>reduce pollution for some peri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because of external factors such as weather (high humidity, wind towards residenti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area). In this case plants receive new norms. We refer to this situation as </a:t>
            </a:r>
            <a:r>
              <a:rPr b="0" i="1" lang="en-US" sz="3600" spc="-1" strike="noStrike">
                <a:solidFill>
                  <a:srgbClr val="ff0000"/>
                </a:solidFill>
                <a:latin typeface="David"/>
                <a:ea typeface="David"/>
              </a:rPr>
              <a:t>special circumstan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0" name="ASSEMBLY" descr=""/>
          <p:cNvPicPr/>
          <p:nvPr/>
        </p:nvPicPr>
        <p:blipFill>
          <a:blip r:embed="rId1"/>
          <a:stretch/>
        </p:blipFill>
        <p:spPr>
          <a:xfrm>
            <a:off x="7391520" y="1246320"/>
            <a:ext cx="14698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135-0D18-4D59-B0C4-35505C02CE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urrent solu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Current solu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each plant reduce pollution according to the new no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Disadvantage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avid"/>
              </a:rPr>
              <a:t> for one plant  it is less costly to reduce one substance while for another it is less costly to reduce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3" name="REFINERY" descr=""/>
          <p:cNvPicPr/>
          <p:nvPr/>
        </p:nvPicPr>
        <p:blipFill>
          <a:blip r:embed="rId1"/>
          <a:stretch/>
        </p:blipFill>
        <p:spPr>
          <a:xfrm>
            <a:off x="7764480" y="4267080"/>
            <a:ext cx="137952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ED6-5818-48BB-91AF-17EBC0E8B6D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sing other disciplines’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o need to start from scratch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modification and adjustment; AI gives insights and complimentary 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s it worth it to use formal methods for multiagent Syst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WHATNOW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2841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22C-6CB3-4B86-933F-633DB1DE76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ucture of the Negoti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 self motivated agent, randomly designated 1,2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agents negotiate to reach an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gotiation process may include several equidistant iterations 0,1,2… </a:t>
            </a:r>
            <a:r>
              <a:rPr b="0" lang="he-IL" sz="2800" spc="-1" strike="noStrike">
                <a:solidFill>
                  <a:srgbClr val="000000"/>
                </a:solidFill>
                <a:latin typeface="Symbol"/>
                <a:cs typeface="Symbol"/>
              </a:rPr>
              <a:t>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an continue forever. In each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gent   j(t) =t mod  N makes an offe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8077320" y="4952880"/>
          <a:ext cx="7761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4952880"/>
                    <a:ext cx="776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8" name=""/>
          <p:cNvGraphicFramePr/>
          <p:nvPr/>
        </p:nvGraphicFramePr>
        <p:xfrm>
          <a:off x="7954920" y="2666880"/>
          <a:ext cx="1111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4920" y="2666880"/>
                    <a:ext cx="1111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70B-CF96-412F-A3EA-4372EEDF390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ructure of the Negotiation - cont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ther  agents respond simultaneously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ll the ag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offer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t least one  ag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s out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li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(the offer w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t least one  agent), the negotiation proceeds to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2" name=""/>
          <p:cNvGraphicFramePr/>
          <p:nvPr/>
        </p:nvGraphicFramePr>
        <p:xfrm>
          <a:off x="7740720" y="2133720"/>
          <a:ext cx="10080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2133720"/>
                    <a:ext cx="1008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E89-EFB2-4EDC-8772-33715E5F738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Protoco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 respon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ing to an offer is not informed of the other respo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quential response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agent responding to an offer is informed of the responses of the preceding agents (assuming that the agents are order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AMMISCOM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512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842-0C9B-40E3-94A8-861EF02B3B2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ash equilibriu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tegy pro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player has a different strategy yielding an outcome that he prefers to that generated when it choo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bgame Perfect Equilibriu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trategy profile induced in every subgame is a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Nash Equilibriu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sub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9" name=""/>
          <p:cNvGraphicFramePr/>
          <p:nvPr/>
        </p:nvGraphicFramePr>
        <p:xfrm>
          <a:off x="7350120" y="0"/>
          <a:ext cx="16398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0120" y="0"/>
                    <a:ext cx="16398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B55-06A3-472F-941D-88CBD58B441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strategies for simultaneous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possible agre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better to all the plants than the conflict 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subgame-perfect equilibrium of the bargaining game, with the outc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fered and unanimously accepted in period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AMBUSY" descr=""/>
          <p:cNvPicPr/>
          <p:nvPr/>
        </p:nvPicPr>
        <p:blipFill>
          <a:blip r:embed="rId1"/>
          <a:stretch/>
        </p:blipFill>
        <p:spPr>
          <a:xfrm>
            <a:off x="4572000" y="4572000"/>
            <a:ext cx="29782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E11-8534-4AAC-97BD-76E5C4A56D4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oosing the Allo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wners of the plants can agree in advance on a joint technique for choo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ing each server its conflict ut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ing a social welfare criter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servers’ ut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generalized Nash product of the servers’ utilities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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Us(x)-Us(conflict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6" name=""/>
          <p:cNvGraphicFramePr/>
          <p:nvPr/>
        </p:nvGraphicFramePr>
        <p:xfrm>
          <a:off x="7391520" y="3200400"/>
          <a:ext cx="1444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200400"/>
                    <a:ext cx="1444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8" name="MEETING" descr=""/>
          <p:cNvPicPr/>
          <p:nvPr/>
        </p:nvPicPr>
        <p:blipFill>
          <a:blip r:embed="rId3"/>
          <a:stretch/>
        </p:blipFill>
        <p:spPr>
          <a:xfrm>
            <a:off x="6781680" y="5334120"/>
            <a:ext cx="1905120" cy="12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DBA-230C-420F-95C3-F124FCBA149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tiations strategies for sequential respon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: there is a time period, T where negotiation cannot continue anymore. In T the conflict allocation is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equilibrium by backward ind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-1 if negotiations hasn’t ended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uggests the best agreement to itself which is better to all agents than the conflict solution (denoted by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ther agent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-2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ggests the best agreement to itself which is better to all agents than the conflict solution and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noted by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The other agent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nduction, at the first time period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thers ac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1" name="AMCONFUS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4476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6C0-341A-4E5C-AF31-0E52F631D84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Davi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David"/>
              </a:rPr>
              <a:t>Assumptions about the environ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Profit is a linear function of the number of items of each product produced by the pl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Pollution is a linear function of the number of items of each product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4" name="AUTOMATE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373392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ED3-7DA4-4339-8E3C-0A671CDDABC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918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echniques that were check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Sequential response</a:t>
            </a:r>
            <a:r>
              <a:rPr b="1" lang="en-US" sz="3200" spc="-1" strike="noStrike">
                <a:solidFill>
                  <a:srgbClr val="000000"/>
                </a:solidFill>
                <a:latin typeface="David"/>
                <a:ea typeface="David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David"/>
                <a:ea typeface="David"/>
              </a:rPr>
              <a:t> back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ultaneou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  response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David"/>
              </a:rPr>
              <a:t>Maximization of the 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 with guaranties of default profit (MaxSu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Miriam"/>
              </a:rPr>
              <a:t>Maximization of the sum and Nash Pro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with side payments (MaxSumN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Simple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- method for linear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David"/>
              </a:rPr>
              <a:t>Maximization of the Nash 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Praxi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Davi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- method for multi-variable nonlinear function minim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David"/>
                <a:ea typeface="David"/>
              </a:rPr>
              <a:t>Hill 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FCF-837A-44F0-8B80-F68D893B1C1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David"/>
              </a:rPr>
              <a:t>Simulation Parame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Number of plants is varied from 5 to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Number of pollution types is varied from 5 to 20. For each product pollution of some type is produced with probability 1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Each plant produces Max_prod different types of products. Max_prod is varied from 5 to 20.  Pollution and profit per item of product and pollution constraints are set random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Results: Average of  25 simulation ru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9903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ABF-9614-4BE2-B8A1-2E05D9671F7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lan of the cour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Encou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avi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Decision making in coopera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avid"/>
              </a:rPr>
              <a:t>Arg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1"/>
              </a:rPr>
              <a:t>www.cs.biu.ac.il/~</a:t>
            </a: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2"/>
              </a:rPr>
              <a:t>sa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c95"/>
                </a:solidFill>
                <a:uFillTx/>
                <a:latin typeface="Times New Roman"/>
                <a:ea typeface="David"/>
                <a:hlinkClick r:id="rId3"/>
              </a:rPr>
              <a:t>www.umiacs.umd.edu/users/sa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HNDSHAK3" descr=""/>
          <p:cNvPicPr/>
          <p:nvPr/>
        </p:nvPicPr>
        <p:blipFill>
          <a:blip r:embed="rId4"/>
          <a:stretch/>
        </p:blipFill>
        <p:spPr>
          <a:xfrm>
            <a:off x="5791320" y="2806560"/>
            <a:ext cx="1143000" cy="622440"/>
          </a:xfrm>
          <a:prstGeom prst="rect">
            <a:avLst/>
          </a:prstGeom>
          <a:ln w="0">
            <a:noFill/>
          </a:ln>
        </p:spPr>
      </p:pic>
      <p:pic>
        <p:nvPicPr>
          <p:cNvPr id="115" name="BIDDERS" descr=""/>
          <p:cNvPicPr/>
          <p:nvPr/>
        </p:nvPicPr>
        <p:blipFill>
          <a:blip r:embed="rId5"/>
          <a:stretch/>
        </p:blipFill>
        <p:spPr>
          <a:xfrm>
            <a:off x="5181480" y="37339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6A5-AE83-4591-8584-91601C7AEC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lants’ utility as the function of the number of pla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304920" y="2114640"/>
          <a:ext cx="8229600" cy="47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14640"/>
                    <a:ext cx="82296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853-26DA-44B4-9B2A-E54949A337F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lants’ utility as a function of the number of produc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4" name=""/>
          <p:cNvGraphicFramePr/>
          <p:nvPr/>
        </p:nvGraphicFramePr>
        <p:xfrm>
          <a:off x="304920" y="1716120"/>
          <a:ext cx="78483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612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819-F06B-4E15-B39B-5F1196BFF53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lants’ utility as the function of the number of pollutant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827" name=""/>
          <p:cNvGraphicFramePr/>
          <p:nvPr/>
        </p:nvGraphicFramePr>
        <p:xfrm>
          <a:off x="457200" y="2189160"/>
          <a:ext cx="8077320" cy="440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89160"/>
                    <a:ext cx="80773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52C-624F-4ADC-B828-34B7C03F2D5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on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Complete Informatio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Miriam"/>
              </a:rPr>
              <a:t>Simultaneous respon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If side payments are permitted the MaxSumNash method is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If side payments are not permitted either BackTracking or MaxSum should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Miriam"/>
              </a:rPr>
              <a:t>Sequential respons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BackTracking  should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Miriam"/>
              </a:rPr>
              <a:t>Techniqu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riam"/>
              </a:rPr>
              <a:t> game theory, heuristic search, optimiz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F4B-896B-4645-8B2F-6EACB7FE24B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utomated Negotiator for the Fishery Dispu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or: Penina Hoz-W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86AF-C56F-43E3-AC0F-8601810D846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3" name=""/>
          <p:cNvGraphicFramePr/>
          <p:nvPr/>
        </p:nvGraphicFramePr>
        <p:xfrm>
          <a:off x="239760" y="819000"/>
          <a:ext cx="8666280" cy="52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819000"/>
                    <a:ext cx="866628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176-8D87-4899-81A0-E6CA2873603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5" name=""/>
          <p:cNvGraphicFramePr/>
          <p:nvPr/>
        </p:nvGraphicFramePr>
        <p:xfrm>
          <a:off x="228600" y="1143000"/>
          <a:ext cx="868680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FB6-FB82-45DE-A79A-0B1319B5AE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7" name=""/>
          <p:cNvGraphicFramePr/>
          <p:nvPr/>
        </p:nvGraphicFramePr>
        <p:xfrm>
          <a:off x="372960" y="776160"/>
          <a:ext cx="8399520" cy="53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776160"/>
                    <a:ext cx="839952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B3E-F28B-4852-A6C1-8F35829924C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F98-402D-40C1-A4FF-426AFB19FDD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0" name=""/>
          <p:cNvGraphicFramePr/>
          <p:nvPr/>
        </p:nvGraphicFramePr>
        <p:xfrm>
          <a:off x="1330200" y="681120"/>
          <a:ext cx="648504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681120"/>
                    <a:ext cx="648504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59E-DC41-4E21-B28C-04C4FF63E26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tocols and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 need for f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tandards and protoco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for the interactions between the ag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the protocol, each agent (designer) should decide on his strate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02097_" descr=""/>
          <p:cNvPicPr/>
          <p:nvPr/>
        </p:nvPicPr>
        <p:blipFill>
          <a:blip r:embed="rId1"/>
          <a:stretch/>
        </p:blipFill>
        <p:spPr>
          <a:xfrm>
            <a:off x="6553080" y="533232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A91-006C-4FC8-B7DA-E0A6B421B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2" name=""/>
          <p:cNvGraphicFramePr/>
          <p:nvPr/>
        </p:nvGraphicFramePr>
        <p:xfrm>
          <a:off x="1306440" y="676440"/>
          <a:ext cx="6532560" cy="55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676440"/>
                    <a:ext cx="653256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80-9E19-4E78-8FE5-F361C0AB8A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4" name=""/>
          <p:cNvGraphicFramePr/>
          <p:nvPr/>
        </p:nvGraphicFramePr>
        <p:xfrm>
          <a:off x="1324080" y="676440"/>
          <a:ext cx="6497640" cy="55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676440"/>
                    <a:ext cx="649764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FA6-4EFC-4634-AF26-D15B243C8D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1333440" y="666720"/>
          <a:ext cx="647856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666720"/>
                    <a:ext cx="647856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CE0-BB40-4D41-8929-149D683C57A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8" name=""/>
          <p:cNvGraphicFramePr/>
          <p:nvPr/>
        </p:nvGraphicFramePr>
        <p:xfrm>
          <a:off x="1330200" y="671400"/>
          <a:ext cx="648504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671400"/>
                    <a:ext cx="648504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F05-7567-4DAF-A1C7-E01623D79EB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0" name=""/>
          <p:cNvGraphicFramePr/>
          <p:nvPr/>
        </p:nvGraphicFramePr>
        <p:xfrm>
          <a:off x="1747800" y="571680"/>
          <a:ext cx="56484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571680"/>
                    <a:ext cx="5648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093-8058-4110-9FD9-7467F3A82A0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tochastic Alternating offers Model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A party can offer two or more offers in a r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An agent cannot be certain that when time comes he will be the one to opt out fir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We assume that in each period there are equal chances for Thule and Ultima to make the next of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Neither of them knows who will actually be the one to offer. If both countries offer simultaneously, we assume that they are ordered rando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52A-AB10-4B16-8563-7FE977B80A4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quilibrium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90000"/>
              </a:lnSpc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riam"/>
              </a:rPr>
              <a:t>A backward induction is used to find a subgame-perfect equilibrium taking into consideration that in each period there is a probability for both players to make an offer or to op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buClr>
                <a:srgbClr val="ff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riam"/>
              </a:rPr>
              <a:t>The average expected value of opting out is used because towards the end both countries will want to opt out (as a result of fear from passing the deadline) and we cannot predict who will actually opt out first.</a:t>
            </a:r>
            <a:r>
              <a:rPr b="1" lang="en-US" sz="3200" spc="-1" strike="noStrike">
                <a:solidFill>
                  <a:srgbClr val="000000"/>
                </a:solidFill>
                <a:latin typeface="Miriam"/>
                <a:ea typeface="Miria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FCD-BB0F-4B27-A80E-AFEFC475E9F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380880" y="914400"/>
            <a:ext cx="82296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gent holds a Strategy array with the agreements he wants in each period. (there are periods with no agreeme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otiation in two path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Answer to incoming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Initiate a send of messages on an issue that was least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– After 3 messages involving military subject, the agent increases the risk of the op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t of d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gent receives a threat to use a military force, it sends a message of the type: “The following agreement:… is better than opting ou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466-EBD0-4F1E-9932-FFA1946FD85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Agent’s Strategies and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 holds a Strategy array with the subgame-perfect equilibrium agreements(there are periods with no agree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on in two path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incoming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essages on an issue that was least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– After 3 messages involving military subject, the agent increases his estimation of the opponent’s risk at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2F6-D475-4956-90D2-F652E11305F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Agent’s Strategies and Heuristics (Co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rt of dead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agent receives a threat to use a military force, it sends a message of the type: “The following agreement:… is better than opting ou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 if promised actions were taken, if not sends a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 opts out, in one of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he simulation entered the last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he agreements in the strategy array are not equal for both sides and a whole period passed with no messages ex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FF9-3330-4DB1-AD6B-549764C3179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oad Working Assum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7520" y="2060640"/>
            <a:ext cx="7762680" cy="4054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rs (from different companies, countries, etc.) come together to agree on protocol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how their automated agents will interact (in a given domai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various possibilities and their tradeoffs, and agree on protocols, and social laws to be implemented in their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936-C115-49BD-A01D-399F728F861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1" name=""/>
          <p:cNvGraphicFramePr/>
          <p:nvPr/>
        </p:nvGraphicFramePr>
        <p:xfrm>
          <a:off x="838080" y="685800"/>
          <a:ext cx="7010640" cy="54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010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BE5-42F6-4A80-9C40-87299C7FDF1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"/>
          <p:cNvGraphicFramePr/>
          <p:nvPr/>
        </p:nvGraphicFramePr>
        <p:xfrm>
          <a:off x="304920" y="228600"/>
          <a:ext cx="861048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F4F-86B0-4BC8-95B1-BC3DA51B961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 plays as Ultima better than a human p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 plays as Thule as human player d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agent plays one of the roles the SUM of the utilities is higher than when two people are play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067-E6FB-46EB-884F-678F38FD8F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Sharing Resources Through Negotiat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int resource: public communication  system; satelli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ts: self motiv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vironment: no central cont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98C0-63A8-47A7-AAC0-E09726B7CB8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gents must share a joint resource; the resource can only be used by one agent at a time. No central cont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agent (A) is using the resource, and the second (W) wants to use it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s negotiate to reach an agreement: a schedule that divides the usage of the resource; &lt;s,t&gt;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34B-1F78-40CB-A1C1-F080CE7F565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nvironment Description -co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inues to use the resource as the negotiation proceeds:  A gain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is not able to use the resource:  W lose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ng out causes damage to the resour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gents wait q time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tion: an agent can leave the nego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B63-3865-4319-8247-113348D218A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ying the strategic 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veloped a detailed utility function for the agents (U_A; U_W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 type of goal, dead-lines, costs of negotiation, gains from goal, et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factor in the negotiation: the best agreement for A, which is still better for W than Opting out (O_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1B1-16A3-46CA-8DA2-E2C8981F4FE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ect equilibrium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_n depends on the specific situation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roved lemmas which specify the value of O_n as a function of the  utility function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information: Negotiation ends at most after one step with an agreement, or 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ategies are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F0C-E6D0-4A64-A2E4-AD5B0205DAD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s Using MINU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378080" y="2368440"/>
            <a:ext cx="7226280" cy="387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660680" y="2441520"/>
            <a:ext cx="178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733400" y="2825640"/>
            <a:ext cx="2832120" cy="15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543640" y="2806560"/>
            <a:ext cx="2781360" cy="15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749920" y="2346480"/>
            <a:ext cx="17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810440" y="2871720"/>
            <a:ext cx="213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ing on goal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964880" y="3094200"/>
            <a:ext cx="48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##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614920" y="2857680"/>
            <a:ext cx="27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 request &lt;5,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754280" y="3314880"/>
            <a:ext cx="299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request &lt;5,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391000" y="5829480"/>
            <a:ext cx="3213360" cy="419040"/>
            <a:chOff x="5391000" y="5829480"/>
            <a:chExt cx="3213360" cy="419040"/>
          </a:xfrm>
        </p:grpSpPr>
        <p:sp>
          <p:nvSpPr>
            <p:cNvPr id="1890" name=""/>
            <p:cNvSpPr/>
            <p:nvPr/>
          </p:nvSpPr>
          <p:spPr>
            <a:xfrm>
              <a:off x="5391000" y="5835600"/>
              <a:ext cx="32133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15780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35520" y="5934240"/>
              <a:ext cx="0" cy="209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75200" y="5934240"/>
              <a:ext cx="0" cy="209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78672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8836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50320" y="58294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294600" y="5934240"/>
              <a:ext cx="214200" cy="210960"/>
            </a:xfrm>
            <a:custGeom>
              <a:avLst/>
              <a:gdLst/>
              <a:ahLst/>
              <a:rect l="l" t="t" r="r" b="b"/>
              <a:pathLst>
                <a:path w="135" h="133">
                  <a:moveTo>
                    <a:pt x="134" y="0"/>
                  </a:moveTo>
                  <a:lnTo>
                    <a:pt x="0" y="66"/>
                  </a:lnTo>
                  <a:lnTo>
                    <a:pt x="134" y="132"/>
                  </a:lnTo>
                  <a:lnTo>
                    <a:pt x="1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58000" y="5934240"/>
              <a:ext cx="281160" cy="210960"/>
            </a:xfrm>
            <a:custGeom>
              <a:avLst/>
              <a:gdLst/>
              <a:ahLst/>
              <a:rect l="l" t="t" r="r" b="b"/>
              <a:pathLst>
                <a:path w="177" h="133">
                  <a:moveTo>
                    <a:pt x="0" y="0"/>
                  </a:moveTo>
                  <a:lnTo>
                    <a:pt x="0" y="132"/>
                  </a:lnTo>
                  <a:lnTo>
                    <a:pt x="176" y="5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137360" y="5934240"/>
              <a:ext cx="282600" cy="210960"/>
            </a:xfrm>
            <a:custGeom>
              <a:avLst/>
              <a:gdLst/>
              <a:ahLst/>
              <a:rect l="l" t="t" r="r" b="b"/>
              <a:pathLst>
                <a:path w="178" h="133">
                  <a:moveTo>
                    <a:pt x="0" y="0"/>
                  </a:moveTo>
                  <a:lnTo>
                    <a:pt x="0" y="132"/>
                  </a:lnTo>
                  <a:lnTo>
                    <a:pt x="177" y="5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637400" y="5992920"/>
              <a:ext cx="193680" cy="1443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96120" y="5940360"/>
              <a:ext cx="268560" cy="196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1758960" y="4807080"/>
            <a:ext cx="2654280" cy="12826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811880" y="44798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735560" y="4929120"/>
            <a:ext cx="126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1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2 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u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D81-BBEC-4F4D-868F-E80A0380FBC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riments Resul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2360520" y="1344600"/>
          <a:ext cx="388296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344600"/>
                    <a:ext cx="388296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8" name=""/>
          <p:cNvSpPr/>
          <p:nvPr/>
        </p:nvSpPr>
        <p:spPr>
          <a:xfrm>
            <a:off x="2038320" y="5035680"/>
            <a:ext cx="56768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479840" y="4994280"/>
            <a:ext cx="92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486840" y="49942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243160" y="4994280"/>
            <a:ext cx="100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038680" y="5337000"/>
            <a:ext cx="170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ty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06200" y="541332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435000" y="541332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040480" y="5718240"/>
            <a:ext cx="202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708080" y="571824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613200" y="5718240"/>
            <a:ext cx="5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115720" y="60991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./A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30240" y="6080040"/>
            <a:ext cx="71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6511680" y="6156360"/>
            <a:ext cx="71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114800" y="50292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715000" y="50292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057400" y="5334120"/>
            <a:ext cx="56386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B72-4F3A-4650-B7CA-1676FDEF368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Gateway Customer</dc:creator>
  <dc:description/>
  <dc:language>en-US</dc:language>
  <cp:lastModifiedBy>אוניברסיטא בר-אילן</cp:lastModifiedBy>
  <cp:lastPrinted>1999-06-08T05:07:43Z</cp:lastPrinted>
  <dcterms:modified xsi:type="dcterms:W3CDTF">2001-07-10T16:36:54Z</dcterms:modified>
  <cp:revision>147</cp:revision>
  <dc:subject/>
  <dc:title>Strategic Negotiation and Cooperation Among Autonomous Agents</dc:title>
</cp:coreProperties>
</file>